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6A8-1F39-434E-9A19-6263000D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E12-0D1A-427E-8ADA-B8FC56FF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8E1-BD0F-4EA3-A4E2-F0AF14AD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E0D2-25F4-436A-A1D6-58254A4B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B52B-AB54-4F86-AAF1-329124BC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F48B-E54D-45CF-B7B6-2F10AA11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8466-C988-4BB1-8F82-F4B8CA65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45BB-BE38-4B70-A8C7-C625B342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9BB8-E128-40A9-9F31-C824693A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4D26-BF4A-4727-A2CC-96771C1C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D425-0ACB-4BBC-8CC9-2EF6518E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2B37-96BA-4844-8961-0753050C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C72C-CE51-4BEC-8153-9BD52D26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4BC8-6081-46BD-B9FF-346CF391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E29D-E9C4-4449-B4B4-ADF8F501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9453-307E-4FD7-A5C3-4749BE6C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3318-9A31-4FB7-BE68-17D86507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A5B-DE03-4F40-9BC5-54863F8C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673-6D92-4F73-884C-73BD62F4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1216-A50C-423F-A212-0394301B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D81-B067-4E92-A499-68DE62A1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63E-3F93-44E5-BFED-E41AD37F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BCC-9DED-4069-98CF-256E69E3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366-87B5-4EDB-8D53-1202C781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8FD4-3FC1-445D-8969-BF5BAF4927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E3A9-4D86-4822-B986-49FEC372D1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вещественн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в форме с плавающей точкой занимает в памяти компьютера 4 байта (число обычной точности) или 8 байт (число двойной точ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рассмотрели пример представления числа 25,324 обычной то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234000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получить внутреннее представление отрицательного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25,324, достаточно в полученном выше коде заменить в разряде знака числа 0 на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250920" y="4437000"/>
            <a:ext cx="8893080" cy="503280"/>
            <a:chOff x="250920" y="4437000"/>
            <a:chExt cx="8893080" cy="503280"/>
          </a:xfrm>
        </p:grpSpPr>
        <p:grpSp>
          <p:nvGrpSpPr>
            <p:cNvPr id="283" name="Group 5"/>
            <p:cNvGrpSpPr/>
            <p:nvPr/>
          </p:nvGrpSpPr>
          <p:grpSpPr>
            <a:xfrm>
              <a:off x="250920" y="4437000"/>
              <a:ext cx="4464000" cy="503280"/>
              <a:chOff x="250920" y="4437000"/>
              <a:chExt cx="4464000" cy="503280"/>
            </a:xfrm>
          </p:grpSpPr>
          <p:sp>
            <p:nvSpPr>
              <p:cNvPr id="284" name="Rectangle 6"/>
              <p:cNvSpPr/>
              <p:nvPr/>
            </p:nvSpPr>
            <p:spPr>
              <a:xfrm>
                <a:off x="250920" y="443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7"/>
              <p:cNvSpPr/>
              <p:nvPr/>
            </p:nvSpPr>
            <p:spPr>
              <a:xfrm>
                <a:off x="52956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8"/>
              <p:cNvSpPr/>
              <p:nvPr/>
            </p:nvSpPr>
            <p:spPr>
              <a:xfrm>
                <a:off x="808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"/>
              <p:cNvSpPr/>
              <p:nvPr/>
            </p:nvSpPr>
            <p:spPr>
              <a:xfrm>
                <a:off x="108720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0"/>
              <p:cNvSpPr/>
              <p:nvPr/>
            </p:nvSpPr>
            <p:spPr>
              <a:xfrm>
                <a:off x="1366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1"/>
              <p:cNvSpPr/>
              <p:nvPr/>
            </p:nvSpPr>
            <p:spPr>
              <a:xfrm>
                <a:off x="192492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2"/>
              <p:cNvSpPr/>
              <p:nvPr/>
            </p:nvSpPr>
            <p:spPr>
              <a:xfrm>
                <a:off x="1645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3"/>
              <p:cNvSpPr/>
              <p:nvPr/>
            </p:nvSpPr>
            <p:spPr>
              <a:xfrm>
                <a:off x="2203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4"/>
              <p:cNvSpPr/>
              <p:nvPr/>
            </p:nvSpPr>
            <p:spPr>
              <a:xfrm>
                <a:off x="2482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5"/>
              <p:cNvSpPr/>
              <p:nvPr/>
            </p:nvSpPr>
            <p:spPr>
              <a:xfrm>
                <a:off x="27615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6"/>
              <p:cNvSpPr/>
              <p:nvPr/>
            </p:nvSpPr>
            <p:spPr>
              <a:xfrm>
                <a:off x="30402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7"/>
              <p:cNvSpPr/>
              <p:nvPr/>
            </p:nvSpPr>
            <p:spPr>
              <a:xfrm>
                <a:off x="3320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8"/>
              <p:cNvSpPr/>
              <p:nvPr/>
            </p:nvSpPr>
            <p:spPr>
              <a:xfrm>
                <a:off x="3599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9"/>
              <p:cNvSpPr/>
              <p:nvPr/>
            </p:nvSpPr>
            <p:spPr>
              <a:xfrm>
                <a:off x="3877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20"/>
              <p:cNvSpPr/>
              <p:nvPr/>
            </p:nvSpPr>
            <p:spPr>
              <a:xfrm>
                <a:off x="4156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4435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22"/>
            <p:cNvGrpSpPr/>
            <p:nvPr/>
          </p:nvGrpSpPr>
          <p:grpSpPr>
            <a:xfrm>
              <a:off x="4680000" y="4437000"/>
              <a:ext cx="4464000" cy="503280"/>
              <a:chOff x="4680000" y="4437000"/>
              <a:chExt cx="4464000" cy="503280"/>
            </a:xfrm>
          </p:grpSpPr>
          <p:sp>
            <p:nvSpPr>
              <p:cNvPr id="301" name="Rectangle 23"/>
              <p:cNvSpPr/>
              <p:nvPr/>
            </p:nvSpPr>
            <p:spPr>
              <a:xfrm>
                <a:off x="4680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24"/>
              <p:cNvSpPr/>
              <p:nvPr/>
            </p:nvSpPr>
            <p:spPr>
              <a:xfrm>
                <a:off x="4958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25"/>
              <p:cNvSpPr/>
              <p:nvPr/>
            </p:nvSpPr>
            <p:spPr>
              <a:xfrm>
                <a:off x="5237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26"/>
              <p:cNvSpPr/>
              <p:nvPr/>
            </p:nvSpPr>
            <p:spPr>
              <a:xfrm>
                <a:off x="5516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27"/>
              <p:cNvSpPr/>
              <p:nvPr/>
            </p:nvSpPr>
            <p:spPr>
              <a:xfrm>
                <a:off x="5795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28"/>
              <p:cNvSpPr/>
              <p:nvPr/>
            </p:nvSpPr>
            <p:spPr>
              <a:xfrm>
                <a:off x="6354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29"/>
              <p:cNvSpPr/>
              <p:nvPr/>
            </p:nvSpPr>
            <p:spPr>
              <a:xfrm>
                <a:off x="607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30"/>
              <p:cNvSpPr/>
              <p:nvPr/>
            </p:nvSpPr>
            <p:spPr>
              <a:xfrm>
                <a:off x="6633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31"/>
              <p:cNvSpPr/>
              <p:nvPr/>
            </p:nvSpPr>
            <p:spPr>
              <a:xfrm>
                <a:off x="6912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32"/>
              <p:cNvSpPr/>
              <p:nvPr/>
            </p:nvSpPr>
            <p:spPr>
              <a:xfrm>
                <a:off x="7190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33"/>
              <p:cNvSpPr/>
              <p:nvPr/>
            </p:nvSpPr>
            <p:spPr>
              <a:xfrm>
                <a:off x="7469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34"/>
              <p:cNvSpPr/>
              <p:nvPr/>
            </p:nvSpPr>
            <p:spPr>
              <a:xfrm>
                <a:off x="774936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35"/>
              <p:cNvSpPr/>
              <p:nvPr/>
            </p:nvSpPr>
            <p:spPr>
              <a:xfrm>
                <a:off x="80283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36"/>
              <p:cNvSpPr/>
              <p:nvPr/>
            </p:nvSpPr>
            <p:spPr>
              <a:xfrm>
                <a:off x="8307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37"/>
              <p:cNvSpPr/>
              <p:nvPr/>
            </p:nvSpPr>
            <p:spPr>
              <a:xfrm>
                <a:off x="8586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38"/>
              <p:cNvSpPr/>
              <p:nvPr/>
            </p:nvSpPr>
            <p:spPr>
              <a:xfrm>
                <a:off x="886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ьте двоичное число 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четырёхбайтовом формате. Представьте число сначала в форме с плавающей запя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0,1001*2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тисса   -0,1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ок   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ный порядок 11+100 0000=1000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250920" y="4365720"/>
            <a:ext cx="8893080" cy="503280"/>
            <a:chOff x="250920" y="4365720"/>
            <a:chExt cx="8893080" cy="503280"/>
          </a:xfrm>
        </p:grpSpPr>
        <p:grpSp>
          <p:nvGrpSpPr>
            <p:cNvPr id="322" name="Group 5"/>
            <p:cNvGrpSpPr/>
            <p:nvPr/>
          </p:nvGrpSpPr>
          <p:grpSpPr>
            <a:xfrm>
              <a:off x="250920" y="4365720"/>
              <a:ext cx="4464000" cy="503280"/>
              <a:chOff x="250920" y="4365720"/>
              <a:chExt cx="4464000" cy="503280"/>
            </a:xfrm>
          </p:grpSpPr>
          <p:sp>
            <p:nvSpPr>
              <p:cNvPr id="323" name="Rectangle 6"/>
              <p:cNvSpPr/>
              <p:nvPr/>
            </p:nvSpPr>
            <p:spPr>
              <a:xfrm>
                <a:off x="250920" y="4365720"/>
                <a:ext cx="278640" cy="50328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52956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808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108720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0"/>
              <p:cNvSpPr/>
              <p:nvPr/>
            </p:nvSpPr>
            <p:spPr>
              <a:xfrm>
                <a:off x="1366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192492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1645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3"/>
              <p:cNvSpPr/>
              <p:nvPr/>
            </p:nvSpPr>
            <p:spPr>
              <a:xfrm>
                <a:off x="2203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4"/>
              <p:cNvSpPr/>
              <p:nvPr/>
            </p:nvSpPr>
            <p:spPr>
              <a:xfrm>
                <a:off x="2482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27615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16"/>
              <p:cNvSpPr/>
              <p:nvPr/>
            </p:nvSpPr>
            <p:spPr>
              <a:xfrm>
                <a:off x="30402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17"/>
              <p:cNvSpPr/>
              <p:nvPr/>
            </p:nvSpPr>
            <p:spPr>
              <a:xfrm>
                <a:off x="3320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3599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19"/>
              <p:cNvSpPr/>
              <p:nvPr/>
            </p:nvSpPr>
            <p:spPr>
              <a:xfrm>
                <a:off x="3877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20"/>
              <p:cNvSpPr/>
              <p:nvPr/>
            </p:nvSpPr>
            <p:spPr>
              <a:xfrm>
                <a:off x="4156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4435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4680000" y="4365720"/>
              <a:ext cx="4464000" cy="503280"/>
              <a:chOff x="4680000" y="4365720"/>
              <a:chExt cx="4464000" cy="50328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4680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4958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25"/>
              <p:cNvSpPr/>
              <p:nvPr/>
            </p:nvSpPr>
            <p:spPr>
              <a:xfrm>
                <a:off x="5237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26"/>
              <p:cNvSpPr/>
              <p:nvPr/>
            </p:nvSpPr>
            <p:spPr>
              <a:xfrm>
                <a:off x="5516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5795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28"/>
              <p:cNvSpPr/>
              <p:nvPr/>
            </p:nvSpPr>
            <p:spPr>
              <a:xfrm>
                <a:off x="6354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29"/>
              <p:cNvSpPr/>
              <p:nvPr/>
            </p:nvSpPr>
            <p:spPr>
              <a:xfrm>
                <a:off x="607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6633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912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32"/>
              <p:cNvSpPr/>
              <p:nvPr/>
            </p:nvSpPr>
            <p:spPr>
              <a:xfrm>
                <a:off x="7190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7469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34"/>
              <p:cNvSpPr/>
              <p:nvPr/>
            </p:nvSpPr>
            <p:spPr>
              <a:xfrm>
                <a:off x="774936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35"/>
              <p:cNvSpPr/>
              <p:nvPr/>
            </p:nvSpPr>
            <p:spPr>
              <a:xfrm>
                <a:off x="80283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8307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37"/>
              <p:cNvSpPr/>
              <p:nvPr/>
            </p:nvSpPr>
            <p:spPr>
              <a:xfrm>
                <a:off x="8586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38"/>
              <p:cNvSpPr/>
              <p:nvPr/>
            </p:nvSpPr>
            <p:spPr>
              <a:xfrm>
                <a:off x="886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ставления вещественных чисел (конечных и бесконечных десятичных дробей) используют формат с плавающей точкой (запято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74560" y="234936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с плавающей точкой использует представление вещественного числа R в виде произведения мантиссы m на основание системы счисления р в некоторой целой степени n, которую называют порядк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 = m * р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мантис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оряд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снование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число 25,324 можно записать в таком виде: 0.25324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m=0.25324 — мантис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=2 — порядок. Порядок указывает, на какое количество позиций и в каком направлении должна «переплыть», т.е. сместиться десятичная точка в мантиссе. Отсюда название «плавающая точ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 справедливы и следующие равен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,324 = 2,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0,002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2532,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ается, что представление числа в форме с плавающей точкой неоднозначн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не было неоднозначности, в ЭВ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пользуют нормализованное представление числа в форме с плавающей точкой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нтисса в нормализованном представлении должна удовлетворять услов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m &lt; 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аче говоря, мантисса меньше единицы и первая значащая цифра — не ноль. Значит для рассмотренного числа нормализованным представлением будет:  25,324=0.25324 *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 памяти компьютера вещественное число представляется в форме с плавающей точкой в двоичной системе счисления (р=2) и занимает ячейку размером 4 байта. В ячейке должна содержаться следующая информация о числе: знак числа, порядок и значащие цифры мантиссы. Вот как эта информация располагается в ячей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619280" y="3357720"/>
          <a:ext cx="5545080" cy="718920"/>
        </p:xfrm>
        <a:graphic>
          <a:graphicData uri="http://schemas.openxmlformats.org/drawingml/2006/table">
            <a:tbl>
              <a:tblPr/>
              <a:tblGrid>
                <a:gridCol w="2200320"/>
                <a:gridCol w="1285920"/>
                <a:gridCol w="1092240"/>
                <a:gridCol w="96660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±машинный порядо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     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 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Н Т И 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С А    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1"/>
          <p:cNvSpPr/>
          <p:nvPr/>
        </p:nvSpPr>
        <p:spPr>
          <a:xfrm>
            <a:off x="1908000" y="4149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й байт                    2-й байт     3-й байт   4-й бай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826920" y="486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таршем бите 1-го байта хранится знак числа. В этом разряде 0 обозначает плюс, 1 — минус. Оставшиеся 7 бит первого байта содержат машинный порядок. В следующих трех байтах хранятся значащие цифры мантис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машинный поряд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ми двоичных разрядах помещаются двоичные числа в диапазоне от 0000000 до 1111111. В десятичной системе это соответствует диапазону от 0 до 127. Всего 128 значений. Знак порядка в ячейке не хранится. Но порядок, очевидно, может быть как положительным так и отрицательным. Разумно эти 128 значений разделить поровну между положительными и отрицательными значениями порядка. В таком случае между машинным порядком и истинным (назовем его математическим) устанавливается следующее соответств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9640" y="4365720"/>
          <a:ext cx="8137800" cy="1158840"/>
        </p:xfrm>
        <a:graphic>
          <a:graphicData uri="http://schemas.openxmlformats.org/drawingml/2006/table">
            <a:tbl>
              <a:tblPr/>
              <a:tblGrid>
                <a:gridCol w="2194200"/>
                <a:gridCol w="554040"/>
                <a:gridCol w="555480"/>
                <a:gridCol w="554040"/>
                <a:gridCol w="557280"/>
                <a:gridCol w="439560"/>
                <a:gridCol w="478080"/>
                <a:gridCol w="475920"/>
                <a:gridCol w="506520"/>
                <a:gridCol w="649440"/>
                <a:gridCol w="584280"/>
                <a:gridCol w="5889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шинны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тематически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55"/>
          <p:cNvSpPr/>
          <p:nvPr/>
        </p:nvSpPr>
        <p:spPr>
          <a:xfrm>
            <a:off x="684360" y="566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обозначить машинный порядок Мр, а математический — р, то связь между ними выразится такой формуло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р = р + 6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ак, машинный порядок смещён относительно математического на 64 единицы и имеет только положительные значения. При выполнении вычислений с плавающей точкой процессор это смещение учит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воичной системе счисления смещ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р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р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00 000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перь мы можем записать внутреннее представление числа 25,324 в форме с плавающей точ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Переведем его в двоичную систему счисления с 24 значащими цифр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5,32410= 11001,0101001011110001101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Запишем в форме нормализованного двоичного числа с плавающей точко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,110010101001011110001101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11280" y="3500280"/>
            <a:ext cx="777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мантисса, основание системы счисления (2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и порядок (5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записаны в двоичной систе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407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ычислим машинный поряд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р2 = 101 + 100 0000 = 100 01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79280" y="5589720"/>
            <a:ext cx="86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24000" y="4941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Запишем представление числа в ячейке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50920" y="5877000"/>
            <a:ext cx="8893080" cy="503280"/>
            <a:chOff x="250920" y="5877000"/>
            <a:chExt cx="8893080" cy="503280"/>
          </a:xfrm>
        </p:grpSpPr>
        <p:grpSp>
          <p:nvGrpSpPr>
            <p:cNvPr id="235" name="Group 10"/>
            <p:cNvGrpSpPr/>
            <p:nvPr/>
          </p:nvGrpSpPr>
          <p:grpSpPr>
            <a:xfrm>
              <a:off x="250920" y="5877000"/>
              <a:ext cx="4464000" cy="503280"/>
              <a:chOff x="250920" y="5877000"/>
              <a:chExt cx="4464000" cy="503280"/>
            </a:xfrm>
          </p:grpSpPr>
          <p:sp>
            <p:nvSpPr>
              <p:cNvPr id="236" name="Rectangle 11"/>
              <p:cNvSpPr/>
              <p:nvPr/>
            </p:nvSpPr>
            <p:spPr>
              <a:xfrm>
                <a:off x="250920" y="587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52956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808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8720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1366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192492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1645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18"/>
              <p:cNvSpPr/>
              <p:nvPr/>
            </p:nvSpPr>
            <p:spPr>
              <a:xfrm>
                <a:off x="2203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19"/>
              <p:cNvSpPr/>
              <p:nvPr/>
            </p:nvSpPr>
            <p:spPr>
              <a:xfrm>
                <a:off x="2482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20"/>
              <p:cNvSpPr/>
              <p:nvPr/>
            </p:nvSpPr>
            <p:spPr>
              <a:xfrm>
                <a:off x="27615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21"/>
              <p:cNvSpPr/>
              <p:nvPr/>
            </p:nvSpPr>
            <p:spPr>
              <a:xfrm>
                <a:off x="30402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22"/>
              <p:cNvSpPr/>
              <p:nvPr/>
            </p:nvSpPr>
            <p:spPr>
              <a:xfrm>
                <a:off x="3320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23"/>
              <p:cNvSpPr/>
              <p:nvPr/>
            </p:nvSpPr>
            <p:spPr>
              <a:xfrm>
                <a:off x="3599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>
                <a:off x="3877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>
                <a:off x="4156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4435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7"/>
            <p:cNvGrpSpPr/>
            <p:nvPr/>
          </p:nvGrpSpPr>
          <p:grpSpPr>
            <a:xfrm>
              <a:off x="4680000" y="5877000"/>
              <a:ext cx="4464000" cy="503280"/>
              <a:chOff x="4680000" y="5877000"/>
              <a:chExt cx="4464000" cy="503280"/>
            </a:xfrm>
          </p:grpSpPr>
          <p:sp>
            <p:nvSpPr>
              <p:cNvPr id="253" name="Rectangle 28"/>
              <p:cNvSpPr/>
              <p:nvPr/>
            </p:nvSpPr>
            <p:spPr>
              <a:xfrm>
                <a:off x="4680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29"/>
              <p:cNvSpPr/>
              <p:nvPr/>
            </p:nvSpPr>
            <p:spPr>
              <a:xfrm>
                <a:off x="4958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30"/>
              <p:cNvSpPr/>
              <p:nvPr/>
            </p:nvSpPr>
            <p:spPr>
              <a:xfrm>
                <a:off x="5237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31"/>
              <p:cNvSpPr/>
              <p:nvPr/>
            </p:nvSpPr>
            <p:spPr>
              <a:xfrm>
                <a:off x="5516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5795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33"/>
              <p:cNvSpPr/>
              <p:nvPr/>
            </p:nvSpPr>
            <p:spPr>
              <a:xfrm>
                <a:off x="6354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34"/>
              <p:cNvSpPr/>
              <p:nvPr/>
            </p:nvSpPr>
            <p:spPr>
              <a:xfrm>
                <a:off x="607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35"/>
              <p:cNvSpPr/>
              <p:nvPr/>
            </p:nvSpPr>
            <p:spPr>
              <a:xfrm>
                <a:off x="6633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36"/>
              <p:cNvSpPr/>
              <p:nvPr/>
            </p:nvSpPr>
            <p:spPr>
              <a:xfrm>
                <a:off x="6912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7190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7469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774936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80283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307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8586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43"/>
              <p:cNvSpPr/>
              <p:nvPr/>
            </p:nvSpPr>
            <p:spPr>
              <a:xfrm>
                <a:off x="886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 Box 44"/>
          <p:cNvSpPr/>
          <p:nvPr/>
        </p:nvSpPr>
        <p:spPr>
          <a:xfrm>
            <a:off x="179280" y="649116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395280" y="6453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6"/>
          <p:cNvSpPr/>
          <p:nvPr/>
        </p:nvSpPr>
        <p:spPr>
          <a:xfrm>
            <a:off x="97164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7"/>
          <p:cNvSpPr/>
          <p:nvPr/>
        </p:nvSpPr>
        <p:spPr>
          <a:xfrm>
            <a:off x="5219640" y="530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8"/>
          <p:cNvSpPr/>
          <p:nvPr/>
        </p:nvSpPr>
        <p:spPr>
          <a:xfrm rot="5400000">
            <a:off x="1404000" y="479664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49"/>
          <p:cNvSpPr/>
          <p:nvPr/>
        </p:nvSpPr>
        <p:spPr>
          <a:xfrm rot="5400000">
            <a:off x="5705640" y="2439000"/>
            <a:ext cx="216000" cy="665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73520 h 6659640"/>
              <a:gd name="textAreaBottom" fmla="*/ 6486120 h 665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179280" y="551664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8675640" y="551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49:40Z</dcterms:created>
  <dc:creator>Customer</dc:creator>
  <dc:description/>
  <dc:language>en-US</dc:language>
  <cp:lastModifiedBy>Алла</cp:lastModifiedBy>
  <dcterms:modified xsi:type="dcterms:W3CDTF">2012-01-04T06:48:38Z</dcterms:modified>
  <cp:revision>9</cp:revision>
  <dc:subject/>
  <dc:title>Кодирование вещественных чисел.</dc:title>
</cp:coreProperties>
</file>