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EF9-8101-43DE-86CA-5B7060E6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76C-600B-479E-8C72-3D354C4D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48D-AD9B-4126-B020-CE249C10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50A-1CC8-455C-AE23-D3EBFA6F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50C4-12F1-4DF2-9F97-9D90AE94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6AD5-D0AF-497D-A921-1D39EDC9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5F82-1B47-4E10-B3D0-E16DE4DF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BB69-0E47-49F3-AD66-87A371A2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7013-50B3-4D4A-9EB8-165AB6A6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E8A6-15D0-4F92-BDE0-E1E66304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68DD-6672-4980-B3AB-F3390DD8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078-1F60-4F5E-A631-D04023F0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20E9-42DC-4A49-96AD-5A96DC5A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6623-B135-4F22-B84E-FB43A69D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2B7B-B7FC-43A6-9078-88CF066D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3EF0-5834-4D69-BC36-6EB7E760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A32A-1967-41C7-8659-0B6D87CD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BB9-A5C6-4FA3-B21F-6A765434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F0B-3810-45E9-9B56-691DB3C6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C0CD-E8D6-437E-B138-EA3C95DD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EFD-14CC-4DA1-808A-D795BA62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6218-D566-4697-B965-A599D225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9B8-7850-46BF-B198-B424A7C2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E26-3FD9-477B-A2DC-FC24A8FC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F2FA-861B-4096-8F8A-316473A5CA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FF81-E915-404A-B248-6847F667D6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вещественн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в форме с плавающей точкой занимает в памяти компьютера 4 байта (число обычной точности) или 8 байт (число двойной точ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рассмотрели пример представления числа 25,324 обычной то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2340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получить внутреннее представление отрицательного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5,324, достаточно в полученном выше коде заменить в разряде знака числа 0 на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250920" y="4437000"/>
            <a:ext cx="8893080" cy="503280"/>
            <a:chOff x="250920" y="4437000"/>
            <a:chExt cx="8893080" cy="503280"/>
          </a:xfrm>
        </p:grpSpPr>
        <p:grpSp>
          <p:nvGrpSpPr>
            <p:cNvPr id="283" name="Group 5"/>
            <p:cNvGrpSpPr/>
            <p:nvPr/>
          </p:nvGrpSpPr>
          <p:grpSpPr>
            <a:xfrm>
              <a:off x="250920" y="4437000"/>
              <a:ext cx="4464000" cy="503280"/>
              <a:chOff x="250920" y="4437000"/>
              <a:chExt cx="4464000" cy="503280"/>
            </a:xfrm>
          </p:grpSpPr>
          <p:sp>
            <p:nvSpPr>
              <p:cNvPr id="284" name="Rectangle 6"/>
              <p:cNvSpPr/>
              <p:nvPr/>
            </p:nvSpPr>
            <p:spPr>
              <a:xfrm>
                <a:off x="250920" y="443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7"/>
              <p:cNvSpPr/>
              <p:nvPr/>
            </p:nvSpPr>
            <p:spPr>
              <a:xfrm>
                <a:off x="52956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8"/>
              <p:cNvSpPr/>
              <p:nvPr/>
            </p:nvSpPr>
            <p:spPr>
              <a:xfrm>
                <a:off x="808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"/>
              <p:cNvSpPr/>
              <p:nvPr/>
            </p:nvSpPr>
            <p:spPr>
              <a:xfrm>
                <a:off x="108720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0"/>
              <p:cNvSpPr/>
              <p:nvPr/>
            </p:nvSpPr>
            <p:spPr>
              <a:xfrm>
                <a:off x="1366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1"/>
              <p:cNvSpPr/>
              <p:nvPr/>
            </p:nvSpPr>
            <p:spPr>
              <a:xfrm>
                <a:off x="192492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2"/>
              <p:cNvSpPr/>
              <p:nvPr/>
            </p:nvSpPr>
            <p:spPr>
              <a:xfrm>
                <a:off x="1645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3"/>
              <p:cNvSpPr/>
              <p:nvPr/>
            </p:nvSpPr>
            <p:spPr>
              <a:xfrm>
                <a:off x="2203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4"/>
              <p:cNvSpPr/>
              <p:nvPr/>
            </p:nvSpPr>
            <p:spPr>
              <a:xfrm>
                <a:off x="2482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5"/>
              <p:cNvSpPr/>
              <p:nvPr/>
            </p:nvSpPr>
            <p:spPr>
              <a:xfrm>
                <a:off x="27615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"/>
              <p:cNvSpPr/>
              <p:nvPr/>
            </p:nvSpPr>
            <p:spPr>
              <a:xfrm>
                <a:off x="30402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7"/>
              <p:cNvSpPr/>
              <p:nvPr/>
            </p:nvSpPr>
            <p:spPr>
              <a:xfrm>
                <a:off x="3320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8"/>
              <p:cNvSpPr/>
              <p:nvPr/>
            </p:nvSpPr>
            <p:spPr>
              <a:xfrm>
                <a:off x="3599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9"/>
              <p:cNvSpPr/>
              <p:nvPr/>
            </p:nvSpPr>
            <p:spPr>
              <a:xfrm>
                <a:off x="3877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0"/>
              <p:cNvSpPr/>
              <p:nvPr/>
            </p:nvSpPr>
            <p:spPr>
              <a:xfrm>
                <a:off x="4156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4435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2"/>
            <p:cNvGrpSpPr/>
            <p:nvPr/>
          </p:nvGrpSpPr>
          <p:grpSpPr>
            <a:xfrm>
              <a:off x="4680000" y="4437000"/>
              <a:ext cx="4464000" cy="503280"/>
              <a:chOff x="4680000" y="4437000"/>
              <a:chExt cx="4464000" cy="503280"/>
            </a:xfrm>
          </p:grpSpPr>
          <p:sp>
            <p:nvSpPr>
              <p:cNvPr id="301" name="Rectangle 23"/>
              <p:cNvSpPr/>
              <p:nvPr/>
            </p:nvSpPr>
            <p:spPr>
              <a:xfrm>
                <a:off x="4680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24"/>
              <p:cNvSpPr/>
              <p:nvPr/>
            </p:nvSpPr>
            <p:spPr>
              <a:xfrm>
                <a:off x="4958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25"/>
              <p:cNvSpPr/>
              <p:nvPr/>
            </p:nvSpPr>
            <p:spPr>
              <a:xfrm>
                <a:off x="5237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26"/>
              <p:cNvSpPr/>
              <p:nvPr/>
            </p:nvSpPr>
            <p:spPr>
              <a:xfrm>
                <a:off x="5516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27"/>
              <p:cNvSpPr/>
              <p:nvPr/>
            </p:nvSpPr>
            <p:spPr>
              <a:xfrm>
                <a:off x="5795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28"/>
              <p:cNvSpPr/>
              <p:nvPr/>
            </p:nvSpPr>
            <p:spPr>
              <a:xfrm>
                <a:off x="6354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29"/>
              <p:cNvSpPr/>
              <p:nvPr/>
            </p:nvSpPr>
            <p:spPr>
              <a:xfrm>
                <a:off x="607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0"/>
              <p:cNvSpPr/>
              <p:nvPr/>
            </p:nvSpPr>
            <p:spPr>
              <a:xfrm>
                <a:off x="6633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1"/>
              <p:cNvSpPr/>
              <p:nvPr/>
            </p:nvSpPr>
            <p:spPr>
              <a:xfrm>
                <a:off x="6912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32"/>
              <p:cNvSpPr/>
              <p:nvPr/>
            </p:nvSpPr>
            <p:spPr>
              <a:xfrm>
                <a:off x="7190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33"/>
              <p:cNvSpPr/>
              <p:nvPr/>
            </p:nvSpPr>
            <p:spPr>
              <a:xfrm>
                <a:off x="7469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34"/>
              <p:cNvSpPr/>
              <p:nvPr/>
            </p:nvSpPr>
            <p:spPr>
              <a:xfrm>
                <a:off x="774936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35"/>
              <p:cNvSpPr/>
              <p:nvPr/>
            </p:nvSpPr>
            <p:spPr>
              <a:xfrm>
                <a:off x="80283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36"/>
              <p:cNvSpPr/>
              <p:nvPr/>
            </p:nvSpPr>
            <p:spPr>
              <a:xfrm>
                <a:off x="8307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37"/>
              <p:cNvSpPr/>
              <p:nvPr/>
            </p:nvSpPr>
            <p:spPr>
              <a:xfrm>
                <a:off x="8586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38"/>
              <p:cNvSpPr/>
              <p:nvPr/>
            </p:nvSpPr>
            <p:spPr>
              <a:xfrm>
                <a:off x="886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те двоичное число 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четырёхбайтовом формате. Представьте число сначала в форме с плавающей запя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0,1001*2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исса   -0,1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ок   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ный порядок 11+100 0000=100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250920" y="4365720"/>
            <a:ext cx="8893080" cy="503280"/>
            <a:chOff x="250920" y="4365720"/>
            <a:chExt cx="8893080" cy="503280"/>
          </a:xfrm>
        </p:grpSpPr>
        <p:grpSp>
          <p:nvGrpSpPr>
            <p:cNvPr id="322" name="Group 5"/>
            <p:cNvGrpSpPr/>
            <p:nvPr/>
          </p:nvGrpSpPr>
          <p:grpSpPr>
            <a:xfrm>
              <a:off x="250920" y="4365720"/>
              <a:ext cx="4464000" cy="503280"/>
              <a:chOff x="250920" y="4365720"/>
              <a:chExt cx="4464000" cy="50328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250920" y="4365720"/>
                <a:ext cx="278640" cy="5032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52956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08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08720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1366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192492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1645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3"/>
              <p:cNvSpPr/>
              <p:nvPr/>
            </p:nvSpPr>
            <p:spPr>
              <a:xfrm>
                <a:off x="2203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4"/>
              <p:cNvSpPr/>
              <p:nvPr/>
            </p:nvSpPr>
            <p:spPr>
              <a:xfrm>
                <a:off x="2482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27615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6"/>
              <p:cNvSpPr/>
              <p:nvPr/>
            </p:nvSpPr>
            <p:spPr>
              <a:xfrm>
                <a:off x="30402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7"/>
              <p:cNvSpPr/>
              <p:nvPr/>
            </p:nvSpPr>
            <p:spPr>
              <a:xfrm>
                <a:off x="3320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3599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9"/>
              <p:cNvSpPr/>
              <p:nvPr/>
            </p:nvSpPr>
            <p:spPr>
              <a:xfrm>
                <a:off x="3877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0"/>
              <p:cNvSpPr/>
              <p:nvPr/>
            </p:nvSpPr>
            <p:spPr>
              <a:xfrm>
                <a:off x="4156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4435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4680000" y="4365720"/>
              <a:ext cx="4464000" cy="503280"/>
              <a:chOff x="4680000" y="4365720"/>
              <a:chExt cx="4464000" cy="50328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4680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4958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>
                <a:off x="5237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>
                <a:off x="5516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5795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28"/>
              <p:cNvSpPr/>
              <p:nvPr/>
            </p:nvSpPr>
            <p:spPr>
              <a:xfrm>
                <a:off x="6354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>
                <a:off x="607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6633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912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>
                <a:off x="7190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7469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774936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>
                <a:off x="80283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8307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>
                <a:off x="8586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>
                <a:off x="886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ставления вещественных чисел (конечных и бесконечных десятичных дробей) используют формат с плавающей точкой (запято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4560" y="23493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с плавающей точкой использует представление вещественного числа R в виде произведения мантиссы m на основание системы счисления р в некоторой целой степени n, которую называют поряд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 = m * 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манти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оря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снование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число 25,324 можно записать в таком виде: 0.25324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m=0.25324 — манти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=2 — порядок. Порядок указывает, на какое количество позиций и в каком направлении должна «переплыть», т.е. сместиться десятичная точка в мантиссе. Отсюда название «плавающая точ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справедливы и следующие равен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,324 = 2,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0,002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2532,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ается, что представление числа в форме с плавающей точкой неоднозначн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не было неоднозначности, в ЭВ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пользуют нормализованное представление числа в форме с плавающей точкой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тисса в нормализованном представлении должна удовлетворять услов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m &lt; 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аче говоря, мантисса меньше единицы и первая значащая цифра — не ноль. Значит для рассмотренного числа нормализованным представлением будет:  25,324=0.25324 *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 памяти компьютера вещественное число представляется в форме с плавающей точкой в двоичной системе счисления (р=2) и занимает ячейку размером 4 байта. В ячейке должна содержаться следующая информация о числе: знак числа, порядок и значащие цифры мантиссы. Вот как эта информация располагается в ячей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9280" y="3357720"/>
          <a:ext cx="5545080" cy="718920"/>
        </p:xfrm>
        <a:graphic>
          <a:graphicData uri="http://schemas.openxmlformats.org/drawingml/2006/table">
            <a:tbl>
              <a:tblPr/>
              <a:tblGrid>
                <a:gridCol w="2200320"/>
                <a:gridCol w="1285920"/>
                <a:gridCol w="1092240"/>
                <a:gridCol w="96660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±машинный поряд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     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 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Н Т И 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С А    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1"/>
          <p:cNvSpPr/>
          <p:nvPr/>
        </p:nvSpPr>
        <p:spPr>
          <a:xfrm>
            <a:off x="190800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й байт                    2-й байт     3-й байт   4-й бай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2692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аршем бите 1-го байта хранится знак числа. В этом разряде 0 обозначает плюс, 1 — минус. Оставшиеся 7 бит первого байта содержат машинный порядок. В следующих трех байтах хранятся значащие цифры мантис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ашинный поряд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ми двоичных разрядах помещаются двоичные числа в диапазоне от 0000000 до 1111111. В десятичной системе это соответствует диапазону от 0 до 127. Всего 128 значений. Знак порядка в ячейке не хранится. Но порядок, очевидно, может быть как положительным так и отрицательным. Разумно эти 128 значений разделить поровну между положительными и отрицательными значениями порядка. В таком случае между машинным порядком и истинным (назовем его математическим) устанавливается следующее соответств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9640" y="4365720"/>
          <a:ext cx="8137800" cy="1158840"/>
        </p:xfrm>
        <a:graphic>
          <a:graphicData uri="http://schemas.openxmlformats.org/drawingml/2006/table">
            <a:tbl>
              <a:tblPr/>
              <a:tblGrid>
                <a:gridCol w="2194200"/>
                <a:gridCol w="554040"/>
                <a:gridCol w="555480"/>
                <a:gridCol w="554040"/>
                <a:gridCol w="557280"/>
                <a:gridCol w="439560"/>
                <a:gridCol w="478080"/>
                <a:gridCol w="475920"/>
                <a:gridCol w="506520"/>
                <a:gridCol w="649440"/>
                <a:gridCol w="584280"/>
                <a:gridCol w="5889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шинны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тематически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55"/>
          <p:cNvSpPr/>
          <p:nvPr/>
        </p:nvSpPr>
        <p:spPr>
          <a:xfrm>
            <a:off x="684360" y="566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бозначить машинный порядок Мр, а математический — р, то связь между ними выразится такой формул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р = р + 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машинный порядок смещён относительно математического на 64 единицы и имеет только положительные значения. При выполнении вычислений с плавающей точкой процессор это смещение учит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воичной системе счисления смещ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р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р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00 000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 мы можем записать внутреннее представление числа 25,324 в форме с плавающей точ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Переведем его в двоичную систему счисления с 24 значащими циф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5,32410= 11001,010100101111000110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Запишем в форме нормализованного двоичного числа с плавающей точк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110010101001011110001101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11280" y="3500280"/>
            <a:ext cx="777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мантисса, основание системы счисления (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и порядок (5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записаны в двоичной систе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ычислим машинный поря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2 = 101 + 100 0000 = 100 01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79280" y="5589720"/>
            <a:ext cx="86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24000" y="4941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Запишем представление числа в ячейке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50920" y="5877000"/>
            <a:ext cx="8893080" cy="503280"/>
            <a:chOff x="250920" y="5877000"/>
            <a:chExt cx="8893080" cy="503280"/>
          </a:xfrm>
        </p:grpSpPr>
        <p:grpSp>
          <p:nvGrpSpPr>
            <p:cNvPr id="235" name="Group 10"/>
            <p:cNvGrpSpPr/>
            <p:nvPr/>
          </p:nvGrpSpPr>
          <p:grpSpPr>
            <a:xfrm>
              <a:off x="250920" y="5877000"/>
              <a:ext cx="4464000" cy="503280"/>
              <a:chOff x="250920" y="5877000"/>
              <a:chExt cx="4464000" cy="50328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50920" y="587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52956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808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8720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1366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192492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1645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8"/>
              <p:cNvSpPr/>
              <p:nvPr/>
            </p:nvSpPr>
            <p:spPr>
              <a:xfrm>
                <a:off x="2203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9"/>
              <p:cNvSpPr/>
              <p:nvPr/>
            </p:nvSpPr>
            <p:spPr>
              <a:xfrm>
                <a:off x="2482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>
                <a:off x="27615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>
                <a:off x="30402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>
                <a:off x="3320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>
                <a:off x="3599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3877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4156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4435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4680000" y="5877000"/>
              <a:ext cx="4464000" cy="503280"/>
              <a:chOff x="4680000" y="5877000"/>
              <a:chExt cx="4464000" cy="50328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4680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>
                <a:off x="4958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>
                <a:off x="5237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1"/>
              <p:cNvSpPr/>
              <p:nvPr/>
            </p:nvSpPr>
            <p:spPr>
              <a:xfrm>
                <a:off x="5516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5795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3"/>
              <p:cNvSpPr/>
              <p:nvPr/>
            </p:nvSpPr>
            <p:spPr>
              <a:xfrm>
                <a:off x="6354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4"/>
              <p:cNvSpPr/>
              <p:nvPr/>
            </p:nvSpPr>
            <p:spPr>
              <a:xfrm>
                <a:off x="607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5"/>
              <p:cNvSpPr/>
              <p:nvPr/>
            </p:nvSpPr>
            <p:spPr>
              <a:xfrm>
                <a:off x="6633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36"/>
              <p:cNvSpPr/>
              <p:nvPr/>
            </p:nvSpPr>
            <p:spPr>
              <a:xfrm>
                <a:off x="6912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7190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7469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774936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80283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307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8586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3"/>
              <p:cNvSpPr/>
              <p:nvPr/>
            </p:nvSpPr>
            <p:spPr>
              <a:xfrm>
                <a:off x="886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44"/>
          <p:cNvSpPr/>
          <p:nvPr/>
        </p:nvSpPr>
        <p:spPr>
          <a:xfrm>
            <a:off x="179280" y="64911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395280" y="645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971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7"/>
          <p:cNvSpPr/>
          <p:nvPr/>
        </p:nvSpPr>
        <p:spPr>
          <a:xfrm>
            <a:off x="5219640" y="530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rot="5400000">
            <a:off x="1404000" y="479664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 rot="5400000">
            <a:off x="5705640" y="2439000"/>
            <a:ext cx="216000" cy="665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179280" y="5516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8675640" y="551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49:40Z</dcterms:created>
  <dc:creator>Customer</dc:creator>
  <dc:description/>
  <dc:language>en-US</dc:language>
  <cp:lastModifiedBy>Алла</cp:lastModifiedBy>
  <dcterms:modified xsi:type="dcterms:W3CDTF">2012-01-04T06:48:38Z</dcterms:modified>
  <cp:revision>9</cp:revision>
  <dc:subject/>
  <dc:title>Кодирование вещественных чисел.</dc:title>
</cp:coreProperties>
</file>