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6DB-5816-4EB2-8DCA-5DDE48CB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80E-5057-4D48-A7B7-4CED013C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FB1-A735-43F7-A8F1-CC262119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D4E2-1B96-4F3D-B098-2DC4F4B0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268-C1DE-45DC-8033-082C582B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0A1-556B-4386-9F7A-561972C8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AA3-242C-4655-81AB-B7114A4B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BA9-3427-4A6E-B34D-B7582E99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886-EF99-4AEF-ABAE-5D42019B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2E4-36CA-46EA-8A09-430BE2A0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87C-39AE-4E39-974C-42288AA9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A5A-0EE7-49C9-A804-93032FDD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00CE-EFB5-4B2B-96AF-B77A103CE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ciz.ru/wp-content/uploads/image008.jpg" TargetMode="External"/><Relationship Id="rId3" Type="http://schemas.openxmlformats.org/officeDocument/2006/relationships/hyperlink" Target="http://www.ymniki.ru/assets/images/plotter4.gif" TargetMode="External"/><Relationship Id="rId4" Type="http://schemas.openxmlformats.org/officeDocument/2006/relationships/hyperlink" Target="http://www.photoprinters.ru/pics/printer.jpg" TargetMode="External"/><Relationship Id="rId5" Type="http://schemas.openxmlformats.org/officeDocument/2006/relationships/hyperlink" Target="http://img15.nnm.ru/e/8/5/7/d/6b08f0b30eca3ffbd4c3531e91b.jpg" TargetMode="External"/><Relationship Id="rId6" Type="http://schemas.openxmlformats.org/officeDocument/2006/relationships/hyperlink" Target="http://deslife.ru/" TargetMode="External"/><Relationship Id="rId7" Type="http://schemas.openxmlformats.org/officeDocument/2006/relationships/hyperlink" Target="http://dima.fizteh.ru/RTPlotter/jet-arpfamomplq.gif" TargetMode="External"/><Relationship Id="rId8" Type="http://schemas.openxmlformats.org/officeDocument/2006/relationships/hyperlink" Target="http://www.fcp-pbdd.ru/images/dp_4.gif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photos.privet.ru/user/lov_410/photo/4538299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9880" y="2711520"/>
            <a:ext cx="4959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733920"/>
            <a:ext cx="3809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трофанова Елена Павловна, методист по информационным технолог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ДПО «Центр научно – методического обеспечения» г.Лысьва,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7160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1447920"/>
            <a:ext cx="34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т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486400" y="1371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к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2514240" y="83808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5181480" y="762120"/>
            <a:ext cx="106704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0" y="19810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 элементом является растр – прямоугольная сетка пикселей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486400" y="1905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и элементами являются графические примитивы: линии, дуги, окружности, прям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http://www.klyaksa.net/htm/kopilka/uchp/images/p709.jpg"/>
          <p:cNvPicPr/>
          <p:nvPr/>
        </p:nvPicPr>
        <p:blipFill>
          <a:blip r:embed="rId2"/>
          <a:stretch/>
        </p:blipFill>
        <p:spPr>
          <a:xfrm>
            <a:off x="762120" y="3562200"/>
            <a:ext cx="4600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color.e-publish.ru/images/clip_image22.jpg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color.e-publish.ru/images/clip_image002.jpg"/>
          <p:cNvPicPr/>
          <p:nvPr/>
        </p:nvPicPr>
        <p:blipFill>
          <a:blip r:embed="rId3"/>
          <a:stretch/>
        </p:blipFill>
        <p:spPr>
          <a:xfrm>
            <a:off x="44197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color.e-publish.ru/images/clip_image004.gif"/>
          <p:cNvPicPr/>
          <p:nvPr/>
        </p:nvPicPr>
        <p:blipFill>
          <a:blip r:embed="rId4"/>
          <a:stretch/>
        </p:blipFill>
        <p:spPr>
          <a:xfrm>
            <a:off x="160020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color.e-publish.ru/images/clip_image005.gif"/>
          <p:cNvPicPr/>
          <p:nvPr/>
        </p:nvPicPr>
        <p:blipFill>
          <a:blip r:embed="rId5"/>
          <a:stretch/>
        </p:blipFill>
        <p:spPr>
          <a:xfrm>
            <a:off x="4038480" y="3352680"/>
            <a:ext cx="464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ский рисунок (на 1 слай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rciz.ru/wp-content/uploads/image008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mniki.ru/assets/images/plotter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otoprinters.ru/pics/printer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img15.nnm.ru/e/8/5/7/d/6b08f0b30eca3ffbd4c3531e91b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deslife.r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dima.fizteh.ru/RTPlotter/jet-arpfamomplq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fcp-pbdd.ru/images/dp_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3.radikal.ru/i176/1008/f1/1da324d3bb17t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ectora.ru/images/stories/services/just_married_fs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edkazarepku.spb.ru/iceage3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erevedunevie.j.e.pic.centerblog.net/fdpl4m2u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lyaksa.net/htm/kopilka/uchp/images/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вывода графических изображений используются устр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Дисплей (мони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рафопостроитель (плот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ин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3dnews.ru/_imgdata/img/2008/04/28/80981.jpg"/>
          <p:cNvPicPr/>
          <p:nvPr/>
        </p:nvPicPr>
        <p:blipFill>
          <a:blip r:embed="rId2"/>
          <a:stretch/>
        </p:blipFill>
        <p:spPr>
          <a:xfrm>
            <a:off x="6477120" y="2971800"/>
            <a:ext cx="1982520" cy="17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mimaki-jv4.com/images/mimaki-jv4.gif"/>
          <p:cNvPicPr/>
          <p:nvPr/>
        </p:nvPicPr>
        <p:blipFill>
          <a:blip r:embed="rId3"/>
          <a:stretch/>
        </p:blipFill>
        <p:spPr>
          <a:xfrm>
            <a:off x="4114800" y="4572000"/>
            <a:ext cx="2438280" cy="19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ww.school.dentro.ru/computer/img/stryin.jpg"/>
          <p:cNvPicPr/>
          <p:nvPr/>
        </p:nvPicPr>
        <p:blipFill>
          <a:blip r:embed="rId4"/>
          <a:stretch/>
        </p:blipFill>
        <p:spPr>
          <a:xfrm>
            <a:off x="1371600" y="472428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ласти применения компьютерной граф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аждого направления создаётся специальное программное обеспечение, которое назыв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фическими программами или графическ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thexfiles.info/img/1284_1.jpeg"/>
          <p:cNvPicPr/>
          <p:nvPr/>
        </p:nvPicPr>
        <p:blipFill>
          <a:blip r:embed="rId2"/>
          <a:stretch/>
        </p:blipFill>
        <p:spPr>
          <a:xfrm>
            <a:off x="990720" y="3124080"/>
            <a:ext cx="2706480" cy="335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deslife.ru/uploads/posts/2010-01/1262863587_fotoshop.jpg"/>
          <p:cNvPicPr/>
          <p:nvPr/>
        </p:nvPicPr>
        <p:blipFill>
          <a:blip r:embed="rId3"/>
          <a:stretch/>
        </p:blipFill>
        <p:spPr>
          <a:xfrm>
            <a:off x="3657600" y="274320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Науч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dima.fizteh.ru/RTPlotter/jet.gif"/>
          <p:cNvPicPr/>
          <p:nvPr/>
        </p:nvPicPr>
        <p:blipFill>
          <a:blip r:embed="rId2"/>
          <a:stretch/>
        </p:blipFill>
        <p:spPr>
          <a:xfrm>
            <a:off x="2362320" y="16765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Дел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fcp-pbdd.ru/images/dp_4.gif"/>
          <p:cNvPicPr/>
          <p:nvPr/>
        </p:nvPicPr>
        <p:blipFill>
          <a:blip r:embed="rId2"/>
          <a:stretch/>
        </p:blipFill>
        <p:spPr>
          <a:xfrm>
            <a:off x="2362320" y="2666880"/>
            <a:ext cx="594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Конструкторская  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в работе инженеров-конструкторов, изобретателей новой техники. СИСТЕМЫ АВТОМАТИЗАЦИИ ПРОЕКТИРОВАНИЯ (СА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inypic.com/b820yx.jpg"/>
          <p:cNvPicPr/>
          <p:nvPr/>
        </p:nvPicPr>
        <p:blipFill>
          <a:blip r:embed="rId2"/>
          <a:stretch/>
        </p:blipFill>
        <p:spPr>
          <a:xfrm>
            <a:off x="2057400" y="2590920"/>
            <a:ext cx="518148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Иллюстратив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человеку создавать произвольные рисунки. Не имеет производственной направленности. Простейшие средства иллюстративной графики называют графическими редакторам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ore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vectora.ru/images/stories/services/just_married_fs.jpg"/>
          <p:cNvPicPr/>
          <p:nvPr/>
        </p:nvPicPr>
        <p:blipFill>
          <a:blip r:embed="rId2"/>
          <a:stretch/>
        </p:blipFill>
        <p:spPr>
          <a:xfrm>
            <a:off x="5638680" y="2895480"/>
            <a:ext cx="26733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ледующа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895480"/>
            <a:ext cx="495288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Художественная и реклам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, с помощью которой создаются рекламные ролики, компьютерные игры, мультфильмы, видеоуроки и т. д. Для создания реалистичных изображений применяются геометрические рас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img.lenta.ru/news/2008/11/21/ice/picture.jpg"/>
          <p:cNvPicPr/>
          <p:nvPr/>
        </p:nvPicPr>
        <p:blipFill>
          <a:blip r:embed="rId2"/>
          <a:stretch/>
        </p:blipFill>
        <p:spPr>
          <a:xfrm>
            <a:off x="45720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www.belonogov.ru/images/naruzhka/nts/volume_01_final_darkgray.jpg"/>
          <p:cNvPicPr/>
          <p:nvPr/>
        </p:nvPicPr>
        <p:blipFill>
          <a:blip r:embed="rId3"/>
          <a:stretch/>
        </p:blipFill>
        <p:spPr>
          <a:xfrm>
            <a:off x="5181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олучение движущихся изображений на дис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ъединение высококачественного изображения на экране компьютера со звуков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5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1T22:42:0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