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20.png" ContentType="image/png"/>
  <Override PartName="/ppt/media/image15.gif" ContentType="image/gif"/>
  <Override PartName="/ppt/media/image3.png" ContentType="image/png"/>
  <Override PartName="/ppt/media/image17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ED0-BC03-486C-A2A3-00ECF50E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FED-7145-43FB-92D2-54BBE718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825-CA2C-4CBF-89A0-E7F5AA2E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714-2EEE-42EC-8983-309EA349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3DD-62B9-4A99-B444-B6CEB7C0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293-0A9D-4240-9ED0-D77E482D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CFFF-2785-46F5-B1D4-580CB76E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098C-BF9C-4269-9D57-0E882B30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665-EEC7-4C46-BA92-C583FA3A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C3A-B6A4-4D66-B02B-E0E3EEC8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3B4E-F300-4369-A4B6-89861F88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79E8-1D10-4F30-8999-BB162A9C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B9FA-7E50-4CAB-A812-9678E7839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ciz.ru/wp-content/uploads/image008.jpg" TargetMode="External"/><Relationship Id="rId3" Type="http://schemas.openxmlformats.org/officeDocument/2006/relationships/hyperlink" Target="http://www.ymniki.ru/assets/images/plotter4.gif" TargetMode="External"/><Relationship Id="rId4" Type="http://schemas.openxmlformats.org/officeDocument/2006/relationships/hyperlink" Target="http://www.photoprinters.ru/pics/printer.jpg" TargetMode="External"/><Relationship Id="rId5" Type="http://schemas.openxmlformats.org/officeDocument/2006/relationships/hyperlink" Target="http://img15.nnm.ru/e/8/5/7/d/6b08f0b30eca3ffbd4c3531e91b.jpg" TargetMode="External"/><Relationship Id="rId6" Type="http://schemas.openxmlformats.org/officeDocument/2006/relationships/hyperlink" Target="http://deslife.ru/" TargetMode="External"/><Relationship Id="rId7" Type="http://schemas.openxmlformats.org/officeDocument/2006/relationships/hyperlink" Target="http://dima.fizteh.ru/RTPlotter/jet-arpfamomplq.gif" TargetMode="External"/><Relationship Id="rId8" Type="http://schemas.openxmlformats.org/officeDocument/2006/relationships/hyperlink" Target="http://www.fcp-pbdd.ru/images/dp_4.gif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photos.privet.ru/user/lov_410/photo/45382990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9880" y="2711520"/>
            <a:ext cx="4959360" cy="35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733920"/>
            <a:ext cx="38098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итрофанова Елена Павловна, методист по информационным технолог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ДПО «Центр научно – методического обеспечения» г.Лысьва,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371600" y="228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04920" y="1447920"/>
            <a:ext cx="34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тр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486400" y="13716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кт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2514240" y="83808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5181480" y="762120"/>
            <a:ext cx="106704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0" y="19810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 элементом является растр – прямоугольная сетка пикселей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5486400" y="19051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и элементами являются графические примитивы: линии, дуги, окружности, прямо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http://www.klyaksa.net/htm/kopilka/uchp/images/p709.jpg"/>
          <p:cNvPicPr/>
          <p:nvPr/>
        </p:nvPicPr>
        <p:blipFill>
          <a:blip r:embed="rId2"/>
          <a:stretch/>
        </p:blipFill>
        <p:spPr>
          <a:xfrm>
            <a:off x="762120" y="3562200"/>
            <a:ext cx="4600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color.e-publish.ru/images/clip_image22.jpg"/>
          <p:cNvPicPr/>
          <p:nvPr/>
        </p:nvPicPr>
        <p:blipFill>
          <a:blip r:embed="rId2"/>
          <a:stretch/>
        </p:blipFill>
        <p:spPr>
          <a:xfrm>
            <a:off x="3049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color.e-publish.ru/images/clip_image002.jpg"/>
          <p:cNvPicPr/>
          <p:nvPr/>
        </p:nvPicPr>
        <p:blipFill>
          <a:blip r:embed="rId3"/>
          <a:stretch/>
        </p:blipFill>
        <p:spPr>
          <a:xfrm>
            <a:off x="44197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color.e-publish.ru/images/clip_image004.gif"/>
          <p:cNvPicPr/>
          <p:nvPr/>
        </p:nvPicPr>
        <p:blipFill>
          <a:blip r:embed="rId4"/>
          <a:stretch/>
        </p:blipFill>
        <p:spPr>
          <a:xfrm>
            <a:off x="160020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color.e-publish.ru/images/clip_image005.gif"/>
          <p:cNvPicPr/>
          <p:nvPr/>
        </p:nvPicPr>
        <p:blipFill>
          <a:blip r:embed="rId5"/>
          <a:stretch/>
        </p:blipFill>
        <p:spPr>
          <a:xfrm>
            <a:off x="4038480" y="3352680"/>
            <a:ext cx="46483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рский рисунок (на 1 слай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rciz.ru/wp-content/uploads/image008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ymniki.ru/assets/images/plotter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photoprinters.ru/pics/printer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img15.nnm.ru/e/8/5/7/d/6b08f0b30eca3ffbd4c3531e91b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deslife.r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dima.fizteh.ru/RTPlotter/jet-arpfamomplq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fcp-pbdd.ru/images/dp_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03.radikal.ru/i176/1008/f1/1da324d3bb17t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ectora.ru/images/stories/services/just_married_fs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edkazarepku.spb.ru/iceage3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erevedunevie.j.e.pic.centerblog.net/fdpl4m2u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lyaksa.net/htm/kopilka/uchp/images/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ласть информатики, занимающаяся проблемами получения различных изображений (чертежей, рисунков, мультипликаций) на компью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вывода графических изображений используются устр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Дисплей (монит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Графопостроитель (плотт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рин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ww.3dnews.ru/_imgdata/img/2008/04/28/80981.jpg"/>
          <p:cNvPicPr/>
          <p:nvPr/>
        </p:nvPicPr>
        <p:blipFill>
          <a:blip r:embed="rId2"/>
          <a:stretch/>
        </p:blipFill>
        <p:spPr>
          <a:xfrm>
            <a:off x="6477120" y="2971800"/>
            <a:ext cx="1982520" cy="178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www.mimaki-jv4.com/images/mimaki-jv4.gif"/>
          <p:cNvPicPr/>
          <p:nvPr/>
        </p:nvPicPr>
        <p:blipFill>
          <a:blip r:embed="rId3"/>
          <a:stretch/>
        </p:blipFill>
        <p:spPr>
          <a:xfrm>
            <a:off x="4114800" y="4572000"/>
            <a:ext cx="2438280" cy="190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www.school.dentro.ru/computer/img/stryin.jpg"/>
          <p:cNvPicPr/>
          <p:nvPr/>
        </p:nvPicPr>
        <p:blipFill>
          <a:blip r:embed="rId4"/>
          <a:stretch/>
        </p:blipFill>
        <p:spPr>
          <a:xfrm>
            <a:off x="1371600" y="4724280"/>
            <a:ext cx="18288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ласти применения компьютерной граф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каждого направления создаётся специальное программное обеспечение, которое называ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афическими программами или графическими пак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thexfiles.info/img/1284_1.jpeg"/>
          <p:cNvPicPr/>
          <p:nvPr/>
        </p:nvPicPr>
        <p:blipFill>
          <a:blip r:embed="rId2"/>
          <a:stretch/>
        </p:blipFill>
        <p:spPr>
          <a:xfrm>
            <a:off x="990720" y="3124080"/>
            <a:ext cx="2706480" cy="335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deslife.ru/uploads/posts/2010-01/1262863587_fotoshop.jpg"/>
          <p:cNvPicPr/>
          <p:nvPr/>
        </p:nvPicPr>
        <p:blipFill>
          <a:blip r:embed="rId3"/>
          <a:stretch/>
        </p:blipFill>
        <p:spPr>
          <a:xfrm>
            <a:off x="3657600" y="2743200"/>
            <a:ext cx="2498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Науч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начение – визуализация (наглядное изображение) объектов научного исследования, графическая обработка результатов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dima.fizteh.ru/RTPlotter/jet.gif"/>
          <p:cNvPicPr/>
          <p:nvPr/>
        </p:nvPicPr>
        <p:blipFill>
          <a:blip r:embed="rId2"/>
          <a:stretch/>
        </p:blipFill>
        <p:spPr>
          <a:xfrm>
            <a:off x="2362320" y="16765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Делов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назначена для создания иллюстраций, часто используемых в работе учреждений: плановые показатели, статистические св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www.fcp-pbdd.ru/images/dp_4.gif"/>
          <p:cNvPicPr/>
          <p:nvPr/>
        </p:nvPicPr>
        <p:blipFill>
          <a:blip r:embed="rId2"/>
          <a:stretch/>
        </p:blipFill>
        <p:spPr>
          <a:xfrm>
            <a:off x="2362320" y="2666880"/>
            <a:ext cx="5943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Конструкторская  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тся в работе инженеров-конструкторов, изобретателей новой техники. СИСТЕМЫ АВТОМАТИЗАЦИИ ПРОЕКТИРОВАНИЯ (САП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tinypic.com/b820yx.jpg"/>
          <p:cNvPicPr/>
          <p:nvPr/>
        </p:nvPicPr>
        <p:blipFill>
          <a:blip r:embed="rId2"/>
          <a:stretch/>
        </p:blipFill>
        <p:spPr>
          <a:xfrm>
            <a:off x="2057400" y="2590920"/>
            <a:ext cx="518148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Иллюстратив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человеку создавать произвольные рисунки. Не имеет производственной направленности. Простейшие средства иллюстративной графики называют графическими редакторам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, Corel D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vectora.ru/images/stories/services/just_married_fs.jpg"/>
          <p:cNvPicPr/>
          <p:nvPr/>
        </p:nvPicPr>
        <p:blipFill>
          <a:blip r:embed="rId2"/>
          <a:stretch/>
        </p:blipFill>
        <p:spPr>
          <a:xfrm>
            <a:off x="5638680" y="2895480"/>
            <a:ext cx="26733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Следующа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895480"/>
            <a:ext cx="495288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Художественная и реклам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а, с помощью которой создаются рекламные ролики, компьютерные игры, мультфильмы, видеоуроки и т. д. Для создания реалистичных изображений применяются геометрические расчё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img.lenta.ru/news/2008/11/21/ice/picture.jpg"/>
          <p:cNvPicPr/>
          <p:nvPr/>
        </p:nvPicPr>
        <p:blipFill>
          <a:blip r:embed="rId2"/>
          <a:stretch/>
        </p:blipFill>
        <p:spPr>
          <a:xfrm>
            <a:off x="457200" y="3048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ttp://www.belonogov.ru/images/naruzhka/nts/volume_01_final_darkgray.jpg"/>
          <p:cNvPicPr/>
          <p:nvPr/>
        </p:nvPicPr>
        <p:blipFill>
          <a:blip r:embed="rId3"/>
          <a:stretch/>
        </p:blipFill>
        <p:spPr>
          <a:xfrm>
            <a:off x="5181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пьютерная анима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получение движущихся изображений на дисп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льтимеди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ъединение высококачественного изображения на экране компьютера со звуковым сопров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3504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1T22:42:0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