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2.jpeg" ContentType="image/jpeg"/>
  <Override PartName="/ppt/media/image20.png" ContentType="image/png"/>
  <Override PartName="/ppt/media/image15.gif" ContentType="image/gif"/>
  <Override PartName="/ppt/media/image3.png" ContentType="image/png"/>
  <Override PartName="/ppt/media/image17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9D8F-F6A2-4FF1-BD76-283BF1D90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0FA7-45E3-4640-BB3D-C03679E1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30F5-EDE0-4144-A16B-17F550911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4E11-5653-4E92-96BE-430D6C88F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DB4C-6BA4-4C2F-8ACC-E1FD128D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930C-33B6-4066-BC85-A1624CCC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8BCB-56D0-4856-BB5D-41073812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13BC-79AD-42BF-86CA-E1CEDAC4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933E-F862-4002-BCFB-694C5435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0824-ED00-4B91-83A6-475DDAEC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5140-FE1F-433D-BBDF-F1855402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D89C-41CB-4C2E-82B2-1E5B748B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015B-0AAF-4F2A-AE9B-12DBF8A30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rciz.ru/wp-content/uploads/image008.jpg" TargetMode="External"/><Relationship Id="rId3" Type="http://schemas.openxmlformats.org/officeDocument/2006/relationships/hyperlink" Target="http://www.ymniki.ru/assets/images/plotter4.gif" TargetMode="External"/><Relationship Id="rId4" Type="http://schemas.openxmlformats.org/officeDocument/2006/relationships/hyperlink" Target="http://www.photoprinters.ru/pics/printer.jpg" TargetMode="External"/><Relationship Id="rId5" Type="http://schemas.openxmlformats.org/officeDocument/2006/relationships/hyperlink" Target="http://img15.nnm.ru/e/8/5/7/d/6b08f0b30eca3ffbd4c3531e91b.jpg" TargetMode="External"/><Relationship Id="rId6" Type="http://schemas.openxmlformats.org/officeDocument/2006/relationships/hyperlink" Target="http://deslife.ru/" TargetMode="External"/><Relationship Id="rId7" Type="http://schemas.openxmlformats.org/officeDocument/2006/relationships/hyperlink" Target="http://dima.fizteh.ru/RTPlotter/jet-arpfamomplq.gif" TargetMode="External"/><Relationship Id="rId8" Type="http://schemas.openxmlformats.org/officeDocument/2006/relationships/hyperlink" Target="http://www.fcp-pbdd.ru/images/dp_4.gif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http://photos.privet.ru/user/lov_410/photo/45382990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9880" y="2711520"/>
            <a:ext cx="4959360" cy="3500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733920"/>
            <a:ext cx="38098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итрофанова Елена Павловна, методист по информационным технологи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БОУ ДПО «Центр научно – методического обеспечения» г.Лысьва, Перм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1371600" y="2286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04920" y="1447920"/>
            <a:ext cx="34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стр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486400" y="13716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ект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 flipH="1">
            <a:off x="2514240" y="838080"/>
            <a:ext cx="10666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>
            <a:off x="5181480" y="762120"/>
            <a:ext cx="106704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0" y="198108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именьшим элементом является растр – прямоугольная сетка пикселей на эк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5486400" y="1905120"/>
            <a:ext cx="36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именьшими элементами являются графические примитивы: линии, дуги, окружности, прямоуголь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4" descr="http://www.klyaksa.net/htm/kopilka/uchp/images/p709.jpg"/>
          <p:cNvPicPr/>
          <p:nvPr/>
        </p:nvPicPr>
        <p:blipFill>
          <a:blip r:embed="rId2"/>
          <a:stretch/>
        </p:blipFill>
        <p:spPr>
          <a:xfrm>
            <a:off x="762120" y="3562200"/>
            <a:ext cx="46004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color.e-publish.ru/images/clip_image22.jpg"/>
          <p:cNvPicPr/>
          <p:nvPr/>
        </p:nvPicPr>
        <p:blipFill>
          <a:blip r:embed="rId2"/>
          <a:stretch/>
        </p:blipFill>
        <p:spPr>
          <a:xfrm>
            <a:off x="30492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color.e-publish.ru/images/clip_image002.jpg"/>
          <p:cNvPicPr/>
          <p:nvPr/>
        </p:nvPicPr>
        <p:blipFill>
          <a:blip r:embed="rId3"/>
          <a:stretch/>
        </p:blipFill>
        <p:spPr>
          <a:xfrm>
            <a:off x="441972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http://color.e-publish.ru/images/clip_image004.gif"/>
          <p:cNvPicPr/>
          <p:nvPr/>
        </p:nvPicPr>
        <p:blipFill>
          <a:blip r:embed="rId4"/>
          <a:stretch/>
        </p:blipFill>
        <p:spPr>
          <a:xfrm>
            <a:off x="1600200" y="37339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http://color.e-publish.ru/images/clip_image005.gif"/>
          <p:cNvPicPr/>
          <p:nvPr/>
        </p:nvPicPr>
        <p:blipFill>
          <a:blip r:embed="rId5"/>
          <a:stretch/>
        </p:blipFill>
        <p:spPr>
          <a:xfrm>
            <a:off x="4038480" y="3352680"/>
            <a:ext cx="46483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торский рисунок (на 1 слайд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arciz.ru/wp-content/uploads/image008.jp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ymniki.ru/assets/images/plotter4.gi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photoprinters.ru/pics/printer.jp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img15.nnm.ru/e/8/5/7/d/6b08f0b30eca3ffbd4c3531e91b.jp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deslife.ru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dima.fizteh.ru/RTPlotter/jet-arpfamomplq.gi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www.fcp-pbdd.ru/images/dp_4.gi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03.radikal.ru/i176/1008/f1/1da324d3bb17t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ectora.ru/images/stories/services/just_married_fs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dedkazarepku.spb.ru/iceage3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jerevedunevie.j.e.pic.centerblog.net/fdpl4m2u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klyaksa.net/htm/kopilka/uchp/images/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мпьютерная графи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область информатики, занимающаяся проблемами получения различных изображений (чертежей, рисунков, мультипликаций) на компьюте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ля вывода графических изображений используются устрой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Дисплей (монито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Графопостроитель (плотте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Прин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http://www.3dnews.ru/_imgdata/img/2008/04/28/80981.jpg"/>
          <p:cNvPicPr/>
          <p:nvPr/>
        </p:nvPicPr>
        <p:blipFill>
          <a:blip r:embed="rId2"/>
          <a:stretch/>
        </p:blipFill>
        <p:spPr>
          <a:xfrm>
            <a:off x="6477120" y="2971800"/>
            <a:ext cx="1982520" cy="1781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http://www.mimaki-jv4.com/images/mimaki-jv4.gif"/>
          <p:cNvPicPr/>
          <p:nvPr/>
        </p:nvPicPr>
        <p:blipFill>
          <a:blip r:embed="rId3"/>
          <a:stretch/>
        </p:blipFill>
        <p:spPr>
          <a:xfrm>
            <a:off x="4114800" y="4572000"/>
            <a:ext cx="2438280" cy="1900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http://www.school.dentro.ru/computer/img/stryin.jpg"/>
          <p:cNvPicPr/>
          <p:nvPr/>
        </p:nvPicPr>
        <p:blipFill>
          <a:blip r:embed="rId4"/>
          <a:stretch/>
        </p:blipFill>
        <p:spPr>
          <a:xfrm>
            <a:off x="1371600" y="4724280"/>
            <a:ext cx="182880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ласти применения компьютерной граф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каждого направления создаётся специальное программное обеспечение, которое называю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рафическими программами или графическими паке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ttp://www.thexfiles.info/img/1284_1.jpeg"/>
          <p:cNvPicPr/>
          <p:nvPr/>
        </p:nvPicPr>
        <p:blipFill>
          <a:blip r:embed="rId2"/>
          <a:stretch/>
        </p:blipFill>
        <p:spPr>
          <a:xfrm>
            <a:off x="990720" y="3124080"/>
            <a:ext cx="2706480" cy="3353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ttp://deslife.ru/uploads/posts/2010-01/1262863587_fotoshop.jpg"/>
          <p:cNvPicPr/>
          <p:nvPr/>
        </p:nvPicPr>
        <p:blipFill>
          <a:blip r:embed="rId3"/>
          <a:stretch/>
        </p:blipFill>
        <p:spPr>
          <a:xfrm>
            <a:off x="3657600" y="2743200"/>
            <a:ext cx="24987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Науч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начение – визуализация (наглядное изображение) объектов научного исследования, графическая обработка результатов расчё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http://dima.fizteh.ru/RTPlotter/jet.gif"/>
          <p:cNvPicPr/>
          <p:nvPr/>
        </p:nvPicPr>
        <p:blipFill>
          <a:blip r:embed="rId2"/>
          <a:stretch/>
        </p:blipFill>
        <p:spPr>
          <a:xfrm>
            <a:off x="2362320" y="1676520"/>
            <a:ext cx="51814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Делов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назначена для создания иллюстраций, часто используемых в работе учреждений: плановые показатели, статистические сво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http://www.fcp-pbdd.ru/images/dp_4.gif"/>
          <p:cNvPicPr/>
          <p:nvPr/>
        </p:nvPicPr>
        <p:blipFill>
          <a:blip r:embed="rId2"/>
          <a:stretch/>
        </p:blipFill>
        <p:spPr>
          <a:xfrm>
            <a:off x="2362320" y="2666880"/>
            <a:ext cx="59436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Конструкторская  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уется в работе инженеров-конструкторов, изобретателей новой техники. СИСТЕМЫ АВТОМАТИЗАЦИИ ПРОЕКТИРОВАНИЯ (САП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http://tinypic.com/b820yx.jpg"/>
          <p:cNvPicPr/>
          <p:nvPr/>
        </p:nvPicPr>
        <p:blipFill>
          <a:blip r:embed="rId2"/>
          <a:stretch/>
        </p:blipFill>
        <p:spPr>
          <a:xfrm>
            <a:off x="2057400" y="2590920"/>
            <a:ext cx="518148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Иллюстратив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оляет человеку создавать произвольные рисунки. Не имеет производственной направленности. Простейшие средства иллюстративной графики называют графическими редакторами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nt, Corel Dr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http://vectora.ru/images/stories/services/just_married_fs.jpg"/>
          <p:cNvPicPr/>
          <p:nvPr/>
        </p:nvPicPr>
        <p:blipFill>
          <a:blip r:embed="rId2"/>
          <a:stretch/>
        </p:blipFill>
        <p:spPr>
          <a:xfrm>
            <a:off x="5638680" y="2895480"/>
            <a:ext cx="2673360" cy="297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Следующая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2895480"/>
            <a:ext cx="4952880" cy="29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 Художественная и реклам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а, с помощью которой создаются рекламные ролики, компьютерные игры, мультфильмы, видеоуроки и т. д. Для создания реалистичных изображений применяются геометрические расчё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http://img.lenta.ru/news/2008/11/21/ice/picture.jpg"/>
          <p:cNvPicPr/>
          <p:nvPr/>
        </p:nvPicPr>
        <p:blipFill>
          <a:blip r:embed="rId2"/>
          <a:stretch/>
        </p:blipFill>
        <p:spPr>
          <a:xfrm>
            <a:off x="457200" y="3048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http://www.belonogov.ru/images/naruzhka/nts/volume_01_final_darkgray.jpg"/>
          <p:cNvPicPr/>
          <p:nvPr/>
        </p:nvPicPr>
        <p:blipFill>
          <a:blip r:embed="rId3"/>
          <a:stretch/>
        </p:blipFill>
        <p:spPr>
          <a:xfrm>
            <a:off x="5181480" y="3124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8390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мпьютерная анимац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получение движущихся изображений на диспл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ультимеди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объединение высококачественного изображения на экране компьютера со звуковым сопровожд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705720" y="1143000"/>
            <a:ext cx="9270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590920" y="1600200"/>
            <a:ext cx="350496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1-21T22:42:0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