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dt" idx="10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CE60E-A4AD-4E59-BF70-A28F1813A037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раткое содержание предыдущего занят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нятие граф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цикл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ориентированные и неориентриованные граф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вязность (в каком типе графа?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циклические граф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едставление графов в программе: матрица смежности, массив смежности, список смежности (мультисписок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иск в глубину и нахождение с его помощью компонент связ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 сюда можно приспособить графы? А топологическую сортировку? Сильно ли усложнена задача временами производства деталей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пользовать список смежности (т. е. мультисписок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ходные данные к домашним задачам в том же формате, что и к задаче классной раб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нтисимметричность, транзитивность и отношение поряд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 можно топологически отсортировать данный граф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Где можно использовать данный алгоритм? Была задача про производство деталей, она пойдёт на дом. Также используется для разрешения зависимостей пакетов в системах Linu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чему такая найдётс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Такой вершине можно присвоить минимальное значение, после чего убрать её из графа, а также все исходёщие из неё рёбра. Циклы от этого не появятся. Убранная вершина никак не повлияет на результат, т. к. у неё заведомо минимальный номе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и считывании графа в память будем увеличивать входящие степе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Что ещё нужно сделать? Занулить масси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Это для массива смежности. Как сделать для списка смежност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За сколько работает данный алгоритм? За n^2. Почему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Это не самый быстрый способ топологически отсортировать массив. Позже мы пройдём ещё один спосо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пользовать список смежности (т. е. мультисписок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Ограничение по времени свободне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Разъяснение того, чтО нужно получи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пользовать список смежности (т. е. мультисписок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Разъяснение того, чтО нужно получить. Как не использовать сортировку перед выводом результат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BE3C-8D8A-4569-8EBF-877C73E46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3614-1EA9-4AED-9546-AA202F6D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A058-4982-4497-BB43-0A309DFFE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5F50-07A4-490B-A7A7-9537A20A3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83DD-EA44-4492-B165-37E1EE37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EE9E-0D9F-4767-BE62-65957A04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A429-D330-45E7-A305-5DEA6ED3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6E02-48BF-4CE9-8603-CE9193D6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F0A5-3216-4E14-9403-2CFF69D7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5DBE-6DC4-4F1D-92F5-A0019F36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3F90-B72F-4BE2-AF38-F564155E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1CAE-59F0-4BC3-BC0C-E6808BF0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CA86-CD97-41CE-83AF-4F40EB4C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646B-94DF-4C34-B333-E977F87F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4D68-E0AB-4CB4-87AA-342A7F44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4408-AB4C-49F3-8428-E6B41D8F3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2CE5-AEC1-4B1A-AEBB-2AB04C0D6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CB4E8-FE64-4030-8DAC-F0B9B1B52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07966-A6F2-4126-AAB1-E6C7D534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ED357-3B7F-4822-957E-8A0B914E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7F7AF-91A8-48A3-8DEC-55203B9F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7307B-F385-4D13-97A0-3CC6E10F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15E3-CC7A-4E09-A849-F309C518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528B3-8214-4719-A68F-EC5B298A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12C10-47C8-49DA-B45F-439C5AD8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C4314-E653-4254-B06F-7C4DB3EA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87CA5-4876-4584-86B7-6F584AD1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670C9-9CCB-44FF-AB89-665510AF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0940A-377A-4D4A-B912-8D2A2A4A0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F6532-DA55-429A-A1FA-07D98A770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6056-F4A4-49AD-9003-7271F04D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3BA8-6906-40D1-BF74-0A8E7BBC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3B2C-AB95-4178-AF4E-EEEF94DD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8766-5AFD-48D1-816E-34BE6F88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C303-711B-4AA5-8BE0-561DD667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985B-F951-4424-A129-5E9115F2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470E8-32A1-43F9-BF50-1F08AFB09741}" type="slidenum">
              <a:rPr b="0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86C2C8-1CFB-4434-887F-D0EC1B5E1B56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EA2366-EF3F-470C-AFCC-6E9054A8241C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ntuit.ru/department/algorithms/basicalgos/" TargetMode="External"/><Relationship Id="rId3" Type="http://schemas.openxmlformats.org/officeDocument/2006/relationships/hyperlink" Target="http://www.intuit.ru/department/algorithms/basicalgos/" TargetMode="External"/><Relationship Id="rId4" Type="http://schemas.openxmlformats.org/officeDocument/2006/relationships/hyperlink" Target="http://www.intuit.ru/department/algorithms/basicalgos/" TargetMode="External"/><Relationship Id="rId5" Type="http://schemas.openxmlformats.org/officeDocument/2006/relationships/hyperlink" Target="http://www.intuit.ru/department/algorithms/basicalgos/" TargetMode="External"/><Relationship Id="rId6" Type="http://schemas.openxmlformats.org/officeDocument/2006/relationships/hyperlink" Target="http://www.intuit.ru/department/algorithms/basicalgos/" TargetMode="External"/><Relationship Id="rId7" Type="http://schemas.openxmlformats.org/officeDocument/2006/relationships/hyperlink" Target="http://www.intuit.ru/department/algorithms/basicalgos/" TargetMode="External"/><Relationship Id="rId8" Type="http://schemas.openxmlformats.org/officeDocument/2006/relationships/hyperlink" Target="http://www.intuit.ru/department/algorithms/basicalgos/" TargetMode="External"/><Relationship Id="rId9" Type="http://schemas.openxmlformats.org/officeDocument/2006/relationships/hyperlink" Target="http://www.intuit.ru/department/algorithms/basicalgos/" TargetMode="External"/><Relationship Id="rId10" Type="http://schemas.openxmlformats.org/officeDocument/2006/relationships/hyperlink" Target="http://www.intuit.ru/department/algorithms/basicalgos/" TargetMode="External"/><Relationship Id="rId11" Type="http://schemas.openxmlformats.org/officeDocument/2006/relationships/hyperlink" Target="http://www.intuit.ru/department/algorithms/basicalgos/" TargetMode="External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03280" y="301680"/>
            <a:ext cx="9070920" cy="64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29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6000" spc="-1" strike="noStrike">
                <a:solidFill>
                  <a:srgbClr val="ffffff"/>
                </a:solidFill>
                <a:latin typeface="Arial"/>
              </a:rPr>
              <a:t>Алгоритмы на графах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Топологическая сортировка отсечением верш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Югов Иван Олего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ОУ Гимназия №10, г. Тве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3564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Предприятие «Авто-2010» выпускает двигатели известных во всём мире автомобилей. Двигатель состоит ровно из 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деталей, пронумерованных от 1 до 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, при этом деталь с номером 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изготавливается за 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200" spc="-1" strike="noStrike" baseline="-33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секунд. Специфика предприятия «Авто-2010» заключается в том, что там одновременно может изготавливаться лишь одна деталь двигателя. Для производства некоторых деталей необходимо иметь предварительно изготовленный набор других детал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Генеральный директор «Авто-2010» поставил перед предприятием амбициозную задачу — за наименьшее время изготовить деталь с номером 1, чтобы представить её на выставк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Требуется написать программу, которая по заданным зависимостям порядка производства между деталями найдёт наименьшее время, за которое можно произвести деталь с номером 1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Первая строка входного файла </a:t>
            </a:r>
            <a:r>
              <a:rPr b="0" i="1" lang="pl-PL" sz="2000" spc="-1" strike="noStrike">
                <a:solidFill>
                  <a:srgbClr val="ffffff"/>
                </a:solidFill>
                <a:latin typeface="Arial"/>
              </a:rPr>
              <a:t>details.i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содержит число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(1 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 10 000) — количество деталей двигателя. Вторая строка содержит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натуральных чисел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l-PL" sz="2000" spc="-1" strike="noStrike" baseline="-33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l-PL" sz="2000" spc="-1" strike="noStrike" baseline="-33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…,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33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определяющих время изготовления каждой детали в секундах. Время для изготовления каждой детали не превосходит 10</a:t>
            </a:r>
            <a:r>
              <a:rPr b="0" lang="pl-PL" sz="2000" spc="-1" strike="noStrike" baseline="33000">
                <a:solidFill>
                  <a:srgbClr val="ffffff"/>
                </a:solidFill>
                <a:latin typeface="Arial"/>
              </a:rPr>
              <a:t>9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секунд. Каждая из последующих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строк входного файла описывает характеристики производства деталей. Здесь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-я строка содержит число деталей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pl-PL" sz="2000" spc="-1" strike="noStrike" baseline="-33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которые требуются для производства детали с номером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а также их номера. Сумма всех чисел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pl-PL" sz="2000" spc="-1" strike="noStrike" baseline="-33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не превосходит 200000. Известно, что не существует циклических зависимостей в производстве дета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В первой строке выходного файла </a:t>
            </a:r>
            <a:r>
              <a:rPr b="0" i="1" lang="pl-PL" sz="2000" spc="-1" strike="noStrike">
                <a:solidFill>
                  <a:srgbClr val="ffffff"/>
                </a:solidFill>
                <a:latin typeface="Arial"/>
              </a:rPr>
              <a:t>details.out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должны содержаться два числа: минимальное время ( в секундах), необходимое для скорейшего производства детали с номером 1 и число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деталей, которые необходимы для этого производства. Во второй строке требуется вывести через пробел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чисел — номера деталей в том порядке, в котором их следует производить для скорейшего производтсва детали с номером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Ограничение по времени — 2 сек. Ограничение по памяти — 64 М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20720" y="1440000"/>
          <a:ext cx="8819640" cy="5319360"/>
        </p:xfrm>
        <a:graphic>
          <a:graphicData uri="http://schemas.openxmlformats.org/drawingml/2006/table">
            <a:tbl>
              <a:tblPr/>
              <a:tblGrid>
                <a:gridCol w="4408920"/>
                <a:gridCol w="4410720"/>
              </a:tblGrid>
              <a:tr h="472320"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details.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details.ou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1806120"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100 200 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1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2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300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1477440"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1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5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2134800"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3 4 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3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1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1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9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3 2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рс «Базовые алгоритмы для школьников» (Станкевич А. С., Абакумов К. В., Мухачёва М. А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Интернет-уинверситет информационных технологий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www.intuit.ru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department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algorithms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basicalgos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Нахождение компонент связнос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340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первой строке файла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in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заданы целые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— соответственно число вершин и число рёбер  неориентированного графа (1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10 000, 0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50 000). В следующих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строках файла заданы пары номеров вершин, соединённых рёбр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файл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ut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вывести единственное число — количество компонент связности граф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времени — 1 с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памяти — 16 М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1768320"/>
            <a:ext cx="9720360" cy="4948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Сколько различных путей есть в дереве с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вершинам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акое максимальное количество циклов (длиной 3 и более) может быть в неориентированном графе с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вершинам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акое максимальное количество циклов (длиной 3 и более) может быть в неориентированном графе с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вершинами и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компонентами связност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Написать программу, определяющую количество компонент связности, с использованием матрицы смежн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Написать программу, определяющую максимальный размер компоненты связности, с использованием списка смежн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56000" cy="111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Дан ориентированный ациклический гра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940360" y="2160720"/>
            <a:ext cx="3714840" cy="4038480"/>
            <a:chOff x="5940360" y="2160720"/>
            <a:chExt cx="3714840" cy="4038480"/>
          </a:xfrm>
        </p:grpSpPr>
        <p:sp>
          <p:nvSpPr>
            <p:cNvPr id="139" name=""/>
            <p:cNvSpPr/>
            <p:nvPr/>
          </p:nvSpPr>
          <p:spPr>
            <a:xfrm>
              <a:off x="6480000" y="216072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5435640"/>
              <a:ext cx="47448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180360" y="234000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594640" y="4248000"/>
              <a:ext cx="474840" cy="47484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40360" y="378000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163000" y="5724360"/>
              <a:ext cx="474480" cy="47484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45" name=""/>
            <p:cNvCxnSpPr>
              <a:stCxn id="141" idx="1"/>
              <a:endCxn id="139" idx="7"/>
            </p:cNvCxnSpPr>
            <p:nvPr/>
          </p:nvCxnSpPr>
          <p:spPr>
            <a:xfrm flipH="1" flipV="1">
              <a:off x="6887520" y="2229840"/>
              <a:ext cx="2359800" cy="1767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6" name=""/>
            <p:cNvCxnSpPr>
              <a:endCxn id="143" idx="6"/>
            </p:cNvCxnSpPr>
            <p:nvPr/>
          </p:nvCxnSpPr>
          <p:spPr>
            <a:xfrm flipH="1">
              <a:off x="6416280" y="2579400"/>
              <a:ext cx="2761200" cy="14374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7" name=""/>
            <p:cNvCxnSpPr>
              <a:stCxn id="141" idx="3"/>
              <a:endCxn id="140" idx="7"/>
            </p:cNvCxnSpPr>
            <p:nvPr/>
          </p:nvCxnSpPr>
          <p:spPr>
            <a:xfrm flipH="1">
              <a:off x="6562080" y="2746440"/>
              <a:ext cx="2685240" cy="27583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8" name=""/>
            <p:cNvCxnSpPr>
              <a:stCxn id="142" idx="1"/>
              <a:endCxn id="139" idx="6"/>
            </p:cNvCxnSpPr>
            <p:nvPr/>
          </p:nvCxnSpPr>
          <p:spPr>
            <a:xfrm flipH="1" flipV="1">
              <a:off x="6955560" y="2397960"/>
              <a:ext cx="1707480" cy="19170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9" name=""/>
            <p:cNvCxnSpPr>
              <a:stCxn id="139" idx="4"/>
              <a:endCxn id="143" idx="0"/>
            </p:cNvCxnSpPr>
            <p:nvPr/>
          </p:nvCxnSpPr>
          <p:spPr>
            <a:xfrm flipH="1">
              <a:off x="6177960" y="2637000"/>
              <a:ext cx="538920" cy="11419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41" idx="4"/>
              <a:endCxn id="142" idx="7"/>
            </p:cNvCxnSpPr>
            <p:nvPr/>
          </p:nvCxnSpPr>
          <p:spPr>
            <a:xfrm flipH="1">
              <a:off x="9000360" y="2815920"/>
              <a:ext cx="416520" cy="15008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1" name=""/>
            <p:cNvCxnSpPr>
              <a:stCxn id="142" idx="4"/>
              <a:endCxn id="144" idx="0"/>
            </p:cNvCxnSpPr>
            <p:nvPr/>
          </p:nvCxnSpPr>
          <p:spPr>
            <a:xfrm flipH="1">
              <a:off x="8400240" y="4724280"/>
              <a:ext cx="430920" cy="9990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2" name=""/>
            <p:cNvCxnSpPr>
              <a:stCxn id="143" idx="4"/>
              <a:endCxn id="140" idx="0"/>
            </p:cNvCxnSpPr>
            <p:nvPr/>
          </p:nvCxnSpPr>
          <p:spPr>
            <a:xfrm>
              <a:off x="6178320" y="4255920"/>
              <a:ext cx="214920" cy="1178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3" name=""/>
            <p:cNvCxnSpPr>
              <a:stCxn id="144" idx="1"/>
              <a:endCxn id="139" idx="5"/>
            </p:cNvCxnSpPr>
            <p:nvPr/>
          </p:nvCxnSpPr>
          <p:spPr>
            <a:xfrm flipH="1" flipV="1">
              <a:off x="6885720" y="2566800"/>
              <a:ext cx="1343880" cy="32248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4" name=""/>
            <p:cNvCxnSpPr>
              <a:stCxn id="144" idx="2"/>
              <a:endCxn id="140" idx="6"/>
            </p:cNvCxnSpPr>
            <p:nvPr/>
          </p:nvCxnSpPr>
          <p:spPr>
            <a:xfrm flipH="1" flipV="1">
              <a:off x="6632280" y="5672880"/>
              <a:ext cx="1529280" cy="288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</p:grpSp>
      <p:sp>
        <p:nvSpPr>
          <p:cNvPr id="155" name=""/>
          <p:cNvSpPr/>
          <p:nvPr/>
        </p:nvSpPr>
        <p:spPr>
          <a:xfrm>
            <a:off x="503280" y="3208320"/>
            <a:ext cx="4535280" cy="36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 u="sng">
                <a:solidFill>
                  <a:srgbClr val="ffffff"/>
                </a:solidFill>
                <a:uFillTx/>
                <a:latin typeface="Arial"/>
              </a:rPr>
              <a:t>Топологической сортировкой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называется присвоение номеров вершинам: любая дуга направлена из вершины с меньшим номером в вершину с бóльшим номер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580000" y="1800360"/>
            <a:ext cx="4292640" cy="4647960"/>
            <a:chOff x="5580000" y="1800360"/>
            <a:chExt cx="4292640" cy="4647960"/>
          </a:xfrm>
        </p:grpSpPr>
        <p:sp>
          <p:nvSpPr>
            <p:cNvPr id="157" name=""/>
            <p:cNvSpPr/>
            <p:nvPr/>
          </p:nvSpPr>
          <p:spPr>
            <a:xfrm>
              <a:off x="9539280" y="208908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072720" y="439272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604360" y="604836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00720" y="180036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580000" y="352908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59280" y="5329080"/>
              <a:ext cx="33372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535280" cy="48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Почему это возможн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3280" y="2489040"/>
            <a:ext cx="399564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Всегда найдётся вершина, в которую не входит ни одно ребр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480000" y="1800360"/>
            <a:ext cx="2876760" cy="2490480"/>
            <a:chOff x="6480000" y="1800360"/>
            <a:chExt cx="2876760" cy="2490480"/>
          </a:xfrm>
        </p:grpSpPr>
        <p:sp>
          <p:nvSpPr>
            <p:cNvPr id="167" name=""/>
            <p:cNvSpPr/>
            <p:nvPr/>
          </p:nvSpPr>
          <p:spPr>
            <a:xfrm>
              <a:off x="6480000" y="216072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380360" y="3816360"/>
              <a:ext cx="47448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881920" y="180036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81920" y="378000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63000" y="2519280"/>
              <a:ext cx="474480" cy="47484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2" name=""/>
            <p:cNvCxnSpPr>
              <a:stCxn id="169" idx="1"/>
              <a:endCxn id="167" idx="6"/>
            </p:cNvCxnSpPr>
            <p:nvPr/>
          </p:nvCxnSpPr>
          <p:spPr>
            <a:xfrm flipH="1">
              <a:off x="6957720" y="1870200"/>
              <a:ext cx="1991520" cy="5277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70" idx="0"/>
              <a:endCxn id="169" idx="4"/>
            </p:cNvCxnSpPr>
            <p:nvPr/>
          </p:nvCxnSpPr>
          <p:spPr>
            <a:xfrm flipV="1">
              <a:off x="9119880" y="2275920"/>
              <a:ext cx="1080" cy="15022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71" idx="4"/>
              <a:endCxn id="170" idx="1"/>
            </p:cNvCxnSpPr>
            <p:nvPr/>
          </p:nvCxnSpPr>
          <p:spPr>
            <a:xfrm>
              <a:off x="8400960" y="2995560"/>
              <a:ext cx="550080" cy="853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68" idx="7"/>
              <a:endCxn id="171" idx="3"/>
            </p:cNvCxnSpPr>
            <p:nvPr/>
          </p:nvCxnSpPr>
          <p:spPr>
            <a:xfrm flipV="1">
              <a:off x="7786800" y="2925000"/>
              <a:ext cx="444960" cy="9579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6" name=""/>
            <p:cNvCxnSpPr>
              <a:stCxn id="177" idx="2"/>
              <a:endCxn id="168" idx="1"/>
            </p:cNvCxnSpPr>
            <p:nvPr/>
          </p:nvCxnSpPr>
          <p:spPr>
            <a:xfrm>
              <a:off x="7022880" y="3489480"/>
              <a:ext cx="425880" cy="3960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77" name=""/>
            <p:cNvSpPr/>
            <p:nvPr/>
          </p:nvSpPr>
          <p:spPr>
            <a:xfrm>
              <a:off x="6840360" y="3060720"/>
              <a:ext cx="363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03280" y="4649760"/>
            <a:ext cx="399564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Такой вершине можно присвоить минимальное значение, после чего убрать её из граф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002280" y="4707000"/>
            <a:ext cx="3677040" cy="2454120"/>
            <a:chOff x="6002280" y="4707000"/>
            <a:chExt cx="3677040" cy="2454120"/>
          </a:xfrm>
        </p:grpSpPr>
        <p:sp>
          <p:nvSpPr>
            <p:cNvPr id="180" name=""/>
            <p:cNvSpPr/>
            <p:nvPr/>
          </p:nvSpPr>
          <p:spPr>
            <a:xfrm>
              <a:off x="7738920" y="596592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199280" y="668664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02280" y="5543640"/>
              <a:ext cx="474840" cy="474480"/>
            </a:xfrm>
            <a:prstGeom prst="ellipse">
              <a:avLst/>
            </a:prstGeom>
            <a:solidFill>
              <a:srgbClr val="94bd5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20120" y="4707000"/>
              <a:ext cx="47448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4" name=""/>
            <p:cNvCxnSpPr>
              <a:stCxn id="182" idx="6"/>
              <a:endCxn id="180" idx="2"/>
            </p:cNvCxnSpPr>
            <p:nvPr/>
          </p:nvCxnSpPr>
          <p:spPr>
            <a:xfrm>
              <a:off x="6478200" y="5783400"/>
              <a:ext cx="1258200" cy="419760"/>
            </a:xfrm>
            <a:prstGeom prst="straightConnector1">
              <a:avLst/>
            </a:prstGeom>
            <a:ln w="36000">
              <a:solidFill>
                <a:srgbClr val="0000f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85" name=""/>
            <p:cNvCxnSpPr>
              <a:stCxn id="182" idx="5"/>
              <a:endCxn id="181" idx="1"/>
            </p:cNvCxnSpPr>
            <p:nvPr/>
          </p:nvCxnSpPr>
          <p:spPr>
            <a:xfrm>
              <a:off x="6408720" y="5949720"/>
              <a:ext cx="859680" cy="805320"/>
            </a:xfrm>
            <a:prstGeom prst="straightConnector1">
              <a:avLst/>
            </a:prstGeom>
            <a:ln w="36000">
              <a:solidFill>
                <a:srgbClr val="0000f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86" name=""/>
            <p:cNvCxnSpPr>
              <a:stCxn id="180" idx="6"/>
            </p:cNvCxnSpPr>
            <p:nvPr/>
          </p:nvCxnSpPr>
          <p:spPr>
            <a:xfrm flipV="1">
              <a:off x="8215200" y="6070320"/>
              <a:ext cx="1464480" cy="1324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87" name=""/>
            <p:cNvCxnSpPr>
              <a:stCxn id="182" idx="7"/>
              <a:endCxn id="183" idx="2"/>
            </p:cNvCxnSpPr>
            <p:nvPr/>
          </p:nvCxnSpPr>
          <p:spPr>
            <a:xfrm flipV="1">
              <a:off x="6408360" y="4944960"/>
              <a:ext cx="1212120" cy="665640"/>
            </a:xfrm>
            <a:prstGeom prst="straightConnector1">
              <a:avLst/>
            </a:prstGeom>
            <a:ln w="36000">
              <a:solidFill>
                <a:srgbClr val="0000f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88" name=""/>
            <p:cNvCxnSpPr>
              <a:stCxn id="183" idx="6"/>
            </p:cNvCxnSpPr>
            <p:nvPr/>
          </p:nvCxnSpPr>
          <p:spPr>
            <a:xfrm>
              <a:off x="8096040" y="4944960"/>
              <a:ext cx="1391040" cy="331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89" name=""/>
            <p:cNvCxnSpPr>
              <a:stCxn id="181" idx="6"/>
            </p:cNvCxnSpPr>
            <p:nvPr/>
          </p:nvCxnSpPr>
          <p:spPr>
            <a:xfrm flipV="1">
              <a:off x="7674120" y="6832080"/>
              <a:ext cx="2002320" cy="91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0" name=""/>
            <p:cNvCxnSpPr>
              <a:stCxn id="183" idx="4"/>
              <a:endCxn id="180" idx="0"/>
            </p:cNvCxnSpPr>
            <p:nvPr/>
          </p:nvCxnSpPr>
          <p:spPr>
            <a:xfrm>
              <a:off x="7858080" y="5182920"/>
              <a:ext cx="118080" cy="7815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</p:grpSp>
    </p:spTree>
  </p:cSld>
  <p:transition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Как быстро определить вершины, в которые не входит ни одно ребр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4720" y="2849400"/>
            <a:ext cx="9070920" cy="21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Будем хранить входящую степень каждой вершин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массив </a:t>
            </a:r>
            <a:r>
              <a:rPr b="0" lang="pl-PL" sz="3200" spc="-1" strike="noStrike">
                <a:solidFill>
                  <a:srgbClr val="ffffff"/>
                </a:solidFill>
                <a:latin typeface="FreeMono"/>
              </a:rPr>
              <a:t>deg_in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длины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3200" spc="-1" strike="noStrike">
                <a:solidFill>
                  <a:srgbClr val="ffffff"/>
                </a:solidFill>
                <a:latin typeface="FreeMono"/>
              </a:rPr>
              <a:t>deg_in[i]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— число соседей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-й верши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7720" y="5184720"/>
            <a:ext cx="4383360" cy="22798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a[u, v] := Tru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Inc(deg_in[v]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57720" y="5184720"/>
            <a:ext cx="4202280" cy="22798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a[u, v] = </a:t>
            </a:r>
            <a:r>
              <a:rPr b="1" lang="pl-PL" sz="2400" spc="-1" strike="noStrike">
                <a:solidFill>
                  <a:srgbClr val="ffffff"/>
                </a:solidFill>
                <a:latin typeface="FreeMono"/>
              </a:rPr>
              <a:t>TRUE</a:t>
            </a: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deg_in[v]++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8920" y="1440000"/>
            <a:ext cx="9720360" cy="9316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0200" indent="-324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массив </a:t>
            </a:r>
            <a:r>
              <a:rPr b="0" lang="pl-PL" sz="2000" spc="-1" strike="noStrike">
                <a:solidFill>
                  <a:srgbClr val="ffffff"/>
                </a:solidFill>
                <a:latin typeface="FreeMono"/>
              </a:rPr>
              <a:t>order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длины </a:t>
            </a:r>
            <a:r>
              <a:rPr b="0" lang="pl-PL" sz="2000" spc="-1" strike="noStrike">
                <a:solidFill>
                  <a:srgbClr val="ffffff"/>
                </a:solidFill>
                <a:latin typeface="FreeMono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ffffff"/>
                </a:solidFill>
                <a:latin typeface="FreeMono"/>
              </a:rPr>
              <a:t>order[i]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— присвоенный 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-й вершине порядковый номер при топологической сортировк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8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FreeMono"/>
              </a:rPr>
              <a:t>currorder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— текущий присваиваемый номе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0360" y="2448000"/>
            <a:ext cx="4680000" cy="50464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i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order[i] :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urrorder :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TopSor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TopSor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i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j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(deg_in[j] = 0)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order[j] = 0)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be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Inc(currorder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order[j] := currord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u - сосед j-й вершины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ec(deg_in[u]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nd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57720" y="2448000"/>
            <a:ext cx="4741920" cy="50464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i = 0; i &lt; n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order[i]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urrorder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TopSor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TopSor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i = 0; i &lt; n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j = 0; j &lt; n; j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(!deg_in[j]) &amp;&amp; (!order[j]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order[j] = ++currord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u - сосед i-й вершины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eg_in[u]--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60360" y="1768320"/>
            <a:ext cx="936000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первой строке файла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in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заданы целые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— соответственно число вершин и число рёбер  ориентированного графа (1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10 000, 0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50 000). В следующих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строках файла заданы пары номеров вершин, соединённых рёбр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файл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ut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вывести номера, которые приобретут вершины после топологической сортировки.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-е число означает номер, приобретённый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-й верши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времени — 3 с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памяти — 16 М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60360" y="1768320"/>
            <a:ext cx="936000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первой строке файла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in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заданы целые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— соответственно число вершин и число рёбер  ориентированного графа (1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10 000, 0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50 000). В следующ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х m строках файла заданы пары номеров вершин, соединённых рёбра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файл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ut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вывести упорядоченные топологически номера верш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времени — 3 с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памяти — 16 М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1:20:17Z</dcterms:created>
  <dc:creator>Югов Иван Олегович</dc:creator>
  <dc:description>Некоторые права защищены. Данная работа распространяется под лицензией Creative Commons Attribution 2.0
Фоновое изображение: Peter Asplund
---
Art Creative Commons Some rights reserved. This work is licensed under a Creative Commons Attribution License 2.0.
Background by Peter Asplund
</dc:description>
  <cp:keywords>граф теория программирование graph theory programming</cp:keywords>
  <dc:language>en-US</dc:language>
  <cp:lastModifiedBy>Крылова Г. А.</cp:lastModifiedBy>
  <dcterms:modified xsi:type="dcterms:W3CDTF">2011-12-20T07:47:22Z</dcterms:modified>
  <cp:revision>206</cp:revision>
  <dc:subject>Теория графов: топологическая сортировка отсечением вершин</dc:subject>
  <dc:title>Теория граф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Язык">
    <vt:lpwstr>русский</vt:lpwstr>
  </property>
</Properties>
</file>