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3C975-9D81-4D6B-8C05-B04CB076205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раткое содержание предыдущего занят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нятие граф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иентированные и неориентриованны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вязность (в каком типе графа?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циклически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ставление графов в программе: матрица смежности, массив смежности, список смежности (мультиспис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иск в глубину и нахождение с его помощью компонент связ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сюда можно приспособить графы? А топологическую сортировку? Сильно ли усложнена задача временами производства детал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нтисимметричность, транзитивность и отношение поряд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можно топологически отсортировать данный граф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Где можно использовать данный алгоритм? Была задача про производство деталей, она пойдёт на дом. Также используется для разрешения зависимостей пакетов в системах Lin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такая найдё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Такой вершине можно присвоить минимальное значение, после чего убрать её из графа, а также все исходёщие из неё рёбра. Циклы от этого не появятся. Убранная вершина никак не повлияет на результат, т. к. у неё заведомо минимальный ном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и считывании графа в память будем увеличивать входящие степ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Что ещё нужно сделать? Занулить масси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для массива смежности. Как сделать для списка смеж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 сколько работает данный алгоритм? За n^2.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не самый быстрый способ топологически отсортировать массив. Позже мы пройдём ещё один спосо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граничение по времени свободн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 Как не использовать сортировку перед выводом результа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4C8-826B-43B1-BF82-3D7007D6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6A4-C508-4B03-B3A7-9159F7FD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904-F90C-4BED-BBDD-C8EE6241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2C0-01FE-4440-ADD3-26B5B1D3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01D3-87D3-47B2-9BA3-EDE0CDBD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1E33-1E42-4A2C-8988-93E01B7E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E77F-D5AF-45CC-AE47-35A37CCE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33EF-D191-44CE-A609-053D1565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903A-2936-48E4-8BC6-19BF29A4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EF20-01D0-45F4-9275-E0D8E383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EFD9-D8B1-460A-A6F6-DE5996EC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1F5-9C72-4B26-BEB9-CD1E214A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33D5-18BF-4B04-BB28-89D397A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0465-9F6E-46FF-80B8-1C19F553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2C48-DC61-4324-8C7C-419FFA42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87EE-5572-476D-84CF-B347255C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0EA9-CAC0-49D4-8F1C-A17BF5B0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5833-4F29-4CB3-A36A-532A0520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0C3E7-277E-4E04-8186-1F5AB7DA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D714D-19F6-43F8-AB4A-1BFB0FE0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A5F5-5366-46CB-9D8C-5A60B699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A97CC-62D6-43A3-83B8-4949C3A4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1BA-79F7-4D97-90E8-2BE6B127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288C3-9A4E-4685-8CFA-1FFA9859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5030C-CD82-4FCC-87BF-CC7B8D21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4BA54-D74B-4E34-B205-92E4A23C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A1260-D93D-4077-8567-992E318B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4604D-33FE-48A0-9E67-C7A048A9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D0C80-F610-4B1E-819E-225D85A4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A51A-DDB4-4084-81CB-41C739E6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E5A-48F2-4BAC-8398-8203AAAA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049-FE10-4E2D-8360-4401D7E3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B4E0-01B9-4F85-A3F2-DA9E470E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C24-69D3-4CA2-AF51-C7BB0C94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2C6-B655-4151-96EC-B42606C6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46FB-34CA-4424-9F03-84A097D5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45B02-CED4-4E5E-A241-169D28CDED96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5CA77-2686-4293-997A-C4250C49FF0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A4600-A447-4307-A447-AE73C0FDFB9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tuit.ru/department/algorithms/basicalgos/" TargetMode="External"/><Relationship Id="rId3" Type="http://schemas.openxmlformats.org/officeDocument/2006/relationships/hyperlink" Target="http://www.intuit.ru/department/algorithms/basicalgos/" TargetMode="External"/><Relationship Id="rId4" Type="http://schemas.openxmlformats.org/officeDocument/2006/relationships/hyperlink" Target="http://www.intuit.ru/department/algorithms/basicalgos/" TargetMode="External"/><Relationship Id="rId5" Type="http://schemas.openxmlformats.org/officeDocument/2006/relationships/hyperlink" Target="http://www.intuit.ru/department/algorithms/basicalgos/" TargetMode="External"/><Relationship Id="rId6" Type="http://schemas.openxmlformats.org/officeDocument/2006/relationships/hyperlink" Target="http://www.intuit.ru/department/algorithms/basicalgos/" TargetMode="External"/><Relationship Id="rId7" Type="http://schemas.openxmlformats.org/officeDocument/2006/relationships/hyperlink" Target="http://www.intuit.ru/department/algorithms/basicalgos/" TargetMode="External"/><Relationship Id="rId8" Type="http://schemas.openxmlformats.org/officeDocument/2006/relationships/hyperlink" Target="http://www.intuit.ru/department/algorithms/basicalgos/" TargetMode="External"/><Relationship Id="rId9" Type="http://schemas.openxmlformats.org/officeDocument/2006/relationships/hyperlink" Target="http://www.intuit.ru/department/algorithms/basicalgos/" TargetMode="External"/><Relationship Id="rId10" Type="http://schemas.openxmlformats.org/officeDocument/2006/relationships/hyperlink" Target="http://www.intuit.ru/department/algorithms/basicalgos/" TargetMode="External"/><Relationship Id="rId11" Type="http://schemas.openxmlformats.org/officeDocument/2006/relationships/hyperlink" Target="http://www.intuit.ru/department/algorithms/basicalgos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Топологическая сортировка отсечением верш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56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Предприятие «Авто-2010» выпускает двигатели известных во всём мире автомобилей. Двигатель состоит ровно из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деталей, пронумерованных от 1 до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, при этом деталь с номером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изготавливается за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2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секунд. Специфика предприятия «Авто-2010» заключается в том, что там одновременно может изготавливаться лишь одна деталь двигателя. Для производства некоторых деталей необходимо иметь предварительно изготовленный набор других дета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Генеральный директор «Авто-2010» поставил перед предприятием амбициозную задачу — за наименьшее время изготовить деталь с номером 1, чтобы представить её на выстав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Требуется написать программу, которая по заданным зависимостям порядка производства между деталями найдёт наименьшее время, за которое можно произвести деталь с номером 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Первая строка в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i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одержит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1 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10 000) — количество деталей двигателя. Вторая строка содержит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атуральны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…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определяющих время изготовления каждой детали в секундах. Время для изготовления каждой детали не превосходит 10</a:t>
            </a:r>
            <a:r>
              <a:rPr b="0" lang="pl-PL" sz="2000" spc="-1" strike="noStrike" baseline="33000">
                <a:solidFill>
                  <a:srgbClr val="ffffff"/>
                </a:solidFill>
                <a:latin typeface="Arial"/>
              </a:rPr>
              <a:t>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екунд. Каждая из последующи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трок входного файла описывает характеристики производства деталей. Здесь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я строка содержит число деталей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которые требуются для производства детали с номером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а также их номера. Сумма все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е превосходит 200000. Известно, что не существует циклических зависимостей в производстве дета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В первой строке вы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out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олжны содержаться два числа: минимальное время ( в секундах), необходимое для скорейшего производства детали с номером 1 и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еталей, которые необходимы для этого производства. Во второй строке требуется вывести через проб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чисел — номера деталей в том порядке, в котором их следует производить для скорейшего производтсва детали с номером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Ограничение по времени — 2 сек. Ограничение по памяти — 64 М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20720" y="1440000"/>
          <a:ext cx="8819640" cy="5319360"/>
        </p:xfrm>
        <a:graphic>
          <a:graphicData uri="http://schemas.openxmlformats.org/drawingml/2006/table">
            <a:tbl>
              <a:tblPr/>
              <a:tblGrid>
                <a:gridCol w="4408920"/>
                <a:gridCol w="4410720"/>
              </a:tblGrid>
              <a:tr h="4723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80612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00 200 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00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47744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5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13480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4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9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 «Базовые алгоритмы для школьников» (Станкевич А. С., Абакумов К. В., Мухачёва М. А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Интернет-уинверситет информационных технолог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intuit.ru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epartment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algorithm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basicalgo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Нахождение компонент связ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не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единственное число — количество компонент связности граф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768320"/>
            <a:ext cx="9720360" cy="4948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Сколько различных путей есть в дерев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 и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компонентами связност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количество компонент связности, с использованием матрицы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максимальный размер компоненты связности, с использованием списка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5600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Дан ориентированный ациклический гра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940360" y="2160720"/>
            <a:ext cx="3714840" cy="4038480"/>
            <a:chOff x="5940360" y="2160720"/>
            <a:chExt cx="3714840" cy="4038480"/>
          </a:xfrm>
        </p:grpSpPr>
        <p:sp>
          <p:nvSpPr>
            <p:cNvPr id="139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543564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80360" y="234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94640" y="4248000"/>
              <a:ext cx="47484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036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63000" y="572436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5" name=""/>
            <p:cNvCxnSpPr>
              <a:stCxn id="141" idx="1"/>
              <a:endCxn id="139" idx="7"/>
            </p:cNvCxnSpPr>
            <p:nvPr/>
          </p:nvCxnSpPr>
          <p:spPr>
            <a:xfrm flipH="1" flipV="1">
              <a:off x="6887520" y="2229840"/>
              <a:ext cx="2359800" cy="176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endCxn id="143" idx="6"/>
            </p:cNvCxnSpPr>
            <p:nvPr/>
          </p:nvCxnSpPr>
          <p:spPr>
            <a:xfrm flipH="1">
              <a:off x="6416280" y="2579400"/>
              <a:ext cx="2761200" cy="1437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41" idx="3"/>
              <a:endCxn id="140" idx="7"/>
            </p:cNvCxnSpPr>
            <p:nvPr/>
          </p:nvCxnSpPr>
          <p:spPr>
            <a:xfrm flipH="1">
              <a:off x="6562080" y="2746440"/>
              <a:ext cx="2685240" cy="2758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2" idx="1"/>
              <a:endCxn id="139" idx="6"/>
            </p:cNvCxnSpPr>
            <p:nvPr/>
          </p:nvCxnSpPr>
          <p:spPr>
            <a:xfrm flipH="1" flipV="1">
              <a:off x="6955560" y="2397960"/>
              <a:ext cx="1707480" cy="1917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39" idx="4"/>
              <a:endCxn id="143" idx="0"/>
            </p:cNvCxnSpPr>
            <p:nvPr/>
          </p:nvCxnSpPr>
          <p:spPr>
            <a:xfrm flipH="1">
              <a:off x="6177960" y="2637000"/>
              <a:ext cx="538920" cy="1141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1" idx="4"/>
              <a:endCxn id="142" idx="7"/>
            </p:cNvCxnSpPr>
            <p:nvPr/>
          </p:nvCxnSpPr>
          <p:spPr>
            <a:xfrm flipH="1">
              <a:off x="9000360" y="2815920"/>
              <a:ext cx="416520" cy="1500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2" idx="4"/>
              <a:endCxn id="144" idx="0"/>
            </p:cNvCxnSpPr>
            <p:nvPr/>
          </p:nvCxnSpPr>
          <p:spPr>
            <a:xfrm flipH="1">
              <a:off x="8400240" y="4724280"/>
              <a:ext cx="430920" cy="999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3" idx="4"/>
              <a:endCxn id="140" idx="0"/>
            </p:cNvCxnSpPr>
            <p:nvPr/>
          </p:nvCxnSpPr>
          <p:spPr>
            <a:xfrm>
              <a:off x="6178320" y="4255920"/>
              <a:ext cx="214920" cy="1178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4" idx="1"/>
              <a:endCxn id="139" idx="5"/>
            </p:cNvCxnSpPr>
            <p:nvPr/>
          </p:nvCxnSpPr>
          <p:spPr>
            <a:xfrm flipH="1" flipV="1">
              <a:off x="6885720" y="2566800"/>
              <a:ext cx="1343880" cy="32248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4" idx="2"/>
              <a:endCxn id="140" idx="6"/>
            </p:cNvCxnSpPr>
            <p:nvPr/>
          </p:nvCxnSpPr>
          <p:spPr>
            <a:xfrm flipH="1" flipV="1">
              <a:off x="6632280" y="5672880"/>
              <a:ext cx="1529280" cy="288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55" name=""/>
          <p:cNvSpPr/>
          <p:nvPr/>
        </p:nvSpPr>
        <p:spPr>
          <a:xfrm>
            <a:off x="503280" y="3208320"/>
            <a:ext cx="45352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ffffff"/>
                </a:solidFill>
                <a:uFillTx/>
                <a:latin typeface="Arial"/>
              </a:rPr>
              <a:t>Топологической сортировкой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называется присвоение номеров вершинам: любая дуга направлена из вершины с меньшим номером в вершину с бóльшим ном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580000" y="1800360"/>
            <a:ext cx="4292640" cy="4647960"/>
            <a:chOff x="5580000" y="1800360"/>
            <a:chExt cx="4292640" cy="4647960"/>
          </a:xfrm>
        </p:grpSpPr>
        <p:sp>
          <p:nvSpPr>
            <p:cNvPr id="157" name=""/>
            <p:cNvSpPr/>
            <p:nvPr/>
          </p:nvSpPr>
          <p:spPr>
            <a:xfrm>
              <a:off x="9539280" y="208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72720" y="439272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4360" y="6048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00720" y="1800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80000" y="352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59280" y="5329080"/>
              <a:ext cx="3337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535280" cy="48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Почему это возмож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2489040"/>
            <a:ext cx="39956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сегда найдётся вершина, в которую не входит ни одно реб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80000" y="1800360"/>
            <a:ext cx="2876760" cy="2490480"/>
            <a:chOff x="6480000" y="1800360"/>
            <a:chExt cx="2876760" cy="2490480"/>
          </a:xfrm>
        </p:grpSpPr>
        <p:sp>
          <p:nvSpPr>
            <p:cNvPr id="167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80360" y="381636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81920" y="180036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8192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63000" y="251928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9" idx="1"/>
              <a:endCxn id="167" idx="6"/>
            </p:cNvCxnSpPr>
            <p:nvPr/>
          </p:nvCxnSpPr>
          <p:spPr>
            <a:xfrm flipH="1">
              <a:off x="6957720" y="1870200"/>
              <a:ext cx="1991520" cy="527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0" idx="0"/>
              <a:endCxn id="169" idx="4"/>
            </p:cNvCxnSpPr>
            <p:nvPr/>
          </p:nvCxnSpPr>
          <p:spPr>
            <a:xfrm flipV="1">
              <a:off x="9119880" y="2275920"/>
              <a:ext cx="1080" cy="15022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71" idx="4"/>
              <a:endCxn id="170" idx="1"/>
            </p:cNvCxnSpPr>
            <p:nvPr/>
          </p:nvCxnSpPr>
          <p:spPr>
            <a:xfrm>
              <a:off x="8400960" y="2995560"/>
              <a:ext cx="550080" cy="853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8" idx="7"/>
              <a:endCxn id="171" idx="3"/>
            </p:cNvCxnSpPr>
            <p:nvPr/>
          </p:nvCxnSpPr>
          <p:spPr>
            <a:xfrm flipV="1">
              <a:off x="7786800" y="2925000"/>
              <a:ext cx="444960" cy="957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7" idx="2"/>
              <a:endCxn id="168" idx="1"/>
            </p:cNvCxnSpPr>
            <p:nvPr/>
          </p:nvCxnSpPr>
          <p:spPr>
            <a:xfrm>
              <a:off x="7022880" y="3489480"/>
              <a:ext cx="425880" cy="396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6840360" y="3060720"/>
              <a:ext cx="36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03280" y="4649760"/>
            <a:ext cx="3995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Такой вершине можно присвоить минимальное значение, после чего убрать её из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002280" y="4707000"/>
            <a:ext cx="3677040" cy="2454120"/>
            <a:chOff x="6002280" y="4707000"/>
            <a:chExt cx="3677040" cy="2454120"/>
          </a:xfrm>
        </p:grpSpPr>
        <p:sp>
          <p:nvSpPr>
            <p:cNvPr id="180" name=""/>
            <p:cNvSpPr/>
            <p:nvPr/>
          </p:nvSpPr>
          <p:spPr>
            <a:xfrm>
              <a:off x="7738920" y="59659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99280" y="668664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2280" y="5543640"/>
              <a:ext cx="474840" cy="47448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0120" y="470700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82" idx="6"/>
              <a:endCxn id="180" idx="2"/>
            </p:cNvCxnSpPr>
            <p:nvPr/>
          </p:nvCxnSpPr>
          <p:spPr>
            <a:xfrm>
              <a:off x="6478200" y="5783400"/>
              <a:ext cx="1258200" cy="41976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82" idx="5"/>
              <a:endCxn id="181" idx="1"/>
            </p:cNvCxnSpPr>
            <p:nvPr/>
          </p:nvCxnSpPr>
          <p:spPr>
            <a:xfrm>
              <a:off x="6408720" y="5949720"/>
              <a:ext cx="859680" cy="80532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6" name=""/>
            <p:cNvCxnSpPr>
              <a:stCxn id="180" idx="6"/>
            </p:cNvCxnSpPr>
            <p:nvPr/>
          </p:nvCxnSpPr>
          <p:spPr>
            <a:xfrm flipV="1">
              <a:off x="8215200" y="6070320"/>
              <a:ext cx="1464480" cy="132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82" idx="7"/>
              <a:endCxn id="183" idx="2"/>
            </p:cNvCxnSpPr>
            <p:nvPr/>
          </p:nvCxnSpPr>
          <p:spPr>
            <a:xfrm flipV="1">
              <a:off x="6408360" y="4944960"/>
              <a:ext cx="1212120" cy="66564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8" name=""/>
            <p:cNvCxnSpPr>
              <a:stCxn id="183" idx="6"/>
            </p:cNvCxnSpPr>
            <p:nvPr/>
          </p:nvCxnSpPr>
          <p:spPr>
            <a:xfrm>
              <a:off x="8096040" y="4944960"/>
              <a:ext cx="1391040" cy="331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81" idx="6"/>
            </p:cNvCxnSpPr>
            <p:nvPr/>
          </p:nvCxnSpPr>
          <p:spPr>
            <a:xfrm flipV="1">
              <a:off x="7674120" y="6832080"/>
              <a:ext cx="2002320" cy="9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3" idx="4"/>
              <a:endCxn id="180" idx="0"/>
            </p:cNvCxnSpPr>
            <p:nvPr/>
          </p:nvCxnSpPr>
          <p:spPr>
            <a:xfrm>
              <a:off x="7858080" y="5182920"/>
              <a:ext cx="118080" cy="781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быстро определить вершины, в которые не входит ни одно ребр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4720" y="2849400"/>
            <a:ext cx="907092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Будем хранить входящую степень каждой верши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[i]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— число соседе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й вер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7720" y="5184720"/>
            <a:ext cx="438336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:= 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Inc(deg_in[v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57720" y="5184720"/>
            <a:ext cx="420228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= </a:t>
            </a:r>
            <a:r>
              <a:rPr b="1" lang="pl-PL" sz="24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deg_in[v]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440000"/>
            <a:ext cx="972036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[i]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присвоенный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й вершине порядковый номер при топологической сортиров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curr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текущий присваиваемый ном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2448000"/>
            <a:ext cx="468000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deg_in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currorde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:= 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j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deg_in[u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57720" y="2448000"/>
            <a:ext cx="474192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(!deg_in[j]) &amp;&amp; (!order[j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= ++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i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g_in[u]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номера, которые приобретут вершины после топологической сортировки.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е число означает номер, приобретённы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й верши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х m строках файла заданы пары номеров вершин, соединённых рёбра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упорядоченные топологически номера верш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Крылова Г. А.</cp:lastModifiedBy>
  <dcterms:modified xsi:type="dcterms:W3CDTF">2011-12-20T07:47:22Z</dcterms:modified>
  <cp:revision>206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