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0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46DFC-2C34-40BC-8000-0E379211AFB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раткое содержание предыдущего занят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нятие граф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цикл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ориентированные и неориентриованные граф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вязность (в каком типе графа?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циклические граф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едставление графов в программе: матрица смежности, массив смежности, список смежности (мультиспис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иск в глубину и нахождение с его помощью компонент связ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сюда можно приспособить графы? А топологическую сортировку? Сильно ли усложнена задача временами производства детале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нтисимметричность, транзитивность и отношение поряд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можно топологически отсортировать данный граф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Где можно использовать данный алгоритм? Была задача про производство деталей, она пойдёт на дом. Также используется для разрешения зависимостей пакетов в системах Lin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такая найдётс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Такой вершине можно присвоить минимальное значение, после чего убрать её из графа, а также все исходёщие из неё рёбра. Циклы от этого не появятся. Убранная вершина никак не повлияет на результат, т. к. у неё заведомо минимальный номе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и считывании графа в память будем увеличивать входящие степе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Что ещё нужно сделать? Занулить масси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Это для массива смежности. Как сделать для списка смежност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а сколько работает данный алгоритм? За n^2. Почем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Это не самый быстрый способ топологически отсортировать массив. Позже мы пройдём ещё один спосо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Ограничение по времени свободн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азъяснение того, чтО нужно получи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азъяснение того, чтО нужно получить. Как не использовать сортировку перед выводом результат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DDDC-12AA-44F1-A763-FCD976D2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F96E-720D-4D63-9773-7F27B709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7D86-B7E0-4054-8600-A80556C8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52FF-A575-4448-A896-109B0697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11F4-3E9E-4B67-B766-824653F1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A50D-AB2C-44D2-B75B-34C3A15B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D559-B4E8-42CE-A72B-F17AD1E5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7F75-6602-4E74-BE9E-CDCB4B10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D414-D473-4BFF-8D67-E9A4DA12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7769-2F6B-4665-BCB2-8A4C6069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22E4-A62E-4856-9657-AEDD798B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DE8B-62BA-4FF9-A673-FCFB4524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CD72-6628-499B-83B5-06653102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C3B7-6C34-43B7-99FD-911C787A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89F5-4CB6-4B71-A854-61A01738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1EEB-41C0-438E-A614-9AAECBEB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F302-F5A0-4838-B0D1-93CB0B72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4E7FC-7EC4-4F7D-90D6-43A5C1E2D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2C4CA-7D21-43D4-B164-7A19B384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6CC45-47F3-45AE-BE60-24683DE4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EDB78-EB3A-4BD2-9F83-881B0E9C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6B89A-6F34-4F24-B785-AE154FA0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832E-F90E-453B-8E95-B3CBFBCE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0000C-940E-49FC-8C05-F34AF524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5F210-7FE0-4869-8065-9142E0BE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2A1E5-3ECB-4900-8BB0-BEEB0B82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889E7-7441-4A65-82B8-83E559CD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F0DA0-16D5-4A50-900D-FC76AEA2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DAD4A-AB78-4383-BA76-0400C6BA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E0A23-B9A8-4C41-991C-19B2F228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B655-E057-43F2-8EAB-6289F4B0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88C3-7A93-4215-9618-C56E7BAB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E239-E84D-48D5-9EC1-DB77BAF9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35DC-445C-4B2C-A008-7EBDEF82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70D7-0EA9-41BD-81F4-6D9EB94E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5F69-4A4C-4E11-8E0F-3762B324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7DC83-DC45-4829-BC44-2A543819571C}" type="slidenum">
              <a:rPr b="0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933BE-5133-47E4-ACE9-9DA3A27E5DF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4A4D6-7184-4FF6-9F80-C1077B00599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tuit.ru/department/algorithms/basicalgos/" TargetMode="External"/><Relationship Id="rId3" Type="http://schemas.openxmlformats.org/officeDocument/2006/relationships/hyperlink" Target="http://www.intuit.ru/department/algorithms/basicalgos/" TargetMode="External"/><Relationship Id="rId4" Type="http://schemas.openxmlformats.org/officeDocument/2006/relationships/hyperlink" Target="http://www.intuit.ru/department/algorithms/basicalgos/" TargetMode="External"/><Relationship Id="rId5" Type="http://schemas.openxmlformats.org/officeDocument/2006/relationships/hyperlink" Target="http://www.intuit.ru/department/algorithms/basicalgos/" TargetMode="External"/><Relationship Id="rId6" Type="http://schemas.openxmlformats.org/officeDocument/2006/relationships/hyperlink" Target="http://www.intuit.ru/department/algorithms/basicalgos/" TargetMode="External"/><Relationship Id="rId7" Type="http://schemas.openxmlformats.org/officeDocument/2006/relationships/hyperlink" Target="http://www.intuit.ru/department/algorithms/basicalgos/" TargetMode="External"/><Relationship Id="rId8" Type="http://schemas.openxmlformats.org/officeDocument/2006/relationships/hyperlink" Target="http://www.intuit.ru/department/algorithms/basicalgos/" TargetMode="External"/><Relationship Id="rId9" Type="http://schemas.openxmlformats.org/officeDocument/2006/relationships/hyperlink" Target="http://www.intuit.ru/department/algorithms/basicalgos/" TargetMode="External"/><Relationship Id="rId10" Type="http://schemas.openxmlformats.org/officeDocument/2006/relationships/hyperlink" Target="http://www.intuit.ru/department/algorithms/basicalgos/" TargetMode="External"/><Relationship Id="rId11" Type="http://schemas.openxmlformats.org/officeDocument/2006/relationships/hyperlink" Target="http://www.intuit.ru/department/algorithms/basicalgos/" TargetMode="Externa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03280" y="301680"/>
            <a:ext cx="9070920" cy="64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9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000" spc="-1" strike="noStrike">
                <a:solidFill>
                  <a:srgbClr val="ffffff"/>
                </a:solidFill>
                <a:latin typeface="Arial"/>
              </a:rPr>
              <a:t>Алгоритмы на графа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Топологическая сортировка отсечением верш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Югов Иван Олег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ОУ Гимназия №10, г. Тв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3564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Предприятие «Авто-2010» выпускает двигатели известных во всём мире автомобилей. Двигатель состоит ровно из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деталей, пронумерованных от 1 до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, при этом деталь с номером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изготавливается за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2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секунд. Специфика предприятия «Авто-2010» заключается в том, что там одновременно может изготавливаться лишь одна деталь двигателя. Для производства некоторых деталей необходимо иметь предварительно изготовленный набор других дета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Генеральный директор «Авто-2010» поставил перед предприятием амбициозную задачу — за наименьшее время изготовить деталь с номером 1, чтобы представить её на выставк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Требуется написать программу, которая по заданным зависимостям порядка производства между деталями найдёт наименьшее время, за которое можно произвести деталь с номером 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Первая строка входного файла 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details.i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одержит число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1 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 10 000) — количество деталей двигателя. Вторая строка содержит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натуральных чис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 baseline="-33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 baseline="-33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…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определяющих время изготовления каждой детали в секундах. Время для изготовления каждой детали не превосходит 10</a:t>
            </a:r>
            <a:r>
              <a:rPr b="0" lang="pl-PL" sz="2000" spc="-1" strike="noStrike" baseline="33000">
                <a:solidFill>
                  <a:srgbClr val="ffffff"/>
                </a:solidFill>
                <a:latin typeface="Arial"/>
              </a:rPr>
              <a:t>9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екунд. Каждая из последующих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трок входного файла описывает характеристики производства деталей. Здесь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я строка содержит число деталей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которые требуются для производства детали с номером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а также их номера. Сумма всех чис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не превосходит 200000. Известно, что не существует циклических зависимостей в производстве дета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В первой строке выходного файла 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details.out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олжны содержаться два числа: минимальное время ( в секундах), необходимое для скорейшего производства детали с номером 1 и число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еталей, которые необходимы для этого производства. Во второй строке требуется вывести через проб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чисел — номера деталей в том порядке, в котором их следует производить для скорейшего производтсва детали с номером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Ограничение по времени — 2 сек. Ограничение по памяти — 64 М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20720" y="1440000"/>
          <a:ext cx="8819640" cy="5319360"/>
        </p:xfrm>
        <a:graphic>
          <a:graphicData uri="http://schemas.openxmlformats.org/drawingml/2006/table">
            <a:tbl>
              <a:tblPr/>
              <a:tblGrid>
                <a:gridCol w="4408920"/>
                <a:gridCol w="4410720"/>
              </a:tblGrid>
              <a:tr h="472320"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details.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details.o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80612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00 200 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00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47744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5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213480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 4 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9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 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с «Базовые алгоритмы для школьников» (Станкевич А. С., Абакумов К. В., Мухачёва М. А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Интернет-уинверситет информационных технологи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ww.intuit.ru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department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algorithms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basicalgos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Нахождение компонент связн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340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не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единственное число — количество компонент связности граф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1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768320"/>
            <a:ext cx="9720360" cy="4948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Сколько различных путей есть в дерев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циклов (длиной 3 и более) может быть в неориентированн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циклов (длиной 3 и более) может быть в неориентированн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 и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компонентами связност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Написать программу, определяющую количество компонент связности, с использованием матрицы смеж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Написать программу, определяющую максимальный размер компоненты связности, с использованием списка смеж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56000" cy="111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Дан ориентированный ациклический гра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940360" y="2160720"/>
            <a:ext cx="3714840" cy="4038480"/>
            <a:chOff x="5940360" y="2160720"/>
            <a:chExt cx="3714840" cy="4038480"/>
          </a:xfrm>
        </p:grpSpPr>
        <p:sp>
          <p:nvSpPr>
            <p:cNvPr id="139" name=""/>
            <p:cNvSpPr/>
            <p:nvPr/>
          </p:nvSpPr>
          <p:spPr>
            <a:xfrm>
              <a:off x="6480000" y="21607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543564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180360" y="234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94640" y="4248000"/>
              <a:ext cx="47484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40360" y="378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63000" y="5724360"/>
              <a:ext cx="47448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5" name=""/>
            <p:cNvCxnSpPr>
              <a:stCxn id="141" idx="1"/>
              <a:endCxn id="139" idx="7"/>
            </p:cNvCxnSpPr>
            <p:nvPr/>
          </p:nvCxnSpPr>
          <p:spPr>
            <a:xfrm flipH="1" flipV="1">
              <a:off x="6887520" y="2229840"/>
              <a:ext cx="2359800" cy="176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6" name=""/>
            <p:cNvCxnSpPr>
              <a:endCxn id="143" idx="6"/>
            </p:cNvCxnSpPr>
            <p:nvPr/>
          </p:nvCxnSpPr>
          <p:spPr>
            <a:xfrm flipH="1">
              <a:off x="6416280" y="2579400"/>
              <a:ext cx="2761200" cy="14374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7" name=""/>
            <p:cNvCxnSpPr>
              <a:stCxn id="141" idx="3"/>
              <a:endCxn id="140" idx="7"/>
            </p:cNvCxnSpPr>
            <p:nvPr/>
          </p:nvCxnSpPr>
          <p:spPr>
            <a:xfrm flipH="1">
              <a:off x="6562080" y="2746440"/>
              <a:ext cx="2685240" cy="2758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8" name=""/>
            <p:cNvCxnSpPr>
              <a:stCxn id="142" idx="1"/>
              <a:endCxn id="139" idx="6"/>
            </p:cNvCxnSpPr>
            <p:nvPr/>
          </p:nvCxnSpPr>
          <p:spPr>
            <a:xfrm flipH="1" flipV="1">
              <a:off x="6955560" y="2397960"/>
              <a:ext cx="1707480" cy="1917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9" name=""/>
            <p:cNvCxnSpPr>
              <a:stCxn id="139" idx="4"/>
              <a:endCxn id="143" idx="0"/>
            </p:cNvCxnSpPr>
            <p:nvPr/>
          </p:nvCxnSpPr>
          <p:spPr>
            <a:xfrm flipH="1">
              <a:off x="6177960" y="2637000"/>
              <a:ext cx="538920" cy="11419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41" idx="4"/>
              <a:endCxn id="142" idx="7"/>
            </p:cNvCxnSpPr>
            <p:nvPr/>
          </p:nvCxnSpPr>
          <p:spPr>
            <a:xfrm flipH="1">
              <a:off x="9000360" y="2815920"/>
              <a:ext cx="416520" cy="1500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1" name=""/>
            <p:cNvCxnSpPr>
              <a:stCxn id="142" idx="4"/>
              <a:endCxn id="144" idx="0"/>
            </p:cNvCxnSpPr>
            <p:nvPr/>
          </p:nvCxnSpPr>
          <p:spPr>
            <a:xfrm flipH="1">
              <a:off x="8400240" y="4724280"/>
              <a:ext cx="430920" cy="999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2" name=""/>
            <p:cNvCxnSpPr>
              <a:stCxn id="143" idx="4"/>
              <a:endCxn id="140" idx="0"/>
            </p:cNvCxnSpPr>
            <p:nvPr/>
          </p:nvCxnSpPr>
          <p:spPr>
            <a:xfrm>
              <a:off x="6178320" y="4255920"/>
              <a:ext cx="214920" cy="1178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3" name=""/>
            <p:cNvCxnSpPr>
              <a:stCxn id="144" idx="1"/>
              <a:endCxn id="139" idx="5"/>
            </p:cNvCxnSpPr>
            <p:nvPr/>
          </p:nvCxnSpPr>
          <p:spPr>
            <a:xfrm flipH="1" flipV="1">
              <a:off x="6885720" y="2566800"/>
              <a:ext cx="1343880" cy="32248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44" idx="2"/>
              <a:endCxn id="140" idx="6"/>
            </p:cNvCxnSpPr>
            <p:nvPr/>
          </p:nvCxnSpPr>
          <p:spPr>
            <a:xfrm flipH="1" flipV="1">
              <a:off x="6632280" y="5672880"/>
              <a:ext cx="1529280" cy="288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155" name=""/>
          <p:cNvSpPr/>
          <p:nvPr/>
        </p:nvSpPr>
        <p:spPr>
          <a:xfrm>
            <a:off x="503280" y="3208320"/>
            <a:ext cx="4535280" cy="36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 u="sng">
                <a:solidFill>
                  <a:srgbClr val="ffffff"/>
                </a:solidFill>
                <a:uFillTx/>
                <a:latin typeface="Arial"/>
              </a:rPr>
              <a:t>Топологической сортировкой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называется присвоение номеров вершинам: любая дуга направлена из вершины с меньшим номером в вершину с бóльшим номер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580000" y="1800360"/>
            <a:ext cx="4292640" cy="4647960"/>
            <a:chOff x="5580000" y="1800360"/>
            <a:chExt cx="4292640" cy="4647960"/>
          </a:xfrm>
        </p:grpSpPr>
        <p:sp>
          <p:nvSpPr>
            <p:cNvPr id="157" name=""/>
            <p:cNvSpPr/>
            <p:nvPr/>
          </p:nvSpPr>
          <p:spPr>
            <a:xfrm>
              <a:off x="9539280" y="208908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72720" y="439272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04360" y="604836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00720" y="180036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80000" y="352908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59280" y="5329080"/>
              <a:ext cx="33372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535280" cy="48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Почему это возможн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3280" y="2489040"/>
            <a:ext cx="399564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Всегда найдётся вершина, в которую не входит ни одно ребр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480000" y="1800360"/>
            <a:ext cx="2876760" cy="2490480"/>
            <a:chOff x="6480000" y="1800360"/>
            <a:chExt cx="2876760" cy="2490480"/>
          </a:xfrm>
        </p:grpSpPr>
        <p:sp>
          <p:nvSpPr>
            <p:cNvPr id="167" name=""/>
            <p:cNvSpPr/>
            <p:nvPr/>
          </p:nvSpPr>
          <p:spPr>
            <a:xfrm>
              <a:off x="6480000" y="21607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80360" y="381636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881920" y="180036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81920" y="378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63000" y="2519280"/>
              <a:ext cx="47448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69" idx="1"/>
              <a:endCxn id="167" idx="6"/>
            </p:cNvCxnSpPr>
            <p:nvPr/>
          </p:nvCxnSpPr>
          <p:spPr>
            <a:xfrm flipH="1">
              <a:off x="6957720" y="1870200"/>
              <a:ext cx="1991520" cy="527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70" idx="0"/>
              <a:endCxn id="169" idx="4"/>
            </p:cNvCxnSpPr>
            <p:nvPr/>
          </p:nvCxnSpPr>
          <p:spPr>
            <a:xfrm flipV="1">
              <a:off x="9119880" y="2275920"/>
              <a:ext cx="1080" cy="15022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71" idx="4"/>
              <a:endCxn id="170" idx="1"/>
            </p:cNvCxnSpPr>
            <p:nvPr/>
          </p:nvCxnSpPr>
          <p:spPr>
            <a:xfrm>
              <a:off x="8400960" y="2995560"/>
              <a:ext cx="550080" cy="853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8" idx="7"/>
              <a:endCxn id="171" idx="3"/>
            </p:cNvCxnSpPr>
            <p:nvPr/>
          </p:nvCxnSpPr>
          <p:spPr>
            <a:xfrm flipV="1">
              <a:off x="7786800" y="2925000"/>
              <a:ext cx="444960" cy="957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77" idx="2"/>
              <a:endCxn id="168" idx="1"/>
            </p:cNvCxnSpPr>
            <p:nvPr/>
          </p:nvCxnSpPr>
          <p:spPr>
            <a:xfrm>
              <a:off x="7022880" y="3489480"/>
              <a:ext cx="425880" cy="396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77" name=""/>
            <p:cNvSpPr/>
            <p:nvPr/>
          </p:nvSpPr>
          <p:spPr>
            <a:xfrm>
              <a:off x="6840360" y="3060720"/>
              <a:ext cx="363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03280" y="4649760"/>
            <a:ext cx="399564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Такой вершине можно присвоить минимальное значение, после чего убрать её из граф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002280" y="4707000"/>
            <a:ext cx="3677040" cy="2454120"/>
            <a:chOff x="6002280" y="4707000"/>
            <a:chExt cx="3677040" cy="2454120"/>
          </a:xfrm>
        </p:grpSpPr>
        <p:sp>
          <p:nvSpPr>
            <p:cNvPr id="180" name=""/>
            <p:cNvSpPr/>
            <p:nvPr/>
          </p:nvSpPr>
          <p:spPr>
            <a:xfrm>
              <a:off x="7738920" y="59659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199280" y="668664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02280" y="5543640"/>
              <a:ext cx="474840" cy="474480"/>
            </a:xfrm>
            <a:prstGeom prst="ellipse">
              <a:avLst/>
            </a:prstGeom>
            <a:solidFill>
              <a:srgbClr val="94bd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20120" y="470700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4" name=""/>
            <p:cNvCxnSpPr>
              <a:stCxn id="182" idx="6"/>
              <a:endCxn id="180" idx="2"/>
            </p:cNvCxnSpPr>
            <p:nvPr/>
          </p:nvCxnSpPr>
          <p:spPr>
            <a:xfrm>
              <a:off x="6478200" y="5783400"/>
              <a:ext cx="1258200" cy="41976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5" name=""/>
            <p:cNvCxnSpPr>
              <a:stCxn id="182" idx="5"/>
              <a:endCxn id="181" idx="1"/>
            </p:cNvCxnSpPr>
            <p:nvPr/>
          </p:nvCxnSpPr>
          <p:spPr>
            <a:xfrm>
              <a:off x="6408720" y="5949720"/>
              <a:ext cx="859680" cy="80532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6" name=""/>
            <p:cNvCxnSpPr>
              <a:stCxn id="180" idx="6"/>
            </p:cNvCxnSpPr>
            <p:nvPr/>
          </p:nvCxnSpPr>
          <p:spPr>
            <a:xfrm flipV="1">
              <a:off x="8215200" y="6070320"/>
              <a:ext cx="1464480" cy="1324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>
              <a:stCxn id="182" idx="7"/>
              <a:endCxn id="183" idx="2"/>
            </p:cNvCxnSpPr>
            <p:nvPr/>
          </p:nvCxnSpPr>
          <p:spPr>
            <a:xfrm flipV="1">
              <a:off x="6408360" y="4944960"/>
              <a:ext cx="1212120" cy="66564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8" name=""/>
            <p:cNvCxnSpPr>
              <a:stCxn id="183" idx="6"/>
            </p:cNvCxnSpPr>
            <p:nvPr/>
          </p:nvCxnSpPr>
          <p:spPr>
            <a:xfrm>
              <a:off x="8096040" y="4944960"/>
              <a:ext cx="1391040" cy="331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9" name=""/>
            <p:cNvCxnSpPr>
              <a:stCxn id="181" idx="6"/>
            </p:cNvCxnSpPr>
            <p:nvPr/>
          </p:nvCxnSpPr>
          <p:spPr>
            <a:xfrm flipV="1">
              <a:off x="7674120" y="6832080"/>
              <a:ext cx="2002320" cy="9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stCxn id="183" idx="4"/>
              <a:endCxn id="180" idx="0"/>
            </p:cNvCxnSpPr>
            <p:nvPr/>
          </p:nvCxnSpPr>
          <p:spPr>
            <a:xfrm>
              <a:off x="7858080" y="5182920"/>
              <a:ext cx="118080" cy="781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быстро определить вершины, в которые не входит ни одно ребр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4720" y="2849400"/>
            <a:ext cx="907092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Будем хранить входящую степень каждой вершин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3200" spc="-1" strike="noStrike">
                <a:solidFill>
                  <a:srgbClr val="ffffff"/>
                </a:solidFill>
                <a:latin typeface="FreeMono"/>
              </a:rPr>
              <a:t>deg_in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3200" spc="-1" strike="noStrike">
                <a:solidFill>
                  <a:srgbClr val="ffffff"/>
                </a:solidFill>
                <a:latin typeface="FreeMono"/>
              </a:rPr>
              <a:t>deg_in[i]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— число соседей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й верш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7720" y="5184720"/>
            <a:ext cx="4383360" cy="22798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a[u, v] := Tru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Inc(deg_in[v]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57720" y="5184720"/>
            <a:ext cx="4202280" cy="22798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a[u, v] = </a:t>
            </a:r>
            <a:r>
              <a:rPr b="1" lang="pl-PL" sz="24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deg_in[v]++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8920" y="1440000"/>
            <a:ext cx="9720360" cy="9316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orde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order[i]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— присвоенный 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й вершине порядковый номер при топологической сортировк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currorde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— текущий присваиваемый номе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0360" y="2448000"/>
            <a:ext cx="4680000" cy="50464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i]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urrorder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j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(deg_in[j] = 0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= 0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currorder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j] := currord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j-й вершины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c(deg_in[u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57720" y="2448000"/>
            <a:ext cx="4741920" cy="50464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i]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urrorder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j = 0; j &lt; n; j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(!deg_in[j]) &amp;&amp; (!order[j]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j] = ++currord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i-й вершины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g_in[u]--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номера, которые приобретут вершины после топологической сортировки.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-е число означает номер, приобретённый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-й верши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3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х m строках файла заданы пары номеров вершин, соединённых рёбра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упорядоченные топологически номера верш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3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1:20:17Z</dcterms:created>
  <dc:creator>Югов Иван Олегович</dc:creator>
  <dc:description>Некоторые права защищены. Данная работа распространяется под лицензией Creative Commons Attribution 2.0
Фоновое изображение: Peter Asplund
---
Art Creative Commons Some rights reserved. This work is licensed under a Creative Commons Attribution License 2.0.
Background by Peter Asplund
</dc:description>
  <cp:keywords>граф теория программирование graph theory programming</cp:keywords>
  <dc:language>en-US</dc:language>
  <cp:lastModifiedBy>Крылова Г. А.</cp:lastModifiedBy>
  <dcterms:modified xsi:type="dcterms:W3CDTF">2011-12-20T07:47:22Z</dcterms:modified>
  <cp:revision>206</cp:revision>
  <dc:subject>Теория графов: топологическая сортировка отсечением вершин</dc:subject>
  <dc:title>Теория граф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Язык">
    <vt:lpwstr>русский</vt:lpwstr>
  </property>
</Properties>
</file>