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0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6183B-82A7-45DC-877B-BC0C24B7130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раткое содержание предыдущего занят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нятие граф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цикл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риентированные и неориентриованны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связность (в каком типе графа?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циклические граф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едставление графов в программе: матрица смежности, массив смежности, список смежности (мультиспис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428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иск в глубину и нахождение с его помощью компонент связ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сюда можно приспособить графы? А топологическую сортировку? Сильно ли усложнена задача временами производства деталей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Входные данные к домашним задачам в том же формате, что и к задаче классной рабо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Антисимметричность, транзитивность и отношение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Как можно топологически отсортировать данный граф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Где можно использовать данный алгоритм? Была задача про производство деталей, она пойдёт на дом. Также используется для разрешения зависимостей пакетов в системах Lin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очему такая найдётся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Такой вершине можно присвоить минимальное значение, после чего убрать её из графа, а также все исходёщие из неё рёбра. Циклы от этого не появятся. Убранная вершина никак не повлияет на результат, т. к. у неё заведомо минимальный номе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При считывании графа в память будем увеличивать входящие степ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ещё нужно сделать? Занулить масси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для массива смежности. Как сделать для списка смежности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За сколько работает данный алгоритм? За n^2. Почему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Это не самый быстрый способ топологически отсортировать массив. Позже мы пройдём ещё один спосо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Ограничение по времени свободн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Использовать список смежности (т. е. мультисписок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ъяснение того, чтО нужно получить. Как не использовать сортировку перед выводом результ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7158-64CC-41A6-BAC8-FFB244BF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5690-BFE6-4002-B91D-3A4AD832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50E-754A-4CF3-B0A1-BFAC57D9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A4E-3A9F-4DB4-9989-F013346D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331D-43A2-4B8B-A226-8BC712EA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44DE-E2D4-48B9-994D-B34CF5DA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55E2-A14E-4BA0-BA68-74BDBCEE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600-9BA0-4DF2-AC31-77450018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2AFE7-CD93-4261-9A69-83A5D86B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90A9-44F5-4736-873F-4E819390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2DDE-4E46-4399-9A7B-B0A14C8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6D13-D529-4782-9328-01A0A379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2ED8-7456-4F7C-B3D9-7B910DFF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ED28-6104-492E-8C8C-C00792FC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8E02-E743-4310-AD76-648205DC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E7B6-AB8A-4BC1-B3DC-EDB1E88C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DE8-CC8D-4934-A2DF-5402F62B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6EEE1-F7A1-4717-810F-E5BCB422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5545-1CA5-4AB8-945A-092B878F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2D9FB-C1B9-40F0-A406-BB9CA5613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9055-3D5E-4EFD-A536-627A4029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8F009-02D2-400C-9578-95CF9689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79A-B9D7-4F32-A957-6434FB0F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9EB53-9B5D-4A83-BEA4-E6DDDF11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D925-3502-4F0A-A0CA-65B12B4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45DD0-DA44-43E1-B68C-4A4D76E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CF95A-1CEE-42A7-A30D-C694A20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691E-BB01-4033-B012-F44D83E5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29B8D-C67D-46B1-993B-C91315FA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5160" y="4667760"/>
            <a:ext cx="291960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AE0D5-A9A0-431C-ACC2-FEFE668A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0A3C-46BC-4C89-A91D-E239875C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B61-525D-4C67-AA40-77F12A76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003-C1AC-457A-8EFA-F32D5005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C38-2FD9-4A3C-9A54-895890DE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6677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7FA-7DB1-4B0A-9105-3DEB75C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76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DDEE-EFAA-4B24-A4B4-480B36A6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7C17C-EE89-42DE-AC29-4D51088A0C69}" type="slidenum">
              <a:rPr b="0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9304D-C485-45B1-BEAA-E39E1E413A8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57078-4C85-4CED-B981-6801528EA09A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tuit.ru/department/algorithms/basicalgos/" TargetMode="External"/><Relationship Id="rId3" Type="http://schemas.openxmlformats.org/officeDocument/2006/relationships/hyperlink" Target="http://www.intuit.ru/department/algorithms/basicalgos/" TargetMode="External"/><Relationship Id="rId4" Type="http://schemas.openxmlformats.org/officeDocument/2006/relationships/hyperlink" Target="http://www.intuit.ru/department/algorithms/basicalgos/" TargetMode="External"/><Relationship Id="rId5" Type="http://schemas.openxmlformats.org/officeDocument/2006/relationships/hyperlink" Target="http://www.intuit.ru/department/algorithms/basicalgos/" TargetMode="External"/><Relationship Id="rId6" Type="http://schemas.openxmlformats.org/officeDocument/2006/relationships/hyperlink" Target="http://www.intuit.ru/department/algorithms/basicalgos/" TargetMode="External"/><Relationship Id="rId7" Type="http://schemas.openxmlformats.org/officeDocument/2006/relationships/hyperlink" Target="http://www.intuit.ru/department/algorithms/basicalgos/" TargetMode="External"/><Relationship Id="rId8" Type="http://schemas.openxmlformats.org/officeDocument/2006/relationships/hyperlink" Target="http://www.intuit.ru/department/algorithms/basicalgos/" TargetMode="External"/><Relationship Id="rId9" Type="http://schemas.openxmlformats.org/officeDocument/2006/relationships/hyperlink" Target="http://www.intuit.ru/department/algorithms/basicalgos/" TargetMode="External"/><Relationship Id="rId10" Type="http://schemas.openxmlformats.org/officeDocument/2006/relationships/hyperlink" Target="http://www.intuit.ru/department/algorithms/basicalgos/" TargetMode="External"/><Relationship Id="rId11" Type="http://schemas.openxmlformats.org/officeDocument/2006/relationships/hyperlink" Target="http://www.intuit.ru/department/algorithms/basicalgos/" TargetMode="External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01680"/>
            <a:ext cx="9070920" cy="64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29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6000" spc="-1" strike="noStrike">
                <a:solidFill>
                  <a:srgbClr val="ffffff"/>
                </a:solidFill>
                <a:latin typeface="Arial"/>
              </a:rPr>
              <a:t>Алгоритмы на графа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Топологическая сортировка отсечением верш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Югов Иван Олег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ОУ Гимназия №10, г. Твер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564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Предприятие «Авто-2010» выпускает двигатели известных во всём мире автомобилей. Двигатель состоит ровно из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деталей, пронумерованных от 1 до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, при этом деталь с номером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изготавливается за </a:t>
            </a:r>
            <a:r>
              <a:rPr b="0" i="1" lang="pl-PL" sz="2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2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 секунд. Специфика предприятия «Авто-2010» заключается в том, что там одновременно может изготавливаться лишь одна деталь двигателя. Для производства некоторых деталей необходимо иметь предварительно изготовленный набор других дета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Генеральный директор «Авто-2010» поставил перед предприятием амбициозную задачу — за наименьшее время изготовить деталь с номером 1, чтобы представить её на выстав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Arial"/>
              </a:rPr>
              <a:t>Требуется написать программу, которая по заданным зависимостям порядка производства между деталями найдёт наименьшее время, за которое можно произвести деталь с номером 1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Первая строка в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i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одержит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1 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 10 000) — количество деталей двигателя. Вторая строка содержит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атуральны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pl-PL" sz="2000" spc="-1" strike="noStrike" baseline="-33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…,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определяющих время изготовления каждой детали в секундах. Время для изготовления каждой детали не превосходит 10</a:t>
            </a:r>
            <a:r>
              <a:rPr b="0" lang="pl-PL" sz="2000" spc="-1" strike="noStrike" baseline="33000">
                <a:solidFill>
                  <a:srgbClr val="ffffff"/>
                </a:solidFill>
                <a:latin typeface="Arial"/>
              </a:rPr>
              <a:t>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екунд. Каждая из последующих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строк входного файла описывает характеристики производства деталей. Здесь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я строка содержит число деталей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которые требуются для производства детали с номером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а также их номера. Сумма всех чис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i="1" lang="pl-PL" sz="2000" spc="-1" strike="noStrike" baseline="-33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не превосходит 200000. Известно, что не существует циклических зависимостей в производстве дета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В первой строке выходного файла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details.out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олжны содержаться два числа: минимальное время ( в секундах), необходимое для скорейшего производства детали с номером 1 и число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еталей, которые необходимы для этого производства. Во второй строке требуется вывести через пробел </a:t>
            </a:r>
            <a:r>
              <a:rPr b="0" i="1" lang="pl-P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чисел — номера деталей в том порядке, в котором их следует производить для скорейшего производтсва детали с номером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Ограничение по времени — 2 сек. Ограничение по памяти — 64 М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20720" y="1440000"/>
          <a:ext cx="8819640" cy="5319360"/>
        </p:xfrm>
        <a:graphic>
          <a:graphicData uri="http://schemas.openxmlformats.org/drawingml/2006/table">
            <a:tbl>
              <a:tblPr/>
              <a:tblGrid>
                <a:gridCol w="4408920"/>
                <a:gridCol w="4410720"/>
              </a:tblGrid>
              <a:tr h="472320"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0728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DejaVu Sans"/>
                        </a:rPr>
                        <a:t>details.o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80612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00 200 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00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7744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5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2134800"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4 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3 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2 1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191880" bIns="46800" anchor="t">
                      <a:noAutofit/>
                    </a:bodyPr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9 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9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FreeMono"/>
                          <a:ea typeface="DejaVu Sans"/>
                        </a:rPr>
                        <a:t>3 2 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 «Базовые алгоритмы для школьников» (Станкевич А. С., Абакумов К. В., Мухачёва М. А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Интернет-уинверситет информационных технологи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www.intuit.ru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partment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algorithm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basicalgos</a:t>
            </a:r>
            <a:r>
              <a:rPr b="0" lang="ru-RU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Нахождение компонент связно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340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не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единственное число — количество компонент связности граф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1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768320"/>
            <a:ext cx="9720360" cy="4948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Сколько различных путей есть в дерев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Какое максимальное количество циклов (длиной 3 и более) может быть в неориентированном графе с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вершинами и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 компонентами связности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количество компонент связности, с использованием матрицы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Arial"/>
              <a:buAutoNum type="arabicPeriod"/>
              <a:tabLst>
                <a:tab algn="l" pos="32220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Arial"/>
              </a:rPr>
              <a:t>Написать программу, определяющую максимальный размер компоненты связности, с использованием списка смежнос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56000" cy="111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Дан ориентированный ациклический гра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940360" y="2160720"/>
            <a:ext cx="3714840" cy="4038480"/>
            <a:chOff x="5940360" y="2160720"/>
            <a:chExt cx="3714840" cy="4038480"/>
          </a:xfrm>
        </p:grpSpPr>
        <p:sp>
          <p:nvSpPr>
            <p:cNvPr id="139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543564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80360" y="234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94640" y="4248000"/>
              <a:ext cx="47484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036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63000" y="572436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45" name=""/>
            <p:cNvCxnSpPr>
              <a:stCxn id="141" idx="1"/>
              <a:endCxn id="139" idx="7"/>
            </p:cNvCxnSpPr>
            <p:nvPr/>
          </p:nvCxnSpPr>
          <p:spPr>
            <a:xfrm flipH="1" flipV="1">
              <a:off x="6887520" y="2229840"/>
              <a:ext cx="2359800" cy="176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endCxn id="143" idx="6"/>
            </p:cNvCxnSpPr>
            <p:nvPr/>
          </p:nvCxnSpPr>
          <p:spPr>
            <a:xfrm flipH="1">
              <a:off x="6416280" y="2579400"/>
              <a:ext cx="2761200" cy="1437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7" name=""/>
            <p:cNvCxnSpPr>
              <a:stCxn id="141" idx="3"/>
              <a:endCxn id="140" idx="7"/>
            </p:cNvCxnSpPr>
            <p:nvPr/>
          </p:nvCxnSpPr>
          <p:spPr>
            <a:xfrm flipH="1">
              <a:off x="6562080" y="2746440"/>
              <a:ext cx="2685240" cy="27583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8" name=""/>
            <p:cNvCxnSpPr>
              <a:stCxn id="142" idx="1"/>
              <a:endCxn id="139" idx="6"/>
            </p:cNvCxnSpPr>
            <p:nvPr/>
          </p:nvCxnSpPr>
          <p:spPr>
            <a:xfrm flipH="1" flipV="1">
              <a:off x="6955560" y="2397960"/>
              <a:ext cx="1707480" cy="1917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39" idx="4"/>
              <a:endCxn id="143" idx="0"/>
            </p:cNvCxnSpPr>
            <p:nvPr/>
          </p:nvCxnSpPr>
          <p:spPr>
            <a:xfrm flipH="1">
              <a:off x="6177960" y="2637000"/>
              <a:ext cx="538920" cy="114192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41" idx="4"/>
              <a:endCxn id="142" idx="7"/>
            </p:cNvCxnSpPr>
            <p:nvPr/>
          </p:nvCxnSpPr>
          <p:spPr>
            <a:xfrm flipH="1">
              <a:off x="9000360" y="2815920"/>
              <a:ext cx="416520" cy="15008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2" idx="4"/>
              <a:endCxn id="144" idx="0"/>
            </p:cNvCxnSpPr>
            <p:nvPr/>
          </p:nvCxnSpPr>
          <p:spPr>
            <a:xfrm flipH="1">
              <a:off x="8400240" y="4724280"/>
              <a:ext cx="430920" cy="999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3" idx="4"/>
              <a:endCxn id="140" idx="0"/>
            </p:cNvCxnSpPr>
            <p:nvPr/>
          </p:nvCxnSpPr>
          <p:spPr>
            <a:xfrm>
              <a:off x="6178320" y="4255920"/>
              <a:ext cx="214920" cy="11786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3" name=""/>
            <p:cNvCxnSpPr>
              <a:stCxn id="144" idx="1"/>
              <a:endCxn id="139" idx="5"/>
            </p:cNvCxnSpPr>
            <p:nvPr/>
          </p:nvCxnSpPr>
          <p:spPr>
            <a:xfrm flipH="1" flipV="1">
              <a:off x="6885720" y="2566800"/>
              <a:ext cx="1343880" cy="32248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44" idx="2"/>
              <a:endCxn id="140" idx="6"/>
            </p:cNvCxnSpPr>
            <p:nvPr/>
          </p:nvCxnSpPr>
          <p:spPr>
            <a:xfrm flipH="1" flipV="1">
              <a:off x="6632280" y="5672880"/>
              <a:ext cx="1529280" cy="2883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03280" y="3208320"/>
            <a:ext cx="4535280" cy="36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Топологической сортировкой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называется присвоение номеров вершинам: любая дуга направлена из вершины с меньшим номером в вершину с бóльшим номер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580000" y="1800360"/>
            <a:ext cx="4292640" cy="4647960"/>
            <a:chOff x="5580000" y="1800360"/>
            <a:chExt cx="4292640" cy="4647960"/>
          </a:xfrm>
        </p:grpSpPr>
        <p:sp>
          <p:nvSpPr>
            <p:cNvPr id="157" name=""/>
            <p:cNvSpPr/>
            <p:nvPr/>
          </p:nvSpPr>
          <p:spPr>
            <a:xfrm>
              <a:off x="9539280" y="208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072720" y="439272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604360" y="6048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00720" y="180036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80000" y="3529080"/>
              <a:ext cx="333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59280" y="5329080"/>
              <a:ext cx="33372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4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200" spc="-1" strike="noStrike">
                  <a:solidFill>
                    <a:srgbClr val="cccc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535280" cy="48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Почему это возмож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3280" y="2489040"/>
            <a:ext cx="399564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Всегда найдётся вершина, в которую не входит ни одно реб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480000" y="1800360"/>
            <a:ext cx="2876760" cy="2490480"/>
            <a:chOff x="6480000" y="1800360"/>
            <a:chExt cx="2876760" cy="2490480"/>
          </a:xfrm>
        </p:grpSpPr>
        <p:sp>
          <p:nvSpPr>
            <p:cNvPr id="167" name=""/>
            <p:cNvSpPr/>
            <p:nvPr/>
          </p:nvSpPr>
          <p:spPr>
            <a:xfrm>
              <a:off x="6480000" y="21607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80360" y="381636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81920" y="180036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81920" y="378000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63000" y="2519280"/>
              <a:ext cx="474480" cy="47484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1"/>
              <a:endCxn id="167" idx="6"/>
            </p:cNvCxnSpPr>
            <p:nvPr/>
          </p:nvCxnSpPr>
          <p:spPr>
            <a:xfrm flipH="1">
              <a:off x="6957720" y="1870200"/>
              <a:ext cx="1991520" cy="5277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0" idx="0"/>
              <a:endCxn id="169" idx="4"/>
            </p:cNvCxnSpPr>
            <p:nvPr/>
          </p:nvCxnSpPr>
          <p:spPr>
            <a:xfrm flipV="1">
              <a:off x="9119880" y="2275920"/>
              <a:ext cx="1080" cy="15022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71" idx="4"/>
              <a:endCxn id="170" idx="1"/>
            </p:cNvCxnSpPr>
            <p:nvPr/>
          </p:nvCxnSpPr>
          <p:spPr>
            <a:xfrm>
              <a:off x="8400960" y="2995560"/>
              <a:ext cx="550080" cy="853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8" idx="7"/>
              <a:endCxn id="171" idx="3"/>
            </p:cNvCxnSpPr>
            <p:nvPr/>
          </p:nvCxnSpPr>
          <p:spPr>
            <a:xfrm flipV="1">
              <a:off x="7786800" y="2925000"/>
              <a:ext cx="444960" cy="9579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76" name=""/>
            <p:cNvCxnSpPr>
              <a:stCxn id="177" idx="2"/>
              <a:endCxn id="168" idx="1"/>
            </p:cNvCxnSpPr>
            <p:nvPr/>
          </p:nvCxnSpPr>
          <p:spPr>
            <a:xfrm>
              <a:off x="7022880" y="3489480"/>
              <a:ext cx="425880" cy="3960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177" name=""/>
            <p:cNvSpPr/>
            <p:nvPr/>
          </p:nvSpPr>
          <p:spPr>
            <a:xfrm>
              <a:off x="6840360" y="3060720"/>
              <a:ext cx="36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62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03280" y="4649760"/>
            <a:ext cx="399564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Такой вершине можно присвоить минимальное значение, после чего убрать её из граф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002280" y="4707000"/>
            <a:ext cx="3677040" cy="2454120"/>
            <a:chOff x="6002280" y="4707000"/>
            <a:chExt cx="3677040" cy="2454120"/>
          </a:xfrm>
        </p:grpSpPr>
        <p:sp>
          <p:nvSpPr>
            <p:cNvPr id="180" name=""/>
            <p:cNvSpPr/>
            <p:nvPr/>
          </p:nvSpPr>
          <p:spPr>
            <a:xfrm>
              <a:off x="7738920" y="596592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99280" y="6686640"/>
              <a:ext cx="47484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02280" y="5543640"/>
              <a:ext cx="474840" cy="474480"/>
            </a:xfrm>
            <a:prstGeom prst="ellipse">
              <a:avLst/>
            </a:prstGeom>
            <a:solidFill>
              <a:srgbClr val="94bd5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0120" y="4707000"/>
              <a:ext cx="474480" cy="474480"/>
            </a:xfrm>
            <a:prstGeom prst="ellipse">
              <a:avLst/>
            </a:prstGeom>
            <a:solidFill>
              <a:srgbClr val="355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4" name=""/>
            <p:cNvCxnSpPr>
              <a:stCxn id="182" idx="6"/>
              <a:endCxn id="180" idx="2"/>
            </p:cNvCxnSpPr>
            <p:nvPr/>
          </p:nvCxnSpPr>
          <p:spPr>
            <a:xfrm>
              <a:off x="6478200" y="5783400"/>
              <a:ext cx="1258200" cy="41976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82" idx="5"/>
              <a:endCxn id="181" idx="1"/>
            </p:cNvCxnSpPr>
            <p:nvPr/>
          </p:nvCxnSpPr>
          <p:spPr>
            <a:xfrm>
              <a:off x="6408720" y="5949720"/>
              <a:ext cx="859680" cy="80532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6" name=""/>
            <p:cNvCxnSpPr>
              <a:stCxn id="180" idx="6"/>
            </p:cNvCxnSpPr>
            <p:nvPr/>
          </p:nvCxnSpPr>
          <p:spPr>
            <a:xfrm flipV="1">
              <a:off x="8215200" y="6070320"/>
              <a:ext cx="1464480" cy="13248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82" idx="7"/>
              <a:endCxn id="183" idx="2"/>
            </p:cNvCxnSpPr>
            <p:nvPr/>
          </p:nvCxnSpPr>
          <p:spPr>
            <a:xfrm flipV="1">
              <a:off x="6408360" y="4944960"/>
              <a:ext cx="1212120" cy="665640"/>
            </a:xfrm>
            <a:prstGeom prst="straightConnector1">
              <a:avLst/>
            </a:prstGeom>
            <a:ln w="36000">
              <a:solidFill>
                <a:srgbClr val="0000ff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188" name=""/>
            <p:cNvCxnSpPr>
              <a:stCxn id="183" idx="6"/>
            </p:cNvCxnSpPr>
            <p:nvPr/>
          </p:nvCxnSpPr>
          <p:spPr>
            <a:xfrm>
              <a:off x="8096040" y="4944960"/>
              <a:ext cx="1391040" cy="33120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89" name=""/>
            <p:cNvCxnSpPr>
              <a:stCxn id="181" idx="6"/>
            </p:cNvCxnSpPr>
            <p:nvPr/>
          </p:nvCxnSpPr>
          <p:spPr>
            <a:xfrm flipV="1">
              <a:off x="7674120" y="6832080"/>
              <a:ext cx="2002320" cy="9144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190" name=""/>
            <p:cNvCxnSpPr>
              <a:stCxn id="183" idx="4"/>
              <a:endCxn id="180" idx="0"/>
            </p:cNvCxnSpPr>
            <p:nvPr/>
          </p:nvCxnSpPr>
          <p:spPr>
            <a:xfrm>
              <a:off x="7858080" y="5182920"/>
              <a:ext cx="118080" cy="781560"/>
            </a:xfrm>
            <a:prstGeom prst="straightConnector1">
              <a:avLst/>
            </a:prstGeom>
            <a:ln w="36000">
              <a:solidFill>
                <a:srgbClr val="0000ff"/>
              </a:solidFill>
              <a:miter/>
              <a:tailEnd len="med" type="triangle" w="med"/>
            </a:ln>
          </p:spPr>
        </p:cxnSp>
      </p:grp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Как быстро определить вершины, в которые не входит ни одно ребр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4720" y="2849400"/>
            <a:ext cx="9070920" cy="21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Будем хранить входящую степень каждой верши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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ffff"/>
                </a:solidFill>
                <a:latin typeface="FreeMono"/>
              </a:rPr>
              <a:t>deg_in[i]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— число соседе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-й верши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7720" y="5184720"/>
            <a:ext cx="438336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:= 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Inc(deg_in[v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57720" y="5184720"/>
            <a:ext cx="4202280" cy="22798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a[u, v] = </a:t>
            </a:r>
            <a:r>
              <a:rPr b="1" lang="pl-PL" sz="2400" spc="-1" strike="noStrike">
                <a:solidFill>
                  <a:srgbClr val="ffffff"/>
                </a:solidFill>
                <a:latin typeface="FreeMono"/>
              </a:rPr>
              <a:t>TRUE</a:t>
            </a: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deg_in[v]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3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FreeMon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440000"/>
            <a:ext cx="9720360" cy="9316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0200" indent="-324000">
              <a:lnSpc>
                <a:spcPct val="93000"/>
              </a:lnSpc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массив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длины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n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order[i]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присвоенный 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-й вершине порядковый номер при топологической сортировк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83000"/>
              </a:lnSpc>
              <a:spcAft>
                <a:spcPts val="1426"/>
              </a:spcAft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FreeMono"/>
              </a:rPr>
              <a:t>currorder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— текущий присваиваемый ном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360" y="2448000"/>
            <a:ext cx="468000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: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i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j := 1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o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n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(deg_in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order[j] = 0)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Inc(currorde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:= 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j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c(deg_in[u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end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57720" y="2448000"/>
            <a:ext cx="4741920" cy="504648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0200" bIns="0" anchor="t">
            <a:noAutofit/>
          </a:bodyPr>
          <a:p>
            <a:pPr algn="ctr">
              <a:lnSpc>
                <a:spcPct val="47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i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currorder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TopSor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i = 0; i &lt; n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j = 0; j &lt; n; j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if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(!deg_in[j]) &amp;&amp; (!order[j]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order[j] = ++currord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    </a:t>
            </a:r>
            <a:r>
              <a:rPr b="1" lang="pl-PL" sz="1800" spc="-1" strike="noStrike">
                <a:solidFill>
                  <a:srgbClr val="ffffff"/>
                </a:solidFill>
                <a:latin typeface="FreeMono"/>
              </a:rPr>
              <a:t>for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(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FreeMono"/>
              </a:rPr>
              <a:t>&lt;u - сосед i-й вершины&gt;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deg_in[u]--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   </a:t>
            </a:r>
            <a:r>
              <a:rPr b="0" lang="pl-PL" sz="1800" spc="-1" strike="noStrike">
                <a:solidFill>
                  <a:srgbClr val="ffffff"/>
                </a:solidFill>
                <a:latin typeface="FreeMono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2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8579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их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строках файла заданы пары номеров вершин, соединённых рёбр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номера, которые приобретут вершины после топологической сортировки.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е число означает номер, приобретённый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-й верши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Топологическая сортиров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60360" y="1768320"/>
            <a:ext cx="93600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первой строке файла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in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заданы целые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— соответственно число вершин и число рёбер  ориентированного графа (1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n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10 000, 0 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m 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 50 000). В следующ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х m строках файла заданы пары номеров вершин, соединённых рёбра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37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В файл </a:t>
            </a:r>
            <a:r>
              <a:rPr b="0" i="1" lang="pl-PL" sz="2800" spc="-1" strike="noStrike">
                <a:solidFill>
                  <a:srgbClr val="ffffff"/>
                </a:solidFill>
                <a:latin typeface="Arial"/>
              </a:rPr>
              <a:t>output.txt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вывести упорядоченные топологически номера верш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времени — 3 се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Ограничение по памяти — 16 М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1:20:17Z</dcterms:created>
  <dc:creator>Югов Иван Олегович</dc:creator>
  <dc:description>Некоторые права защищены. Данная работа распространяется под лицензией Creative Commons Attribution 2.0
Фоновое изображение: Peter Asplund
---
Art Creative Commons Some rights reserved. This work is licensed under a Creative Commons Attribution License 2.0.
Background by Peter Asplund
</dc:description>
  <cp:keywords>граф теория программирование graph theory programming</cp:keywords>
  <dc:language>en-US</dc:language>
  <cp:lastModifiedBy>Крылова Г. А.</cp:lastModifiedBy>
  <dcterms:modified xsi:type="dcterms:W3CDTF">2011-12-20T07:47:22Z</dcterms:modified>
  <cp:revision>206</cp:revision>
  <dc:subject>Теория графов: топологическая сортировка отсечением вершин</dc:subject>
  <dc:title>Теория граф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Язык">
    <vt:lpwstr>русский</vt:lpwstr>
  </property>
</Properties>
</file>