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dt" idx="10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11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12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D293D0-9360-457C-A162-60D1DB36B5DB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6012BC-CE73-4921-910D-4FC2581F769D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CD051A-D014-43D7-883E-B03090E03FB8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Входные данные к домашним задачам в том же формате, что и к задаче классной работ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D50C95-ECD4-41C6-A5A7-573456B843C3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Входные данные к домашним задачам в том же формате, что и к задаче классной работ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EBEF40-40F7-4E8B-8A44-1398D8321BA1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Первое доказали для отсечения вершин и для DF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Почему второе справедливо? Из-за транзитивности и антисимметричности путей ациклического ориентированного графа (отношения порядка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Вариант для матрицы смежности. За сколько работает? Что нужно дописать? За сколько будет работать? Как нужно написать для списка смежности? За сколько будет работать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У этого способа определения цикла есть недостаток: он позволяет определять только наличие какого-то цикла, но не может определить конкретный цик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8776C3-24E6-4A03-937F-C82958C0644B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Видите цикл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В цикле будут только серые вершины. Они составляют часть серого пу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Почему существование ребра в серую вершину из текущей однозначно свидетельствует о наличии цикла? Из той серой вершины (a) можно попасть в текущую (d) по серому пути, а по найденному ребру можно попасть обратно — это цикл. Это ребро называется обратным ребро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D8F8FA-994B-49F4-9A53-63A0225F0A56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8360" cy="4833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Смотрим только на цикл, но помним, что могут быть в графе и другие рёбра и вершин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Какого цвета становится эта вершина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А следующая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А следующая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Значит, непосредственно перед уходом из первой вершины цикла все вершины в нём были серые. А куда мы из неё можем уйти? только в предыдущую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Стало быть, мы попали в следующую вершину откуда-то извне цикла, и будем покидать текущую уже без захода в неё, т. к. она уже серая. Это и есть тот самый момент, когда мы обнаруживаем цик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Если наша задача — определить наличие циклов, то возвращаться не обязательно, можно прервать DF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453B68-EC51-4A3F-B129-F2859A05A581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Цикл уже есть в программном стеке из-за рекурсии, но сделаем свой стек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Процедуры помещения вершины в стек (Push) и доставания её оттуда (Pop) настолько просты, что лучше даже не оформлять их отдельными  процедурами. Доставая вершину из стека, мы не передаём ничего в качестве параметра, а к последней вершине стека всегда можно обратиться как stack[sp]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D77E5B-E37B-485D-9FDD-1300B321E693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Как изменится процедура DF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Какова роль переменной cc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Зачем запоминать вершины, почему бы их сразу не вывести? Они будут выведены в обратном порядк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315D32-B344-42D9-871A-EF7B72A28935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713157-FBBE-4AAA-AB27-5CDD0842C74F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Использовать список смежности (т. е. мультисписок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6C5D-4CA5-43BC-B420-F93E80D39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6677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640B-565D-4EAB-96B3-9F5D93BB3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EE12-288B-47EC-A523-52E825468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2427-34B2-4088-83F2-4D5AF47F7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04F49-2615-4FDB-A589-05E459E5E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604B9-2BED-4021-9CF2-2594E61FF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3CC0D-BB33-48A4-86E3-6EDD13D0A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8E589-805B-45AE-9C05-616E984A0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5D325-037E-4985-9A0F-D1BC78AD7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F513B-5E57-4A59-B93A-9ED6839CE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6B9EA-5318-4302-88B3-CDA93FFF6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33A5-EDB1-4470-9BE5-1AB54C4D6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DDD97-FCD3-416A-AD26-C3FD6F046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AB230-F455-4360-8397-BB75B25A6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6677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0D8A7-BE75-4A93-B5DC-F2D6C32E3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C0118-38D8-494C-BF25-BEBCE9EE7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8D4D2-4F0A-42C0-8398-D34FBA9E8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AE65A-5251-4F56-8CFF-92167043E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E0112-4139-45F6-A028-6C57ABA29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918FE-A03E-4B05-B616-3C1C63877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1291B-B156-443A-AB43-421E8DD2F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5B012-1D02-45D1-B956-D2DECAC14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8C66-E6B4-48E9-90FA-8AA212A56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3D681-37F8-46D2-92B7-31AA07D25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7DB14-F65F-4F92-B842-0E4F01DB1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4980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9BAD6-549B-4B4D-A5B6-9DAEEB5FA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FEF36-1130-4EFA-B3B2-0885362C6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3280" y="46677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D5445-0035-44FC-94A1-B54468D89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4980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B9DE6-760B-4BE3-91F0-BF2A2634B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328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6940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63516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55A62-0024-4437-8AD1-4A60560BA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C2F0-4938-4373-B00F-1A16BDB96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45A5-B39A-4BC3-B072-EF395C9C0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4A80-BEFF-4ACD-92D9-FC94F81E5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436A-E537-4D07-893F-0AD99A1FB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0CC3-039B-4B28-A319-C8FF98CE2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510A-CB99-4266-83FF-FE495B3AB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l-PL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43A60C7-18A1-41DB-8DE4-6C988B596C82}" type="slidenum">
              <a:rPr b="0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CE22252-89CE-423E-BEA8-F4D55E1302E7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872F9F6-195A-41FF-A71D-84201824D78C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503280" y="301680"/>
            <a:ext cx="9070920" cy="64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292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6000" spc="-1" strike="noStrike">
                <a:solidFill>
                  <a:srgbClr val="ffffff"/>
                </a:solidFill>
                <a:latin typeface="Arial"/>
              </a:rPr>
              <a:t>Алгоритмы на графах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Определение наличия циклов в граф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Югов Иван Олегови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МОУ Гимназия №10, г. Твер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78920" y="1767960"/>
            <a:ext cx="9720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Верно ли утверждение, что из всех циклов в графе, проходящих через начальную вершину, DFS прежде всего находит цикл минимальной длины? Привести доказательство или контрпример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Решить задачу об определении наличия циклов в ориентированном графе проверкой рёбер: в выходной файл вывести 1, если в графе есть циклы, и 0 в противном случае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Выполнить п. 2 для неориентированного граф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Решить задачу об отыскании цикла в ориентированном графе с помощью DFS без использования второго стек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8920" y="1767960"/>
            <a:ext cx="9720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Какое максимальное количество рёбер может быть в ориентированном ациклическом графе с 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 вершинами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Может ли быть так, что правильным результатом топологической сортировки графа оказывается любой порядок его вершин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Решить задачу о производстве деталей с помощью DF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Как использовать топологическую сортировку для определения наличия циклов в графе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2920" y="288720"/>
            <a:ext cx="9070920" cy="12855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Циклы и топологическая сортиров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2"/>
          <p:cNvSpPr/>
          <p:nvPr/>
        </p:nvSpPr>
        <p:spPr>
          <a:xfrm>
            <a:off x="550800" y="2811600"/>
            <a:ext cx="8667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Если в графе есть циклы, то топологическая сортировка невозмож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550800" y="1839960"/>
            <a:ext cx="90108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Если граф ациклический, то можно выполнить топологическую сортировк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50800" y="3890880"/>
            <a:ext cx="866772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Как с помощью топологической сортировки определить наличие циклов в граф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360360" y="5111640"/>
            <a:ext cx="4680000" cy="223200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60200" bIns="0" anchor="t">
            <a:noAutofit/>
          </a:bodyPr>
          <a:p>
            <a:pPr algn="ctr">
              <a:lnSpc>
                <a:spcPct val="47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as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ycles := Fals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i := 1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o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n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j := 1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o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n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A[i, j]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order[j] &gt; order[i])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ycles := Tru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5157720" y="5111640"/>
            <a:ext cx="4741920" cy="223200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60200" bIns="0" anchor="t">
            <a:noAutofit/>
          </a:bodyPr>
          <a:p>
            <a:pPr algn="ctr">
              <a:lnSpc>
                <a:spcPct val="47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ycles =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ALSE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i = 0; i &lt; n; i++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j = 0; j &lt; n; j++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A[i, j]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   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order[j] &gt; order[i]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ycles =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RUE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Поиск циклов в граф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550800" y="1839960"/>
            <a:ext cx="9010800" cy="15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Используем DFS для нахождения граф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Если из текущей вершины есть путь в серую вершину, то имеем цик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2" name="Group 3"/>
          <p:cNvGrpSpPr/>
          <p:nvPr/>
        </p:nvGrpSpPr>
        <p:grpSpPr>
          <a:xfrm>
            <a:off x="4707000" y="3600360"/>
            <a:ext cx="4865760" cy="3389400"/>
            <a:chOff x="4707000" y="3600360"/>
            <a:chExt cx="4865760" cy="3389400"/>
          </a:xfrm>
        </p:grpSpPr>
        <p:sp>
          <p:nvSpPr>
            <p:cNvPr id="143" name="Oval 4"/>
            <p:cNvSpPr/>
            <p:nvPr/>
          </p:nvSpPr>
          <p:spPr>
            <a:xfrm>
              <a:off x="7767720" y="5759280"/>
              <a:ext cx="365040" cy="365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5"/>
            <p:cNvSpPr/>
            <p:nvPr/>
          </p:nvSpPr>
          <p:spPr>
            <a:xfrm>
              <a:off x="5967360" y="4491000"/>
              <a:ext cx="365040" cy="365040"/>
            </a:xfrm>
            <a:prstGeom prst="ellipse">
              <a:avLst/>
            </a:prstGeom>
            <a:solidFill>
              <a:srgbClr val="66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6"/>
            <p:cNvSpPr/>
            <p:nvPr/>
          </p:nvSpPr>
          <p:spPr>
            <a:xfrm>
              <a:off x="6499080" y="6480000"/>
              <a:ext cx="365400" cy="365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7"/>
            <p:cNvSpPr/>
            <p:nvPr/>
          </p:nvSpPr>
          <p:spPr>
            <a:xfrm>
              <a:off x="4707000" y="5032440"/>
              <a:ext cx="365040" cy="365040"/>
            </a:xfrm>
            <a:prstGeom prst="ellipse">
              <a:avLst/>
            </a:prstGeom>
            <a:solidFill>
              <a:srgbClr val="66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8"/>
            <p:cNvSpPr/>
            <p:nvPr/>
          </p:nvSpPr>
          <p:spPr>
            <a:xfrm>
              <a:off x="5635800" y="5759280"/>
              <a:ext cx="365040" cy="365400"/>
            </a:xfrm>
            <a:prstGeom prst="ellipse">
              <a:avLst/>
            </a:prstGeom>
            <a:solidFill>
              <a:srgbClr val="66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9"/>
            <p:cNvSpPr/>
            <p:nvPr/>
          </p:nvSpPr>
          <p:spPr>
            <a:xfrm>
              <a:off x="6651720" y="5391000"/>
              <a:ext cx="365040" cy="365400"/>
            </a:xfrm>
            <a:prstGeom prst="ellipse">
              <a:avLst/>
            </a:prstGeom>
            <a:solidFill>
              <a:srgbClr val="66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0"/>
            <p:cNvSpPr/>
            <p:nvPr/>
          </p:nvSpPr>
          <p:spPr>
            <a:xfrm>
              <a:off x="7947000" y="4319640"/>
              <a:ext cx="365040" cy="365040"/>
            </a:xfrm>
            <a:prstGeom prst="ellipse">
              <a:avLst/>
            </a:prstGeom>
            <a:solidFill>
              <a:srgbClr val="66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1"/>
            <p:cNvSpPr/>
            <p:nvPr/>
          </p:nvSpPr>
          <p:spPr>
            <a:xfrm>
              <a:off x="4879800" y="6472080"/>
              <a:ext cx="365400" cy="365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51" name="AutoShape 12"/>
            <p:cNvCxnSpPr>
              <a:stCxn id="146" idx="5"/>
              <a:endCxn id="147" idx="1"/>
            </p:cNvCxnSpPr>
            <p:nvPr/>
          </p:nvCxnSpPr>
          <p:spPr>
            <a:xfrm>
              <a:off x="5022720" y="5346720"/>
              <a:ext cx="664560" cy="4658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2" name="AutoShape 13"/>
            <p:cNvCxnSpPr>
              <a:stCxn id="147" idx="3"/>
              <a:endCxn id="150" idx="7"/>
            </p:cNvCxnSpPr>
            <p:nvPr/>
          </p:nvCxnSpPr>
          <p:spPr>
            <a:xfrm flipH="1">
              <a:off x="5192280" y="6071760"/>
              <a:ext cx="494640" cy="4532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3" name="AutoShape 14"/>
            <p:cNvCxnSpPr>
              <a:stCxn id="147" idx="5"/>
              <a:endCxn id="145" idx="1"/>
            </p:cNvCxnSpPr>
            <p:nvPr/>
          </p:nvCxnSpPr>
          <p:spPr>
            <a:xfrm>
              <a:off x="5948280" y="6071760"/>
              <a:ext cx="603720" cy="4611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4" name="AutoShape 15"/>
            <p:cNvCxnSpPr>
              <a:stCxn id="150" idx="6"/>
              <a:endCxn id="145" idx="2"/>
            </p:cNvCxnSpPr>
            <p:nvPr/>
          </p:nvCxnSpPr>
          <p:spPr>
            <a:xfrm>
              <a:off x="5246280" y="6656400"/>
              <a:ext cx="1251720" cy="72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5" name="AutoShape 16"/>
            <p:cNvCxnSpPr>
              <a:stCxn id="146" idx="4"/>
              <a:endCxn id="150" idx="0"/>
            </p:cNvCxnSpPr>
            <p:nvPr/>
          </p:nvCxnSpPr>
          <p:spPr>
            <a:xfrm>
              <a:off x="4889520" y="5398560"/>
              <a:ext cx="172080" cy="10724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6" name="AutoShape 17"/>
            <p:cNvCxnSpPr>
              <a:stCxn id="146" idx="7"/>
              <a:endCxn id="144" idx="2"/>
            </p:cNvCxnSpPr>
            <p:nvPr/>
          </p:nvCxnSpPr>
          <p:spPr>
            <a:xfrm flipV="1">
              <a:off x="5019840" y="4674600"/>
              <a:ext cx="946800" cy="4100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7" name="AutoShape 18"/>
            <p:cNvCxnSpPr>
              <a:stCxn id="144" idx="4"/>
              <a:endCxn id="147" idx="0"/>
            </p:cNvCxnSpPr>
            <p:nvPr/>
          </p:nvCxnSpPr>
          <p:spPr>
            <a:xfrm flipH="1">
              <a:off x="5819040" y="4857840"/>
              <a:ext cx="330840" cy="9007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8" name="AutoShape 19"/>
            <p:cNvCxnSpPr>
              <a:stCxn id="148" idx="4"/>
              <a:endCxn id="145" idx="0"/>
            </p:cNvCxnSpPr>
            <p:nvPr/>
          </p:nvCxnSpPr>
          <p:spPr>
            <a:xfrm flipH="1">
              <a:off x="6682680" y="5757840"/>
              <a:ext cx="151560" cy="7214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9" name="AutoShape 20"/>
            <p:cNvCxnSpPr>
              <a:stCxn id="148" idx="5"/>
              <a:endCxn id="143" idx="2"/>
            </p:cNvCxnSpPr>
            <p:nvPr/>
          </p:nvCxnSpPr>
          <p:spPr>
            <a:xfrm>
              <a:off x="6963840" y="5703840"/>
              <a:ext cx="802440" cy="2390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60" name="AutoShape 21"/>
            <p:cNvCxnSpPr>
              <a:stCxn id="148" idx="7"/>
              <a:endCxn id="149" idx="3"/>
            </p:cNvCxnSpPr>
            <p:nvPr/>
          </p:nvCxnSpPr>
          <p:spPr>
            <a:xfrm flipV="1">
              <a:off x="6964200" y="4631760"/>
              <a:ext cx="1036080" cy="8103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61" name="AutoShape 22"/>
            <p:cNvCxnSpPr>
              <a:stCxn id="147" idx="7"/>
              <a:endCxn id="148" idx="2"/>
            </p:cNvCxnSpPr>
            <p:nvPr/>
          </p:nvCxnSpPr>
          <p:spPr>
            <a:xfrm flipV="1">
              <a:off x="5947920" y="5574600"/>
              <a:ext cx="702360" cy="2372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62" name="AutoShape 23"/>
            <p:cNvCxnSpPr>
              <a:stCxn id="149" idx="2"/>
              <a:endCxn id="144" idx="6"/>
            </p:cNvCxnSpPr>
            <p:nvPr/>
          </p:nvCxnSpPr>
          <p:spPr>
            <a:xfrm flipH="1">
              <a:off x="6333840" y="4503600"/>
              <a:ext cx="1612080" cy="170640"/>
            </a:xfrm>
            <a:prstGeom prst="straightConnector1">
              <a:avLst/>
            </a:prstGeom>
            <a:ln w="36000">
              <a:solidFill>
                <a:srgbClr val="00ffff"/>
              </a:solidFill>
              <a:miter/>
              <a:tailEnd len="med" type="triangle" w="med"/>
            </a:ln>
          </p:spPr>
        </p:cxnSp>
        <p:sp>
          <p:nvSpPr>
            <p:cNvPr id="163" name="Oval 24"/>
            <p:cNvSpPr/>
            <p:nvPr/>
          </p:nvSpPr>
          <p:spPr>
            <a:xfrm>
              <a:off x="7659720" y="6624720"/>
              <a:ext cx="365040" cy="36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64" name="AutoShape 25"/>
            <p:cNvCxnSpPr>
              <a:stCxn id="143" idx="4"/>
              <a:endCxn id="163" idx="0"/>
            </p:cNvCxnSpPr>
            <p:nvPr/>
          </p:nvCxnSpPr>
          <p:spPr>
            <a:xfrm flipH="1">
              <a:off x="7843320" y="6126120"/>
              <a:ext cx="107280" cy="4975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65" name="AutoShape 26"/>
            <p:cNvCxnSpPr>
              <a:stCxn id="163" idx="2"/>
              <a:endCxn id="145" idx="6"/>
            </p:cNvCxnSpPr>
            <p:nvPr/>
          </p:nvCxnSpPr>
          <p:spPr>
            <a:xfrm flipH="1" flipV="1">
              <a:off x="6865200" y="6663600"/>
              <a:ext cx="793080" cy="1436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166" name="Oval 27"/>
            <p:cNvSpPr/>
            <p:nvPr/>
          </p:nvSpPr>
          <p:spPr>
            <a:xfrm>
              <a:off x="9207360" y="4500720"/>
              <a:ext cx="365400" cy="36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28"/>
            <p:cNvSpPr/>
            <p:nvPr/>
          </p:nvSpPr>
          <p:spPr>
            <a:xfrm>
              <a:off x="8667720" y="5391000"/>
              <a:ext cx="365040" cy="365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68" name="AutoShape 29"/>
            <p:cNvCxnSpPr>
              <a:stCxn id="149" idx="4"/>
              <a:endCxn id="167" idx="1"/>
            </p:cNvCxnSpPr>
            <p:nvPr/>
          </p:nvCxnSpPr>
          <p:spPr>
            <a:xfrm>
              <a:off x="8131320" y="4686120"/>
              <a:ext cx="589680" cy="7578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69" name="AutoShape 30"/>
            <p:cNvCxnSpPr>
              <a:stCxn id="149" idx="6"/>
              <a:endCxn id="166" idx="2"/>
            </p:cNvCxnSpPr>
            <p:nvPr/>
          </p:nvCxnSpPr>
          <p:spPr>
            <a:xfrm>
              <a:off x="8313840" y="4503240"/>
              <a:ext cx="892800" cy="1803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170" name="Oval 31"/>
            <p:cNvSpPr/>
            <p:nvPr/>
          </p:nvSpPr>
          <p:spPr>
            <a:xfrm>
              <a:off x="4896000" y="3951360"/>
              <a:ext cx="365040" cy="36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32"/>
            <p:cNvSpPr/>
            <p:nvPr/>
          </p:nvSpPr>
          <p:spPr>
            <a:xfrm>
              <a:off x="6507000" y="3772080"/>
              <a:ext cx="365400" cy="36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33"/>
            <p:cNvSpPr/>
            <p:nvPr/>
          </p:nvSpPr>
          <p:spPr>
            <a:xfrm>
              <a:off x="7559640" y="3600360"/>
              <a:ext cx="365040" cy="36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73" name="AutoShape 34"/>
            <p:cNvCxnSpPr>
              <a:stCxn id="149" idx="0"/>
              <a:endCxn id="172" idx="5"/>
            </p:cNvCxnSpPr>
            <p:nvPr/>
          </p:nvCxnSpPr>
          <p:spPr>
            <a:xfrm flipH="1" flipV="1">
              <a:off x="7872480" y="3912840"/>
              <a:ext cx="255960" cy="4053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74" name="AutoShape 35"/>
            <p:cNvCxnSpPr>
              <a:stCxn id="144" idx="7"/>
              <a:endCxn id="171" idx="3"/>
            </p:cNvCxnSpPr>
            <p:nvPr/>
          </p:nvCxnSpPr>
          <p:spPr>
            <a:xfrm flipV="1">
              <a:off x="6280200" y="4084200"/>
              <a:ext cx="280080" cy="4579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75" name="AutoShape 36"/>
            <p:cNvCxnSpPr>
              <a:stCxn id="171" idx="2"/>
              <a:endCxn id="170" idx="6"/>
            </p:cNvCxnSpPr>
            <p:nvPr/>
          </p:nvCxnSpPr>
          <p:spPr>
            <a:xfrm flipH="1">
              <a:off x="5261760" y="3956040"/>
              <a:ext cx="1243800" cy="1782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76" name="AutoShape 37"/>
            <p:cNvCxnSpPr>
              <a:stCxn id="146" idx="0"/>
              <a:endCxn id="170" idx="4"/>
            </p:cNvCxnSpPr>
            <p:nvPr/>
          </p:nvCxnSpPr>
          <p:spPr>
            <a:xfrm flipV="1">
              <a:off x="4889520" y="4317480"/>
              <a:ext cx="187920" cy="7135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77" name="AutoShape 38"/>
            <p:cNvCxnSpPr>
              <a:stCxn id="172" idx="2"/>
              <a:endCxn id="171" idx="6"/>
            </p:cNvCxnSpPr>
            <p:nvPr/>
          </p:nvCxnSpPr>
          <p:spPr>
            <a:xfrm flipH="1">
              <a:off x="6873120" y="3784680"/>
              <a:ext cx="685080" cy="1706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</p:grpSp>
      <p:grpSp>
        <p:nvGrpSpPr>
          <p:cNvPr id="178" name="Group 39"/>
          <p:cNvGrpSpPr/>
          <p:nvPr/>
        </p:nvGrpSpPr>
        <p:grpSpPr>
          <a:xfrm>
            <a:off x="4708440" y="3600360"/>
            <a:ext cx="4865760" cy="3389400"/>
            <a:chOff x="4708440" y="3600360"/>
            <a:chExt cx="4865760" cy="3389400"/>
          </a:xfrm>
        </p:grpSpPr>
        <p:sp>
          <p:nvSpPr>
            <p:cNvPr id="179" name="Oval 40"/>
            <p:cNvSpPr/>
            <p:nvPr/>
          </p:nvSpPr>
          <p:spPr>
            <a:xfrm>
              <a:off x="7769160" y="5761080"/>
              <a:ext cx="365040" cy="36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41"/>
            <p:cNvSpPr/>
            <p:nvPr/>
          </p:nvSpPr>
          <p:spPr>
            <a:xfrm>
              <a:off x="5967360" y="4492800"/>
              <a:ext cx="365040" cy="365040"/>
            </a:xfrm>
            <a:prstGeom prst="ellipse">
              <a:avLst/>
            </a:prstGeom>
            <a:solidFill>
              <a:srgbClr val="66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08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42"/>
            <p:cNvSpPr/>
            <p:nvPr/>
          </p:nvSpPr>
          <p:spPr>
            <a:xfrm>
              <a:off x="6499080" y="6480000"/>
              <a:ext cx="365400" cy="365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43"/>
            <p:cNvSpPr/>
            <p:nvPr/>
          </p:nvSpPr>
          <p:spPr>
            <a:xfrm>
              <a:off x="4708440" y="5032440"/>
              <a:ext cx="365040" cy="365040"/>
            </a:xfrm>
            <a:prstGeom prst="ellipse">
              <a:avLst/>
            </a:prstGeom>
            <a:solidFill>
              <a:srgbClr val="66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44"/>
            <p:cNvSpPr/>
            <p:nvPr/>
          </p:nvSpPr>
          <p:spPr>
            <a:xfrm>
              <a:off x="5635800" y="5761080"/>
              <a:ext cx="365040" cy="365040"/>
            </a:xfrm>
            <a:prstGeom prst="ellipse">
              <a:avLst/>
            </a:prstGeom>
            <a:solidFill>
              <a:srgbClr val="66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08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45"/>
            <p:cNvSpPr/>
            <p:nvPr/>
          </p:nvSpPr>
          <p:spPr>
            <a:xfrm>
              <a:off x="6651720" y="5392800"/>
              <a:ext cx="365040" cy="365040"/>
            </a:xfrm>
            <a:prstGeom prst="ellipse">
              <a:avLst/>
            </a:prstGeom>
            <a:solidFill>
              <a:srgbClr val="66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08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46"/>
            <p:cNvSpPr/>
            <p:nvPr/>
          </p:nvSpPr>
          <p:spPr>
            <a:xfrm>
              <a:off x="7948440" y="4319640"/>
              <a:ext cx="365400" cy="365040"/>
            </a:xfrm>
            <a:prstGeom prst="ellipse">
              <a:avLst/>
            </a:prstGeom>
            <a:solidFill>
              <a:srgbClr val="66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08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47"/>
            <p:cNvSpPr/>
            <p:nvPr/>
          </p:nvSpPr>
          <p:spPr>
            <a:xfrm>
              <a:off x="4879800" y="6472080"/>
              <a:ext cx="365400" cy="365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87" name="AutoShape 48"/>
            <p:cNvCxnSpPr>
              <a:stCxn id="182" idx="5"/>
              <a:endCxn id="183" idx="1"/>
            </p:cNvCxnSpPr>
            <p:nvPr/>
          </p:nvCxnSpPr>
          <p:spPr>
            <a:xfrm>
              <a:off x="5022720" y="5346720"/>
              <a:ext cx="664560" cy="4658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88" name="AutoShape 49"/>
            <p:cNvCxnSpPr>
              <a:stCxn id="183" idx="3"/>
              <a:endCxn id="186" idx="7"/>
            </p:cNvCxnSpPr>
            <p:nvPr/>
          </p:nvCxnSpPr>
          <p:spPr>
            <a:xfrm flipH="1">
              <a:off x="5192280" y="6073920"/>
              <a:ext cx="494640" cy="4514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89" name="AutoShape 50"/>
            <p:cNvCxnSpPr>
              <a:stCxn id="183" idx="5"/>
              <a:endCxn id="181" idx="1"/>
            </p:cNvCxnSpPr>
            <p:nvPr/>
          </p:nvCxnSpPr>
          <p:spPr>
            <a:xfrm>
              <a:off x="5948280" y="6073920"/>
              <a:ext cx="603720" cy="4593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90" name="AutoShape 51"/>
            <p:cNvCxnSpPr>
              <a:stCxn id="186" idx="6"/>
              <a:endCxn id="181" idx="2"/>
            </p:cNvCxnSpPr>
            <p:nvPr/>
          </p:nvCxnSpPr>
          <p:spPr>
            <a:xfrm>
              <a:off x="5246280" y="6656400"/>
              <a:ext cx="1251720" cy="72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91" name="AutoShape 52"/>
            <p:cNvCxnSpPr>
              <a:stCxn id="182" idx="4"/>
              <a:endCxn id="186" idx="0"/>
            </p:cNvCxnSpPr>
            <p:nvPr/>
          </p:nvCxnSpPr>
          <p:spPr>
            <a:xfrm>
              <a:off x="4892760" y="5398560"/>
              <a:ext cx="170640" cy="10724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92" name="AutoShape 53"/>
            <p:cNvCxnSpPr>
              <a:stCxn id="182" idx="7"/>
              <a:endCxn id="180" idx="2"/>
            </p:cNvCxnSpPr>
            <p:nvPr/>
          </p:nvCxnSpPr>
          <p:spPr>
            <a:xfrm flipV="1">
              <a:off x="5021280" y="4676040"/>
              <a:ext cx="945360" cy="4086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93" name="AutoShape 54"/>
            <p:cNvCxnSpPr>
              <a:stCxn id="180" idx="4"/>
              <a:endCxn id="183" idx="0"/>
            </p:cNvCxnSpPr>
            <p:nvPr/>
          </p:nvCxnSpPr>
          <p:spPr>
            <a:xfrm flipH="1">
              <a:off x="5819040" y="4859280"/>
              <a:ext cx="330840" cy="900720"/>
            </a:xfrm>
            <a:prstGeom prst="straightConnector1">
              <a:avLst/>
            </a:prstGeom>
            <a:ln w="3600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94" name="AutoShape 55"/>
            <p:cNvCxnSpPr>
              <a:stCxn id="184" idx="4"/>
              <a:endCxn id="181" idx="0"/>
            </p:cNvCxnSpPr>
            <p:nvPr/>
          </p:nvCxnSpPr>
          <p:spPr>
            <a:xfrm flipH="1">
              <a:off x="6682680" y="5759280"/>
              <a:ext cx="151560" cy="7200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95" name="AutoShape 56"/>
            <p:cNvCxnSpPr>
              <a:stCxn id="184" idx="5"/>
              <a:endCxn id="179" idx="2"/>
            </p:cNvCxnSpPr>
            <p:nvPr/>
          </p:nvCxnSpPr>
          <p:spPr>
            <a:xfrm>
              <a:off x="6963840" y="5705280"/>
              <a:ext cx="802440" cy="23868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96" name="AutoShape 57"/>
            <p:cNvCxnSpPr>
              <a:stCxn id="184" idx="7"/>
              <a:endCxn id="185" idx="3"/>
            </p:cNvCxnSpPr>
            <p:nvPr/>
          </p:nvCxnSpPr>
          <p:spPr>
            <a:xfrm flipV="1">
              <a:off x="6964200" y="4631760"/>
              <a:ext cx="1037520" cy="811800"/>
            </a:xfrm>
            <a:prstGeom prst="straightConnector1">
              <a:avLst/>
            </a:prstGeom>
            <a:ln w="3600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97" name="AutoShape 58"/>
            <p:cNvCxnSpPr>
              <a:stCxn id="183" idx="7"/>
              <a:endCxn id="184" idx="2"/>
            </p:cNvCxnSpPr>
            <p:nvPr/>
          </p:nvCxnSpPr>
          <p:spPr>
            <a:xfrm flipV="1">
              <a:off x="5947920" y="5574600"/>
              <a:ext cx="702360" cy="237240"/>
            </a:xfrm>
            <a:prstGeom prst="straightConnector1">
              <a:avLst/>
            </a:prstGeom>
            <a:ln w="3600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98" name="AutoShape 59"/>
            <p:cNvCxnSpPr>
              <a:stCxn id="185" idx="2"/>
              <a:endCxn id="180" idx="6"/>
            </p:cNvCxnSpPr>
            <p:nvPr/>
          </p:nvCxnSpPr>
          <p:spPr>
            <a:xfrm flipH="1">
              <a:off x="6333840" y="4503240"/>
              <a:ext cx="1613520" cy="172440"/>
            </a:xfrm>
            <a:prstGeom prst="straightConnector1">
              <a:avLst/>
            </a:prstGeom>
            <a:ln w="3600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199" name="Oval 60"/>
            <p:cNvSpPr/>
            <p:nvPr/>
          </p:nvSpPr>
          <p:spPr>
            <a:xfrm>
              <a:off x="7659720" y="6624720"/>
              <a:ext cx="365040" cy="36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00" name="AutoShape 61"/>
            <p:cNvCxnSpPr>
              <a:stCxn id="179" idx="4"/>
              <a:endCxn id="199" idx="0"/>
            </p:cNvCxnSpPr>
            <p:nvPr/>
          </p:nvCxnSpPr>
          <p:spPr>
            <a:xfrm flipH="1">
              <a:off x="7843320" y="6127560"/>
              <a:ext cx="107280" cy="4957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01" name="AutoShape 62"/>
            <p:cNvCxnSpPr>
              <a:stCxn id="199" idx="2"/>
              <a:endCxn id="181" idx="6"/>
            </p:cNvCxnSpPr>
            <p:nvPr/>
          </p:nvCxnSpPr>
          <p:spPr>
            <a:xfrm flipH="1" flipV="1">
              <a:off x="6865200" y="6663600"/>
              <a:ext cx="793080" cy="1436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02" name="Oval 63"/>
            <p:cNvSpPr/>
            <p:nvPr/>
          </p:nvSpPr>
          <p:spPr>
            <a:xfrm>
              <a:off x="9209160" y="4500720"/>
              <a:ext cx="365040" cy="36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64"/>
            <p:cNvSpPr/>
            <p:nvPr/>
          </p:nvSpPr>
          <p:spPr>
            <a:xfrm>
              <a:off x="8669160" y="5392800"/>
              <a:ext cx="365400" cy="36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04" name="AutoShape 65"/>
            <p:cNvCxnSpPr>
              <a:stCxn id="185" idx="4"/>
              <a:endCxn id="203" idx="1"/>
            </p:cNvCxnSpPr>
            <p:nvPr/>
          </p:nvCxnSpPr>
          <p:spPr>
            <a:xfrm>
              <a:off x="8132760" y="4686120"/>
              <a:ext cx="589680" cy="7592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05" name="AutoShape 66"/>
            <p:cNvCxnSpPr>
              <a:stCxn id="185" idx="6"/>
              <a:endCxn id="202" idx="2"/>
            </p:cNvCxnSpPr>
            <p:nvPr/>
          </p:nvCxnSpPr>
          <p:spPr>
            <a:xfrm>
              <a:off x="8315280" y="4503240"/>
              <a:ext cx="891360" cy="1803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06" name="Oval 67"/>
            <p:cNvSpPr/>
            <p:nvPr/>
          </p:nvSpPr>
          <p:spPr>
            <a:xfrm>
              <a:off x="4896000" y="3951360"/>
              <a:ext cx="365040" cy="36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68"/>
            <p:cNvSpPr/>
            <p:nvPr/>
          </p:nvSpPr>
          <p:spPr>
            <a:xfrm>
              <a:off x="6508800" y="3772080"/>
              <a:ext cx="365040" cy="36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69"/>
            <p:cNvSpPr/>
            <p:nvPr/>
          </p:nvSpPr>
          <p:spPr>
            <a:xfrm>
              <a:off x="7559640" y="3600360"/>
              <a:ext cx="365040" cy="36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09" name="AutoShape 70"/>
            <p:cNvCxnSpPr>
              <a:stCxn id="185" idx="0"/>
              <a:endCxn id="208" idx="5"/>
            </p:cNvCxnSpPr>
            <p:nvPr/>
          </p:nvCxnSpPr>
          <p:spPr>
            <a:xfrm flipH="1" flipV="1">
              <a:off x="7873200" y="3912840"/>
              <a:ext cx="258120" cy="4053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10" name="AutoShape 71"/>
            <p:cNvCxnSpPr>
              <a:stCxn id="180" idx="7"/>
              <a:endCxn id="207" idx="3"/>
            </p:cNvCxnSpPr>
            <p:nvPr/>
          </p:nvCxnSpPr>
          <p:spPr>
            <a:xfrm flipV="1">
              <a:off x="6280200" y="4083840"/>
              <a:ext cx="281520" cy="4597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11" name="AutoShape 72"/>
            <p:cNvCxnSpPr>
              <a:stCxn id="207" idx="2"/>
              <a:endCxn id="206" idx="6"/>
            </p:cNvCxnSpPr>
            <p:nvPr/>
          </p:nvCxnSpPr>
          <p:spPr>
            <a:xfrm flipH="1">
              <a:off x="5261760" y="3956040"/>
              <a:ext cx="1245240" cy="1782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12" name="AutoShape 73"/>
            <p:cNvCxnSpPr>
              <a:stCxn id="182" idx="0"/>
              <a:endCxn id="206" idx="4"/>
            </p:cNvCxnSpPr>
            <p:nvPr/>
          </p:nvCxnSpPr>
          <p:spPr>
            <a:xfrm flipV="1">
              <a:off x="4892760" y="4317480"/>
              <a:ext cx="186480" cy="7135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13" name="AutoShape 74"/>
            <p:cNvCxnSpPr>
              <a:stCxn id="208" idx="2"/>
              <a:endCxn id="207" idx="6"/>
            </p:cNvCxnSpPr>
            <p:nvPr/>
          </p:nvCxnSpPr>
          <p:spPr>
            <a:xfrm flipH="1">
              <a:off x="6875640" y="3784680"/>
              <a:ext cx="682920" cy="1706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</p:grpSp>
      <p:sp>
        <p:nvSpPr>
          <p:cNvPr id="214" name="Text Box 75"/>
          <p:cNvSpPr/>
          <p:nvPr/>
        </p:nvSpPr>
        <p:spPr>
          <a:xfrm>
            <a:off x="550800" y="4680000"/>
            <a:ext cx="358956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Если в графе есть цикл, то почему DFS обязательно его найдёт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Поиск циклов в граф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2"/>
          <p:cNvSpPr/>
          <p:nvPr/>
        </p:nvSpPr>
        <p:spPr>
          <a:xfrm>
            <a:off x="550800" y="1839960"/>
            <a:ext cx="90108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Рассмотрим цикл и момент, когда покидаем первую вершину в нё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7" name="Group 3"/>
          <p:cNvGrpSpPr/>
          <p:nvPr/>
        </p:nvGrpSpPr>
        <p:grpSpPr>
          <a:xfrm>
            <a:off x="3456000" y="3051000"/>
            <a:ext cx="2481120" cy="2165400"/>
            <a:chOff x="3456000" y="3051000"/>
            <a:chExt cx="2481120" cy="2165400"/>
          </a:xfrm>
        </p:grpSpPr>
        <p:cxnSp>
          <p:nvCxnSpPr>
            <p:cNvPr id="218" name="AutoShape 4"/>
            <p:cNvCxnSpPr>
              <a:stCxn id="219" idx="5"/>
              <a:endCxn id="220" idx="1"/>
            </p:cNvCxnSpPr>
            <p:nvPr/>
          </p:nvCxnSpPr>
          <p:spPr>
            <a:xfrm>
              <a:off x="3769920" y="4238280"/>
              <a:ext cx="421560" cy="6642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21" name="AutoShape 5"/>
            <p:cNvCxnSpPr>
              <a:stCxn id="220" idx="6"/>
              <a:endCxn id="222" idx="2"/>
            </p:cNvCxnSpPr>
            <p:nvPr/>
          </p:nvCxnSpPr>
          <p:spPr>
            <a:xfrm flipV="1">
              <a:off x="4506840" y="4863600"/>
              <a:ext cx="892800" cy="1706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23" name="Oval 6"/>
            <p:cNvSpPr/>
            <p:nvPr/>
          </p:nvSpPr>
          <p:spPr>
            <a:xfrm>
              <a:off x="5572080" y="306072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24" name="AutoShape 7"/>
            <p:cNvCxnSpPr>
              <a:stCxn id="222" idx="0"/>
              <a:endCxn id="223" idx="4"/>
            </p:cNvCxnSpPr>
            <p:nvPr/>
          </p:nvCxnSpPr>
          <p:spPr>
            <a:xfrm flipV="1">
              <a:off x="5584680" y="3427200"/>
              <a:ext cx="170640" cy="12513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25" name="AutoShape 8"/>
            <p:cNvCxnSpPr>
              <a:stCxn id="226" idx="2"/>
              <a:endCxn id="219" idx="7"/>
            </p:cNvCxnSpPr>
            <p:nvPr/>
          </p:nvCxnSpPr>
          <p:spPr>
            <a:xfrm flipH="1">
              <a:off x="3768120" y="3235320"/>
              <a:ext cx="549720" cy="7437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27" name="AutoShape 9"/>
            <p:cNvCxnSpPr>
              <a:stCxn id="223" idx="2"/>
              <a:endCxn id="226" idx="7"/>
            </p:cNvCxnSpPr>
            <p:nvPr/>
          </p:nvCxnSpPr>
          <p:spPr>
            <a:xfrm flipH="1" flipV="1">
              <a:off x="4631760" y="3104640"/>
              <a:ext cx="937080" cy="1389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28" name="Oval 10"/>
            <p:cNvSpPr/>
            <p:nvPr/>
          </p:nvSpPr>
          <p:spPr>
            <a:xfrm>
              <a:off x="3456000" y="392436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Oval 11"/>
            <p:cNvSpPr/>
            <p:nvPr/>
          </p:nvSpPr>
          <p:spPr>
            <a:xfrm>
              <a:off x="4319640" y="3051000"/>
              <a:ext cx="365040" cy="36540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Oval 12"/>
            <p:cNvSpPr/>
            <p:nvPr/>
          </p:nvSpPr>
          <p:spPr>
            <a:xfrm>
              <a:off x="3456000" y="392436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08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Oval 13"/>
            <p:cNvSpPr/>
            <p:nvPr/>
          </p:nvSpPr>
          <p:spPr>
            <a:xfrm>
              <a:off x="4140360" y="485136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Oval 14"/>
            <p:cNvSpPr/>
            <p:nvPr/>
          </p:nvSpPr>
          <p:spPr>
            <a:xfrm>
              <a:off x="5400720" y="468000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9" name="Group 15"/>
          <p:cNvGrpSpPr/>
          <p:nvPr/>
        </p:nvGrpSpPr>
        <p:grpSpPr>
          <a:xfrm>
            <a:off x="3456000" y="3052800"/>
            <a:ext cx="2481120" cy="2165400"/>
            <a:chOff x="3456000" y="3052800"/>
            <a:chExt cx="2481120" cy="2165400"/>
          </a:xfrm>
        </p:grpSpPr>
        <p:cxnSp>
          <p:nvCxnSpPr>
            <p:cNvPr id="230" name="AutoShape 16"/>
            <p:cNvCxnSpPr>
              <a:stCxn id="231" idx="5"/>
              <a:endCxn id="232" idx="1"/>
            </p:cNvCxnSpPr>
            <p:nvPr/>
          </p:nvCxnSpPr>
          <p:spPr>
            <a:xfrm>
              <a:off x="3769920" y="4240080"/>
              <a:ext cx="421560" cy="6645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33" name="AutoShape 17"/>
            <p:cNvCxnSpPr>
              <a:stCxn id="232" idx="6"/>
              <a:endCxn id="234" idx="2"/>
            </p:cNvCxnSpPr>
            <p:nvPr/>
          </p:nvCxnSpPr>
          <p:spPr>
            <a:xfrm flipV="1">
              <a:off x="4506840" y="4863240"/>
              <a:ext cx="892800" cy="1724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35" name="Oval 18"/>
            <p:cNvSpPr/>
            <p:nvPr/>
          </p:nvSpPr>
          <p:spPr>
            <a:xfrm>
              <a:off x="5572080" y="306072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36" name="AutoShape 19"/>
            <p:cNvCxnSpPr>
              <a:stCxn id="234" idx="0"/>
              <a:endCxn id="235" idx="4"/>
            </p:cNvCxnSpPr>
            <p:nvPr/>
          </p:nvCxnSpPr>
          <p:spPr>
            <a:xfrm flipV="1">
              <a:off x="5584680" y="3427200"/>
              <a:ext cx="170640" cy="12513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37" name="AutoShape 20"/>
            <p:cNvCxnSpPr>
              <a:stCxn id="238" idx="2"/>
              <a:endCxn id="231" idx="7"/>
            </p:cNvCxnSpPr>
            <p:nvPr/>
          </p:nvCxnSpPr>
          <p:spPr>
            <a:xfrm flipH="1">
              <a:off x="3768120" y="3236400"/>
              <a:ext cx="549720" cy="7405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39" name="AutoShape 21"/>
            <p:cNvCxnSpPr>
              <a:stCxn id="235" idx="2"/>
              <a:endCxn id="238" idx="7"/>
            </p:cNvCxnSpPr>
            <p:nvPr/>
          </p:nvCxnSpPr>
          <p:spPr>
            <a:xfrm flipH="1" flipV="1">
              <a:off x="4631760" y="3106080"/>
              <a:ext cx="937080" cy="1371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40" name="Oval 22"/>
            <p:cNvSpPr/>
            <p:nvPr/>
          </p:nvSpPr>
          <p:spPr>
            <a:xfrm>
              <a:off x="3456000" y="392436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Oval 23"/>
            <p:cNvSpPr/>
            <p:nvPr/>
          </p:nvSpPr>
          <p:spPr>
            <a:xfrm>
              <a:off x="4319640" y="305280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Oval 24"/>
            <p:cNvSpPr/>
            <p:nvPr/>
          </p:nvSpPr>
          <p:spPr>
            <a:xfrm>
              <a:off x="3456000" y="3924360"/>
              <a:ext cx="365040" cy="36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Oval 25"/>
            <p:cNvSpPr/>
            <p:nvPr/>
          </p:nvSpPr>
          <p:spPr>
            <a:xfrm>
              <a:off x="4140360" y="485316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08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Oval 26"/>
            <p:cNvSpPr/>
            <p:nvPr/>
          </p:nvSpPr>
          <p:spPr>
            <a:xfrm>
              <a:off x="5400720" y="468000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1" name="Group 27"/>
          <p:cNvGrpSpPr/>
          <p:nvPr/>
        </p:nvGrpSpPr>
        <p:grpSpPr>
          <a:xfrm>
            <a:off x="3456000" y="3052800"/>
            <a:ext cx="2481120" cy="2165400"/>
            <a:chOff x="3456000" y="3052800"/>
            <a:chExt cx="2481120" cy="2165400"/>
          </a:xfrm>
        </p:grpSpPr>
        <p:cxnSp>
          <p:nvCxnSpPr>
            <p:cNvPr id="242" name="AutoShape 28"/>
            <p:cNvCxnSpPr>
              <a:stCxn id="243" idx="5"/>
              <a:endCxn id="244" idx="1"/>
            </p:cNvCxnSpPr>
            <p:nvPr/>
          </p:nvCxnSpPr>
          <p:spPr>
            <a:xfrm>
              <a:off x="3769920" y="4240080"/>
              <a:ext cx="421560" cy="6645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45" name="AutoShape 29"/>
            <p:cNvCxnSpPr>
              <a:stCxn id="244" idx="6"/>
              <a:endCxn id="246" idx="2"/>
            </p:cNvCxnSpPr>
            <p:nvPr/>
          </p:nvCxnSpPr>
          <p:spPr>
            <a:xfrm flipV="1">
              <a:off x="4506840" y="4865400"/>
              <a:ext cx="892800" cy="1706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47" name="Oval 30"/>
            <p:cNvSpPr/>
            <p:nvPr/>
          </p:nvSpPr>
          <p:spPr>
            <a:xfrm>
              <a:off x="5572080" y="306072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48" name="AutoShape 31"/>
            <p:cNvCxnSpPr>
              <a:stCxn id="246" idx="0"/>
              <a:endCxn id="247" idx="4"/>
            </p:cNvCxnSpPr>
            <p:nvPr/>
          </p:nvCxnSpPr>
          <p:spPr>
            <a:xfrm flipV="1">
              <a:off x="5584680" y="3426840"/>
              <a:ext cx="170640" cy="12531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49" name="AutoShape 32"/>
            <p:cNvCxnSpPr>
              <a:stCxn id="250" idx="2"/>
              <a:endCxn id="243" idx="7"/>
            </p:cNvCxnSpPr>
            <p:nvPr/>
          </p:nvCxnSpPr>
          <p:spPr>
            <a:xfrm flipH="1">
              <a:off x="3768120" y="3236760"/>
              <a:ext cx="549720" cy="7423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51" name="AutoShape 33"/>
            <p:cNvCxnSpPr>
              <a:stCxn id="247" idx="2"/>
              <a:endCxn id="250" idx="7"/>
            </p:cNvCxnSpPr>
            <p:nvPr/>
          </p:nvCxnSpPr>
          <p:spPr>
            <a:xfrm flipH="1" flipV="1">
              <a:off x="4631760" y="3106080"/>
              <a:ext cx="937080" cy="1371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52" name="Oval 34"/>
            <p:cNvSpPr/>
            <p:nvPr/>
          </p:nvSpPr>
          <p:spPr>
            <a:xfrm>
              <a:off x="3456000" y="392436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Oval 35"/>
            <p:cNvSpPr/>
            <p:nvPr/>
          </p:nvSpPr>
          <p:spPr>
            <a:xfrm>
              <a:off x="4319640" y="305280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Oval 36"/>
            <p:cNvSpPr/>
            <p:nvPr/>
          </p:nvSpPr>
          <p:spPr>
            <a:xfrm>
              <a:off x="3456000" y="3925800"/>
              <a:ext cx="365040" cy="36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Oval 37"/>
            <p:cNvSpPr/>
            <p:nvPr/>
          </p:nvSpPr>
          <p:spPr>
            <a:xfrm>
              <a:off x="4140360" y="4853160"/>
              <a:ext cx="365040" cy="365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Oval 38"/>
            <p:cNvSpPr/>
            <p:nvPr/>
          </p:nvSpPr>
          <p:spPr>
            <a:xfrm>
              <a:off x="5400720" y="4681440"/>
              <a:ext cx="365040" cy="36540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08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3" name="Group 39"/>
          <p:cNvGrpSpPr/>
          <p:nvPr/>
        </p:nvGrpSpPr>
        <p:grpSpPr>
          <a:xfrm>
            <a:off x="3456000" y="3052800"/>
            <a:ext cx="2481120" cy="2165400"/>
            <a:chOff x="3456000" y="3052800"/>
            <a:chExt cx="2481120" cy="2165400"/>
          </a:xfrm>
        </p:grpSpPr>
        <p:cxnSp>
          <p:nvCxnSpPr>
            <p:cNvPr id="254" name="AutoShape 40"/>
            <p:cNvCxnSpPr>
              <a:stCxn id="255" idx="5"/>
              <a:endCxn id="256" idx="1"/>
            </p:cNvCxnSpPr>
            <p:nvPr/>
          </p:nvCxnSpPr>
          <p:spPr>
            <a:xfrm>
              <a:off x="3769920" y="4240080"/>
              <a:ext cx="421560" cy="6645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57" name="AutoShape 41"/>
            <p:cNvCxnSpPr>
              <a:stCxn id="256" idx="6"/>
              <a:endCxn id="258" idx="2"/>
            </p:cNvCxnSpPr>
            <p:nvPr/>
          </p:nvCxnSpPr>
          <p:spPr>
            <a:xfrm flipV="1">
              <a:off x="4506840" y="4865400"/>
              <a:ext cx="892800" cy="1706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59" name="Oval 42"/>
            <p:cNvSpPr/>
            <p:nvPr/>
          </p:nvSpPr>
          <p:spPr>
            <a:xfrm>
              <a:off x="5572080" y="3062160"/>
              <a:ext cx="365040" cy="3654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60" name="AutoShape 43"/>
            <p:cNvCxnSpPr>
              <a:stCxn id="258" idx="0"/>
              <a:endCxn id="259" idx="4"/>
            </p:cNvCxnSpPr>
            <p:nvPr/>
          </p:nvCxnSpPr>
          <p:spPr>
            <a:xfrm flipV="1">
              <a:off x="5584680" y="3428280"/>
              <a:ext cx="170640" cy="12517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61" name="AutoShape 44"/>
            <p:cNvCxnSpPr>
              <a:stCxn id="262" idx="2"/>
              <a:endCxn id="255" idx="7"/>
            </p:cNvCxnSpPr>
            <p:nvPr/>
          </p:nvCxnSpPr>
          <p:spPr>
            <a:xfrm flipH="1">
              <a:off x="3768120" y="3236760"/>
              <a:ext cx="549720" cy="7423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63" name="AutoShape 45"/>
            <p:cNvCxnSpPr>
              <a:stCxn id="259" idx="2"/>
              <a:endCxn id="262" idx="7"/>
            </p:cNvCxnSpPr>
            <p:nvPr/>
          </p:nvCxnSpPr>
          <p:spPr>
            <a:xfrm flipH="1" flipV="1">
              <a:off x="4631760" y="3106080"/>
              <a:ext cx="937080" cy="1386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64" name="Oval 46"/>
            <p:cNvSpPr/>
            <p:nvPr/>
          </p:nvSpPr>
          <p:spPr>
            <a:xfrm>
              <a:off x="3456000" y="392580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Oval 47"/>
            <p:cNvSpPr/>
            <p:nvPr/>
          </p:nvSpPr>
          <p:spPr>
            <a:xfrm>
              <a:off x="4319640" y="3052800"/>
              <a:ext cx="365040" cy="365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Oval 48"/>
            <p:cNvSpPr/>
            <p:nvPr/>
          </p:nvSpPr>
          <p:spPr>
            <a:xfrm>
              <a:off x="3456000" y="3925800"/>
              <a:ext cx="365040" cy="36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Oval 49"/>
            <p:cNvSpPr/>
            <p:nvPr/>
          </p:nvSpPr>
          <p:spPr>
            <a:xfrm>
              <a:off x="4140360" y="4853160"/>
              <a:ext cx="365040" cy="365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Oval 50"/>
            <p:cNvSpPr/>
            <p:nvPr/>
          </p:nvSpPr>
          <p:spPr>
            <a:xfrm>
              <a:off x="5400720" y="4681440"/>
              <a:ext cx="365040" cy="3654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5" name="Group 51"/>
          <p:cNvGrpSpPr/>
          <p:nvPr/>
        </p:nvGrpSpPr>
        <p:grpSpPr>
          <a:xfrm>
            <a:off x="3456000" y="3054240"/>
            <a:ext cx="2481120" cy="2165400"/>
            <a:chOff x="3456000" y="3054240"/>
            <a:chExt cx="2481120" cy="2165400"/>
          </a:xfrm>
        </p:grpSpPr>
        <p:cxnSp>
          <p:nvCxnSpPr>
            <p:cNvPr id="266" name="AutoShape 52"/>
            <p:cNvCxnSpPr>
              <a:stCxn id="267" idx="5"/>
              <a:endCxn id="268" idx="1"/>
            </p:cNvCxnSpPr>
            <p:nvPr/>
          </p:nvCxnSpPr>
          <p:spPr>
            <a:xfrm>
              <a:off x="3769920" y="4241520"/>
              <a:ext cx="421560" cy="6642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69" name="AutoShape 53"/>
            <p:cNvCxnSpPr>
              <a:stCxn id="268" idx="6"/>
              <a:endCxn id="270" idx="2"/>
            </p:cNvCxnSpPr>
            <p:nvPr/>
          </p:nvCxnSpPr>
          <p:spPr>
            <a:xfrm flipV="1">
              <a:off x="4506840" y="4865400"/>
              <a:ext cx="892800" cy="17208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71" name="Oval 54"/>
            <p:cNvSpPr/>
            <p:nvPr/>
          </p:nvSpPr>
          <p:spPr>
            <a:xfrm>
              <a:off x="5572080" y="3062160"/>
              <a:ext cx="365040" cy="3654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72" name="AutoShape 55"/>
            <p:cNvCxnSpPr>
              <a:stCxn id="270" idx="0"/>
              <a:endCxn id="271" idx="4"/>
            </p:cNvCxnSpPr>
            <p:nvPr/>
          </p:nvCxnSpPr>
          <p:spPr>
            <a:xfrm flipV="1">
              <a:off x="5584680" y="3428280"/>
              <a:ext cx="170640" cy="12517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73" name="AutoShape 56"/>
            <p:cNvCxnSpPr>
              <a:stCxn id="274" idx="2"/>
              <a:endCxn id="267" idx="7"/>
            </p:cNvCxnSpPr>
            <p:nvPr/>
          </p:nvCxnSpPr>
          <p:spPr>
            <a:xfrm flipH="1">
              <a:off x="3768120" y="3238200"/>
              <a:ext cx="549720" cy="7405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75" name="AutoShape 57"/>
            <p:cNvCxnSpPr>
              <a:stCxn id="271" idx="2"/>
              <a:endCxn id="274" idx="7"/>
            </p:cNvCxnSpPr>
            <p:nvPr/>
          </p:nvCxnSpPr>
          <p:spPr>
            <a:xfrm flipH="1" flipV="1">
              <a:off x="4631760" y="3107520"/>
              <a:ext cx="937080" cy="1371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76" name="Oval 58"/>
            <p:cNvSpPr/>
            <p:nvPr/>
          </p:nvSpPr>
          <p:spPr>
            <a:xfrm>
              <a:off x="3456000" y="392580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Oval 59"/>
            <p:cNvSpPr/>
            <p:nvPr/>
          </p:nvSpPr>
          <p:spPr>
            <a:xfrm>
              <a:off x="4319640" y="3054240"/>
              <a:ext cx="365040" cy="3654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Oval 60"/>
            <p:cNvSpPr/>
            <p:nvPr/>
          </p:nvSpPr>
          <p:spPr>
            <a:xfrm>
              <a:off x="3456000" y="3925800"/>
              <a:ext cx="365040" cy="365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Oval 61"/>
            <p:cNvSpPr/>
            <p:nvPr/>
          </p:nvSpPr>
          <p:spPr>
            <a:xfrm>
              <a:off x="4140360" y="4854600"/>
              <a:ext cx="365040" cy="365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Oval 62"/>
            <p:cNvSpPr/>
            <p:nvPr/>
          </p:nvSpPr>
          <p:spPr>
            <a:xfrm>
              <a:off x="5400720" y="4681440"/>
              <a:ext cx="365040" cy="3654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7" name="Group 63"/>
          <p:cNvGrpSpPr/>
          <p:nvPr/>
        </p:nvGrpSpPr>
        <p:grpSpPr>
          <a:xfrm>
            <a:off x="3456000" y="3051000"/>
            <a:ext cx="2481120" cy="2165400"/>
            <a:chOff x="3456000" y="3051000"/>
            <a:chExt cx="2481120" cy="2165400"/>
          </a:xfrm>
        </p:grpSpPr>
        <p:cxnSp>
          <p:nvCxnSpPr>
            <p:cNvPr id="278" name="AutoShape 64"/>
            <p:cNvCxnSpPr>
              <a:stCxn id="279" idx="5"/>
              <a:endCxn id="280" idx="1"/>
            </p:cNvCxnSpPr>
            <p:nvPr/>
          </p:nvCxnSpPr>
          <p:spPr>
            <a:xfrm>
              <a:off x="3769920" y="4238280"/>
              <a:ext cx="421560" cy="664200"/>
            </a:xfrm>
            <a:prstGeom prst="straightConnector1">
              <a:avLst/>
            </a:prstGeom>
            <a:ln w="3600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81" name="AutoShape 65"/>
            <p:cNvCxnSpPr>
              <a:stCxn id="280" idx="6"/>
              <a:endCxn id="282" idx="2"/>
            </p:cNvCxnSpPr>
            <p:nvPr/>
          </p:nvCxnSpPr>
          <p:spPr>
            <a:xfrm flipV="1">
              <a:off x="4506840" y="4863600"/>
              <a:ext cx="892800" cy="1706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3" name="Oval 66"/>
            <p:cNvSpPr/>
            <p:nvPr/>
          </p:nvSpPr>
          <p:spPr>
            <a:xfrm>
              <a:off x="5572080" y="3060720"/>
              <a:ext cx="365040" cy="365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84" name="AutoShape 67"/>
            <p:cNvCxnSpPr>
              <a:stCxn id="282" idx="0"/>
              <a:endCxn id="283" idx="4"/>
            </p:cNvCxnSpPr>
            <p:nvPr/>
          </p:nvCxnSpPr>
          <p:spPr>
            <a:xfrm flipV="1">
              <a:off x="5584680" y="3427200"/>
              <a:ext cx="170640" cy="12513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68"/>
            <p:cNvCxnSpPr>
              <a:stCxn id="286" idx="2"/>
              <a:endCxn id="279" idx="7"/>
            </p:cNvCxnSpPr>
            <p:nvPr/>
          </p:nvCxnSpPr>
          <p:spPr>
            <a:xfrm flipH="1">
              <a:off x="3768120" y="3235320"/>
              <a:ext cx="549720" cy="7437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7" name="AutoShape 69"/>
            <p:cNvCxnSpPr>
              <a:stCxn id="283" idx="2"/>
              <a:endCxn id="286" idx="7"/>
            </p:cNvCxnSpPr>
            <p:nvPr/>
          </p:nvCxnSpPr>
          <p:spPr>
            <a:xfrm flipH="1" flipV="1">
              <a:off x="4631760" y="3104640"/>
              <a:ext cx="937080" cy="1389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8" name="Oval 70"/>
            <p:cNvSpPr/>
            <p:nvPr/>
          </p:nvSpPr>
          <p:spPr>
            <a:xfrm>
              <a:off x="3456000" y="392436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Oval 71"/>
            <p:cNvSpPr/>
            <p:nvPr/>
          </p:nvSpPr>
          <p:spPr>
            <a:xfrm>
              <a:off x="4319640" y="3051000"/>
              <a:ext cx="365040" cy="3654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Oval 72"/>
            <p:cNvSpPr/>
            <p:nvPr/>
          </p:nvSpPr>
          <p:spPr>
            <a:xfrm>
              <a:off x="3456000" y="3924360"/>
              <a:ext cx="365040" cy="365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08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Oval 73"/>
            <p:cNvSpPr/>
            <p:nvPr/>
          </p:nvSpPr>
          <p:spPr>
            <a:xfrm>
              <a:off x="4140360" y="4851360"/>
              <a:ext cx="365040" cy="365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08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Oval 74"/>
            <p:cNvSpPr/>
            <p:nvPr/>
          </p:nvSpPr>
          <p:spPr>
            <a:xfrm>
              <a:off x="5400720" y="4680000"/>
              <a:ext cx="365040" cy="365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9" name="Text Box 75"/>
          <p:cNvSpPr/>
          <p:nvPr/>
        </p:nvSpPr>
        <p:spPr>
          <a:xfrm>
            <a:off x="550800" y="5548320"/>
            <a:ext cx="90108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Возвращаться будем из вершины </a:t>
            </a:r>
            <a:r>
              <a:rPr b="0" i="1" lang="pl-PL" sz="32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 в вершину </a:t>
            </a:r>
            <a:r>
              <a:rPr b="0" i="1" lang="pl-PL" sz="32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, поочерёдно окрашивая вершины в цикле в чёрный цве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Поиск циклов в граф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 Box 2"/>
          <p:cNvSpPr/>
          <p:nvPr/>
        </p:nvSpPr>
        <p:spPr>
          <a:xfrm>
            <a:off x="550800" y="1839960"/>
            <a:ext cx="9010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Как определить сам цикл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550800" y="2560680"/>
            <a:ext cx="901080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t">
            <a:noAutofit/>
          </a:bodyPr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300" spc="-1" strike="noStrike">
                <a:solidFill>
                  <a:srgbClr val="ffffff"/>
                </a:solidFill>
                <a:latin typeface="Arial"/>
              </a:rPr>
              <a:t>Сделаем стек. При заходе в вершину помещаем её в стек, при выходе — забираем её оттуда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Wingdings" charset="2"/>
              <a:buChar char=""/>
              <a:tabLst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300" spc="-1" strike="noStrike">
                <a:solidFill>
                  <a:srgbClr val="ffffff"/>
                </a:solidFill>
                <a:latin typeface="Arial"/>
              </a:rPr>
              <a:t>массив </a:t>
            </a:r>
            <a:r>
              <a:rPr b="0" lang="pl-PL" sz="2300" spc="-1" strike="noStrike">
                <a:solidFill>
                  <a:srgbClr val="ffffff"/>
                </a:solidFill>
                <a:latin typeface="FreeMono"/>
              </a:rPr>
              <a:t>stack</a:t>
            </a:r>
            <a:r>
              <a:rPr b="0" lang="pl-PL" sz="2300" spc="-1" strike="noStrike">
                <a:solidFill>
                  <a:srgbClr val="ffffff"/>
                </a:solidFill>
                <a:latin typeface="Arial"/>
              </a:rPr>
              <a:t> длины </a:t>
            </a:r>
            <a:r>
              <a:rPr b="0" lang="pl-PL" sz="2300" spc="-1" strike="noStrike">
                <a:solidFill>
                  <a:srgbClr val="ffffff"/>
                </a:solidFill>
                <a:latin typeface="FreeMono"/>
              </a:rPr>
              <a:t>n</a:t>
            </a:r>
            <a:r>
              <a:rPr b="0" lang="pl-PL" sz="2300" spc="-1" strike="noStrike">
                <a:solidFill>
                  <a:srgbClr val="ffffff"/>
                </a:solidFill>
                <a:latin typeface="Arial"/>
              </a:rPr>
              <a:t> — стек вершин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83000"/>
              </a:lnSpc>
              <a:spcAft>
                <a:spcPts val="1426"/>
              </a:spcAft>
              <a:buClr>
                <a:srgbClr val="ffffff"/>
              </a:buClr>
              <a:buFont typeface="Wingdings" charset="2"/>
              <a:buChar char=""/>
              <a:tabLst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300" spc="-1" strike="noStrike">
                <a:solidFill>
                  <a:srgbClr val="ffffff"/>
                </a:solidFill>
                <a:latin typeface="FreeMono"/>
              </a:rPr>
              <a:t>sp</a:t>
            </a:r>
            <a:r>
              <a:rPr b="0" lang="pl-PL" sz="2300" spc="-1" strike="noStrike">
                <a:solidFill>
                  <a:srgbClr val="ffffff"/>
                </a:solidFill>
                <a:latin typeface="Arial"/>
              </a:rPr>
              <a:t> — указатель вершины стека (число элементов в нём)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360360" y="4500720"/>
            <a:ext cx="4680000" cy="284472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60200" bIns="0" anchor="t">
            <a:noAutofit/>
          </a:bodyPr>
          <a:p>
            <a:pPr algn="ctr">
              <a:lnSpc>
                <a:spcPct val="47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as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sp :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Push(v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Inc(sp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stack[sp] := v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Pop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Dec(sp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 Box 5"/>
          <p:cNvSpPr/>
          <p:nvPr/>
        </p:nvSpPr>
        <p:spPr>
          <a:xfrm>
            <a:off x="5157720" y="4500720"/>
            <a:ext cx="4741920" cy="284472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60200" bIns="0" anchor="t">
            <a:noAutofit/>
          </a:bodyPr>
          <a:p>
            <a:pPr algn="ctr">
              <a:lnSpc>
                <a:spcPct val="47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sp 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Push(v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stack[++sp - 1] = v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Pop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sp--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Поиск циклов в граф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2"/>
          <p:cNvSpPr/>
          <p:nvPr/>
        </p:nvSpPr>
        <p:spPr>
          <a:xfrm>
            <a:off x="179280" y="1584360"/>
            <a:ext cx="5040360" cy="579600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asc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i := 1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o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n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olor[i] := WHIT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rm := False; found := False; DFS(1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DFS(v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olor[v] := GRAY; Push(v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0" lang="pl-PL" sz="1800" spc="-1" strike="noStrike" u="sng">
                <a:solidFill>
                  <a:srgbClr val="ffffff"/>
                </a:solidFill>
                <a:uFillTx/>
                <a:latin typeface="FreeMono"/>
              </a:rPr>
              <a:t>&lt;u - сосед v&gt;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 not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Found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color[u] = WHITE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hen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DFS(u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el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color[u] = GRAY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begin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Found := Tru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c := u; rm := Tru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end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Found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0" lang="pl-PL" sz="1800" spc="-1" strike="noStrike" u="sng">
                <a:solidFill>
                  <a:srgbClr val="ffffff"/>
                </a:solidFill>
                <a:uFillTx/>
                <a:latin typeface="FreeMono"/>
              </a:rPr>
              <a:t>&lt;запомнить текущую вершину&gt;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olor[v] := BLACK; Po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5400720" y="1587600"/>
            <a:ext cx="4500360" cy="579276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i = 0; i &lt; n; i++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olor[i] = WHIT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rm = Found =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ALSE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; DFS(0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DFS(v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olor[v] = GRAY; Push(v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</a:t>
            </a:r>
            <a:r>
              <a:rPr b="0" lang="pl-PL" sz="1800" spc="-1" strike="noStrike" u="sng">
                <a:solidFill>
                  <a:srgbClr val="ffffff"/>
                </a:solidFill>
                <a:uFillTx/>
                <a:latin typeface="FreeMono"/>
              </a:rPr>
              <a:t>&lt;u - сосед v&gt;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(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!Foun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color[u] == WHITE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DFS(u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el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 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color[u] == GRA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rm = Found =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RUE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c = u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Foun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0" lang="pl-PL" sz="1800" spc="-1" strike="noStrike" u="sng">
                <a:solidFill>
                  <a:srgbClr val="ffffff"/>
                </a:solidFill>
                <a:uFillTx/>
                <a:latin typeface="FreeMono"/>
              </a:rPr>
              <a:t>&lt;запомнить текущую вершину&gt;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olor[v] = BLACK; Po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Поиск циклов в граф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2"/>
          <p:cNvSpPr/>
          <p:nvPr/>
        </p:nvSpPr>
        <p:spPr>
          <a:xfrm>
            <a:off x="550800" y="1552680"/>
            <a:ext cx="901080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Как запомнить все вершины, из которых выходим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550800" y="2633760"/>
            <a:ext cx="901080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t">
            <a:noAutofit/>
          </a:bodyPr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300" spc="-1" strike="noStrike">
                <a:solidFill>
                  <a:srgbClr val="ffffff"/>
                </a:solidFill>
                <a:latin typeface="Arial"/>
              </a:rPr>
              <a:t>Сделаем второй стек. Если цикл найден, то помещаем во второй стек все покидаемые вершины, пока не встретим вершину </a:t>
            </a:r>
            <a:r>
              <a:rPr b="0" lang="pl-PL" sz="2300" spc="-1" strike="noStrike">
                <a:solidFill>
                  <a:srgbClr val="ffffff"/>
                </a:solidFill>
                <a:latin typeface="FreeMono"/>
              </a:rPr>
              <a:t>cc</a:t>
            </a:r>
            <a:r>
              <a:rPr b="0" lang="pl-PL" sz="23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Wingdings" charset="2"/>
              <a:buChar char=""/>
              <a:tabLst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300" spc="-1" strike="noStrike">
                <a:solidFill>
                  <a:srgbClr val="ffffff"/>
                </a:solidFill>
                <a:latin typeface="Arial"/>
              </a:rPr>
              <a:t>массив </a:t>
            </a:r>
            <a:r>
              <a:rPr b="0" lang="pl-PL" sz="2300" spc="-1" strike="noStrike">
                <a:solidFill>
                  <a:srgbClr val="ffffff"/>
                </a:solidFill>
                <a:latin typeface="FreeMono"/>
              </a:rPr>
              <a:t>stack2</a:t>
            </a:r>
            <a:r>
              <a:rPr b="0" lang="pl-PL" sz="2300" spc="-1" strike="noStrike">
                <a:solidFill>
                  <a:srgbClr val="ffffff"/>
                </a:solidFill>
                <a:latin typeface="Arial"/>
              </a:rPr>
              <a:t> длины </a:t>
            </a:r>
            <a:r>
              <a:rPr b="0" lang="pl-PL" sz="2300" spc="-1" strike="noStrike">
                <a:solidFill>
                  <a:srgbClr val="ffffff"/>
                </a:solidFill>
                <a:latin typeface="FreeMono"/>
              </a:rPr>
              <a:t>n</a:t>
            </a:r>
            <a:r>
              <a:rPr b="0" lang="pl-PL" sz="2300" spc="-1" strike="noStrike">
                <a:solidFill>
                  <a:srgbClr val="ffffff"/>
                </a:solidFill>
                <a:latin typeface="Arial"/>
              </a:rPr>
              <a:t> — стек вершин в прямом порядке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83000"/>
              </a:lnSpc>
              <a:spcAft>
                <a:spcPts val="1426"/>
              </a:spcAft>
              <a:buClr>
                <a:srgbClr val="ffffff"/>
              </a:buClr>
              <a:buFont typeface="Wingdings" charset="2"/>
              <a:buChar char=""/>
              <a:tabLst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300" spc="-1" strike="noStrike">
                <a:solidFill>
                  <a:srgbClr val="ffffff"/>
                </a:solidFill>
                <a:latin typeface="FreeMono"/>
              </a:rPr>
              <a:t>sp2</a:t>
            </a:r>
            <a:r>
              <a:rPr b="0" lang="pl-PL" sz="2300" spc="-1" strike="noStrike">
                <a:solidFill>
                  <a:srgbClr val="ffffff"/>
                </a:solidFill>
                <a:latin typeface="Arial"/>
              </a:rPr>
              <a:t> — указатель вершины второго стека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360360" y="4751280"/>
            <a:ext cx="4562640" cy="273528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asc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sp2 :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 u="sng">
                <a:solidFill>
                  <a:srgbClr val="ffffff"/>
                </a:solidFill>
                <a:uFillTx/>
                <a:latin typeface="FreeMono"/>
              </a:rPr>
              <a:t>&lt;запомнить текущую вершину&gt;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rm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beg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rm := rm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and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(v &lt;&gt; cc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Inc(sp2); stack2[sp2] := v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end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5067360" y="4756320"/>
            <a:ext cx="4707000" cy="273204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sp2 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 u="sng">
                <a:solidFill>
                  <a:srgbClr val="ffffff"/>
                </a:solidFill>
                <a:uFillTx/>
                <a:latin typeface="FreeMono"/>
              </a:rPr>
              <a:t>&lt;запомнить текущую вершину&gt;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r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rm &amp;= v != cc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stack[++sp - 1] = v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Поиск циклов в граф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60360" y="1768320"/>
            <a:ext cx="9360000" cy="563112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283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В первой строке файла 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input.txt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заданы целые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— соответственно число вершин и число рёбер  ориентированного графа (1 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n 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10 000, 0 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m 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50 000). В следующих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строках файла заданы пары номеров вершин, соединённых рёбр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283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В файл 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output.txt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вывести последовательность номеров вершин, соответствующих любому циклу в графе. Если граф ациклический, то вывести 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Ограничение по времени — 1 се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Ограничение по памяти — 16 Мб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1T21:20:17Z</dcterms:created>
  <dc:creator>Югов Иван Олегович</dc:creator>
  <dc:description>Некоторые права защищены. Данная работа распространяется под лицензией Creative Commons Attribution 2.0
Фоновое изображение: Peter Asplund
---
Art Creative Commons Some rights reserved. This work is licensed under a Creative Commons Attribution License 2.0.
Background by Peter Asplund
</dc:description>
  <cp:keywords>граф теория программирование graph theory programming</cp:keywords>
  <dc:language>en-US</dc:language>
  <cp:lastModifiedBy>iyugov</cp:lastModifiedBy>
  <dcterms:modified xsi:type="dcterms:W3CDTF">2011-12-20T08:14:47Z</dcterms:modified>
  <cp:revision>223</cp:revision>
  <dc:subject>Теория графов: топологическая сортировка отсечением вершин</dc:subject>
  <dc:title>Теория графо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Язык">
    <vt:lpwstr>русский</vt:lpwstr>
  </property>
</Properties>
</file>