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dt" idx="10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399E7-BADE-41B8-8060-DD261E31B6CF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D99F5-831D-45D8-8D58-F99CAF776946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C024D-92B7-4368-87CC-F16587AB3FC3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ходные данные к домашним задачам в том же формате, что и к задаче классной раб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4D321-A9CB-4346-A1AC-9B16F43867C1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ходные данные к домашним задачам в том же формате, что и к задаче классной раб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4F944-E88E-42F6-A9CC-1B617D8E6D06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ервое доказали для отсечения вершин и для DF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чему второе справедливо? Из-за транзитивности и антисимметричности путей ациклического ориентированного графа (отношения порядка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ариант для матрицы смежности. За сколько работает? Что нужно дописать? За сколько будет работать? Как нужно написать для списка смежности? За сколько будет работать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У этого способа определения цикла есть недостаток: он позволяет определять только наличие какого-то цикла, но не может определить конкретный цик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0951C-C71D-418B-9EF3-0C2143F11589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идите цикл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 цикле будут только серые вершины. Они составляют часть серого пу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чему существование ребра в серую вершину из текущей однозначно свидетельствует о наличии цикла? Из той серой вершины (a) можно попасть в текущую (d) по серому пути, а по найденному ребру можно попасть обратно — это цикл. Это ребро называется обратным ребр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CC7C62-144E-4324-8F7D-CEC99F2B0866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8360" cy="4833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мотрим только на цикл, но помним, что могут быть в графе и другие рёбра и вершин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ого цвета становится эта вершин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 следующа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 следующа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Значит, непосредственно перед уходом из первой вершины цикла все вершины в нём были серые. А куда мы из неё можем уйти? только в предыдущу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тало быть, мы попали в следующую вершину откуда-то извне цикла, и будем покидать текущую уже без захода в неё, т. к. она уже серая. Это и есть тот самый момент, когда мы обнаруживаем цик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Если наша задача — определить наличие циклов, то возвращаться не обязательно, можно прервать DF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A53FB-6692-4A34-BA8E-1782EFC8337B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Цикл уже есть в программном стеке из-за рекурсии, но сделаем свой сте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оцедуры помещения вершины в стек (Push) и доставания её оттуда (Pop) настолько просты, что лучше даже не оформлять их отдельными  процедурами. Доставая вершину из стека, мы не передаём ничего в качестве параметра, а к последней вершине стека всегда можно обратиться как stack[sp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0019D-47D4-4777-BC84-CEB0D3AD05D2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 изменится процедура DF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ова роль переменной c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Зачем запоминать вершины, почему бы их сразу не вывести? Они будут выведены в обратном порядк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2ACFA-3DDA-4CF2-BA08-38AF2FB37B2A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AE5C5-35A7-4109-BCDD-04E8416715B0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пользовать список смежности (т. е. мультисписок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A6E4-7C03-4DBA-A969-E51D2696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747D-C542-4658-A7BF-A2FC5739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C637-369D-4158-999B-01B277A7A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769B-AD96-4356-97ED-4C742A803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445C-58B5-4559-BA9C-E77E4325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8FEB-1F81-42DA-AD51-EB691E5D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2656-F3AA-454D-9A12-AD0B3254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8AD7-BBCC-4ABF-B00D-AA7BF431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02A4-4727-46FE-ADF0-AB677791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3AA6-0215-4CB3-B1AB-E33AA685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3DE4-F13E-4DBA-ACAA-35E04636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0BC5-8894-43BD-9607-4DF88FA9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EC31-6279-4D7F-992D-A9C73A92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4B13-EC62-49A8-AF2D-250D8F71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2481-C4AD-46A2-A215-60EDA889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E68F-9541-40E8-8AE0-D99835AF4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EE6EE-DDE8-495B-B40C-F6E939C76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6305F-BCD0-4512-A65D-50261DBA4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FBF7D-41C8-4447-BE74-AB2DB2D2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EF992-C910-4A48-B987-A4EEF278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201D5-B9D5-412D-9609-CC2B8726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BF623-A24E-40B4-B4D4-4E5DD930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A441-D68F-4EAD-8FF1-79C61A28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6DB8E-42A6-4B34-B139-03C2DC15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62A47-4AB1-4062-9413-0A8F92C7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60C69-B1CD-4EE5-A475-BE6C829E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9713B-62FE-452E-A6E7-364A60A8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25312-D545-4F5F-B047-22B39798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65274-CB8F-424F-810D-CD2A6D33D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474BC-69FD-410E-8456-D4E1B5216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0719-53C6-4E5D-BFDE-CA540D85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53D1-E316-41BC-BFE4-9F4F8092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20DE-F18C-4B94-A964-36B61FBE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15C5-6B78-4950-83E5-AC9E4E71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2FC3-0BE8-4F73-950F-EB2F5D0B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6625-D00B-4781-A67E-68891661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9A8155B-8A41-4CAB-8448-1A2477745D7F}" type="slidenum">
              <a:rPr b="0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3B66CF4-8FA5-413A-A5D9-88496631934A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F74307F-63AF-4CB9-988A-52A189493E1B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503280" y="301680"/>
            <a:ext cx="9070920" cy="64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29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6000" spc="-1" strike="noStrike">
                <a:solidFill>
                  <a:srgbClr val="ffffff"/>
                </a:solidFill>
                <a:latin typeface="Arial"/>
              </a:rPr>
              <a:t>Алгоритмы на графах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пределение наличия циклов в граф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Югов Иван Олего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ОУ Гимназия №10, г. Тве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78920" y="1767960"/>
            <a:ext cx="9720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Верно ли утверждение, что из всех циклов в графе, проходящих через начальную вершину, DFS прежде всего находит цикл минимальной длины? Привести доказательство или контрпример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Решить задачу об определении наличия циклов в ориентированном графе проверкой рёбер: в выходной файл вывести 1, если в графе есть циклы, и 0 в противном случа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Выполнить п. 2 для неориентированного граф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Решить задачу об отыскании цикла в ориентированном графе с помощью DFS без использования второго стек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8920" y="1767960"/>
            <a:ext cx="9720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акое максимальное количество рёбер может быть в ориентированном ациклическом графе с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вершинам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Может ли быть так, что правильным результатом топологической сортировки графа оказывается любой порядок его вершин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Решить задачу о производстве деталей с помощью DF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ак использовать топологическую сортировку для определения наличия циклов в графе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288720"/>
            <a:ext cx="907092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Циклы и 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550800" y="2811600"/>
            <a:ext cx="8667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Если в графе есть циклы, то топологическая сортировка невозмож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50800" y="1839960"/>
            <a:ext cx="9010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Если граф ациклический, то можно выполнить топологическую сортиров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50800" y="3890880"/>
            <a:ext cx="86677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Как с помощью топологической сортировки определить наличие циклов в граф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60360" y="5111640"/>
            <a:ext cx="4680000" cy="22320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ycles := Fals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i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j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A[i, j]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order[j] &gt; order[i])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ycles := Tr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157720" y="5111640"/>
            <a:ext cx="4741920" cy="22320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ycles =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ALSE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i = 0; i &lt; n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j = 0; j &lt; n; j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A[i, j]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 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order[j] &gt; order[i]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ycles =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550800" y="1839960"/>
            <a:ext cx="9010800" cy="15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Используем DFS для нахождения граф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Если из текущей вершины есть путь в серую вершину, то имеем цик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Group 3"/>
          <p:cNvGrpSpPr/>
          <p:nvPr/>
        </p:nvGrpSpPr>
        <p:grpSpPr>
          <a:xfrm>
            <a:off x="4707000" y="3600360"/>
            <a:ext cx="4865760" cy="3389400"/>
            <a:chOff x="4707000" y="3600360"/>
            <a:chExt cx="4865760" cy="3389400"/>
          </a:xfrm>
        </p:grpSpPr>
        <p:sp>
          <p:nvSpPr>
            <p:cNvPr id="143" name="Oval 4"/>
            <p:cNvSpPr/>
            <p:nvPr/>
          </p:nvSpPr>
          <p:spPr>
            <a:xfrm>
              <a:off x="7767720" y="5759280"/>
              <a:ext cx="365040" cy="36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5"/>
            <p:cNvSpPr/>
            <p:nvPr/>
          </p:nvSpPr>
          <p:spPr>
            <a:xfrm>
              <a:off x="5967360" y="449100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6"/>
            <p:cNvSpPr/>
            <p:nvPr/>
          </p:nvSpPr>
          <p:spPr>
            <a:xfrm>
              <a:off x="6499080" y="6480000"/>
              <a:ext cx="36540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7"/>
            <p:cNvSpPr/>
            <p:nvPr/>
          </p:nvSpPr>
          <p:spPr>
            <a:xfrm>
              <a:off x="4707000" y="503244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8"/>
            <p:cNvSpPr/>
            <p:nvPr/>
          </p:nvSpPr>
          <p:spPr>
            <a:xfrm>
              <a:off x="5635800" y="5759280"/>
              <a:ext cx="365040" cy="36540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9"/>
            <p:cNvSpPr/>
            <p:nvPr/>
          </p:nvSpPr>
          <p:spPr>
            <a:xfrm>
              <a:off x="6651720" y="5391000"/>
              <a:ext cx="365040" cy="36540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0"/>
            <p:cNvSpPr/>
            <p:nvPr/>
          </p:nvSpPr>
          <p:spPr>
            <a:xfrm>
              <a:off x="7947000" y="431964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1"/>
            <p:cNvSpPr/>
            <p:nvPr/>
          </p:nvSpPr>
          <p:spPr>
            <a:xfrm>
              <a:off x="4879800" y="6472080"/>
              <a:ext cx="36540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51" name="AutoShape 12"/>
            <p:cNvCxnSpPr>
              <a:stCxn id="146" idx="5"/>
              <a:endCxn id="147" idx="1"/>
            </p:cNvCxnSpPr>
            <p:nvPr/>
          </p:nvCxnSpPr>
          <p:spPr>
            <a:xfrm>
              <a:off x="5022720" y="5346720"/>
              <a:ext cx="664560" cy="4658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2" name="AutoShape 13"/>
            <p:cNvCxnSpPr>
              <a:stCxn id="147" idx="3"/>
              <a:endCxn id="150" idx="7"/>
            </p:cNvCxnSpPr>
            <p:nvPr/>
          </p:nvCxnSpPr>
          <p:spPr>
            <a:xfrm flipH="1">
              <a:off x="5192280" y="6071760"/>
              <a:ext cx="494640" cy="4532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3" name="AutoShape 14"/>
            <p:cNvCxnSpPr>
              <a:stCxn id="147" idx="5"/>
              <a:endCxn id="145" idx="1"/>
            </p:cNvCxnSpPr>
            <p:nvPr/>
          </p:nvCxnSpPr>
          <p:spPr>
            <a:xfrm>
              <a:off x="5948280" y="6071760"/>
              <a:ext cx="603720" cy="461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4" name="AutoShape 15"/>
            <p:cNvCxnSpPr>
              <a:stCxn id="150" idx="6"/>
              <a:endCxn id="145" idx="2"/>
            </p:cNvCxnSpPr>
            <p:nvPr/>
          </p:nvCxnSpPr>
          <p:spPr>
            <a:xfrm>
              <a:off x="5246280" y="6656400"/>
              <a:ext cx="1251720" cy="7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5" name="AutoShape 16"/>
            <p:cNvCxnSpPr>
              <a:stCxn id="146" idx="4"/>
              <a:endCxn id="150" idx="0"/>
            </p:cNvCxnSpPr>
            <p:nvPr/>
          </p:nvCxnSpPr>
          <p:spPr>
            <a:xfrm>
              <a:off x="4889520" y="5398560"/>
              <a:ext cx="172080" cy="1072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6" name="AutoShape 17"/>
            <p:cNvCxnSpPr>
              <a:stCxn id="146" idx="7"/>
              <a:endCxn id="144" idx="2"/>
            </p:cNvCxnSpPr>
            <p:nvPr/>
          </p:nvCxnSpPr>
          <p:spPr>
            <a:xfrm flipV="1">
              <a:off x="5019840" y="4674600"/>
              <a:ext cx="946800" cy="4100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7" name="AutoShape 18"/>
            <p:cNvCxnSpPr>
              <a:stCxn id="144" idx="4"/>
              <a:endCxn id="147" idx="0"/>
            </p:cNvCxnSpPr>
            <p:nvPr/>
          </p:nvCxnSpPr>
          <p:spPr>
            <a:xfrm flipH="1">
              <a:off x="5819040" y="4857840"/>
              <a:ext cx="330840" cy="900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8" name="AutoShape 19"/>
            <p:cNvCxnSpPr>
              <a:stCxn id="148" idx="4"/>
              <a:endCxn id="145" idx="0"/>
            </p:cNvCxnSpPr>
            <p:nvPr/>
          </p:nvCxnSpPr>
          <p:spPr>
            <a:xfrm flipH="1">
              <a:off x="6682680" y="5757840"/>
              <a:ext cx="151560" cy="721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9" name="AutoShape 20"/>
            <p:cNvCxnSpPr>
              <a:stCxn id="148" idx="5"/>
              <a:endCxn id="143" idx="2"/>
            </p:cNvCxnSpPr>
            <p:nvPr/>
          </p:nvCxnSpPr>
          <p:spPr>
            <a:xfrm>
              <a:off x="6963840" y="5703840"/>
              <a:ext cx="802440" cy="2390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0" name="AutoShape 21"/>
            <p:cNvCxnSpPr>
              <a:stCxn id="148" idx="7"/>
              <a:endCxn id="149" idx="3"/>
            </p:cNvCxnSpPr>
            <p:nvPr/>
          </p:nvCxnSpPr>
          <p:spPr>
            <a:xfrm flipV="1">
              <a:off x="6964200" y="4631760"/>
              <a:ext cx="1036080" cy="810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1" name="AutoShape 22"/>
            <p:cNvCxnSpPr>
              <a:stCxn id="147" idx="7"/>
              <a:endCxn id="148" idx="2"/>
            </p:cNvCxnSpPr>
            <p:nvPr/>
          </p:nvCxnSpPr>
          <p:spPr>
            <a:xfrm flipV="1">
              <a:off x="5947920" y="5574600"/>
              <a:ext cx="702360" cy="2372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2" name="AutoShape 23"/>
            <p:cNvCxnSpPr>
              <a:stCxn id="149" idx="2"/>
              <a:endCxn id="144" idx="6"/>
            </p:cNvCxnSpPr>
            <p:nvPr/>
          </p:nvCxnSpPr>
          <p:spPr>
            <a:xfrm flipH="1">
              <a:off x="6333840" y="4503600"/>
              <a:ext cx="1612080" cy="170640"/>
            </a:xfrm>
            <a:prstGeom prst="straightConnector1">
              <a:avLst/>
            </a:prstGeom>
            <a:ln w="36000">
              <a:solidFill>
                <a:srgbClr val="00ffff"/>
              </a:solidFill>
              <a:miter/>
              <a:tailEnd len="med" type="triangle" w="med"/>
            </a:ln>
          </p:spPr>
        </p:cxnSp>
        <p:sp>
          <p:nvSpPr>
            <p:cNvPr id="163" name="Oval 24"/>
            <p:cNvSpPr/>
            <p:nvPr/>
          </p:nvSpPr>
          <p:spPr>
            <a:xfrm>
              <a:off x="7659720" y="662472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4" name="AutoShape 25"/>
            <p:cNvCxnSpPr>
              <a:stCxn id="143" idx="4"/>
              <a:endCxn id="163" idx="0"/>
            </p:cNvCxnSpPr>
            <p:nvPr/>
          </p:nvCxnSpPr>
          <p:spPr>
            <a:xfrm flipH="1">
              <a:off x="7843320" y="6126120"/>
              <a:ext cx="107280" cy="497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5" name="AutoShape 26"/>
            <p:cNvCxnSpPr>
              <a:stCxn id="163" idx="2"/>
              <a:endCxn id="145" idx="6"/>
            </p:cNvCxnSpPr>
            <p:nvPr/>
          </p:nvCxnSpPr>
          <p:spPr>
            <a:xfrm flipH="1" flipV="1">
              <a:off x="6865200" y="6663600"/>
              <a:ext cx="793080" cy="143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66" name="Oval 27"/>
            <p:cNvSpPr/>
            <p:nvPr/>
          </p:nvSpPr>
          <p:spPr>
            <a:xfrm>
              <a:off x="9207360" y="4500720"/>
              <a:ext cx="36540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28"/>
            <p:cNvSpPr/>
            <p:nvPr/>
          </p:nvSpPr>
          <p:spPr>
            <a:xfrm>
              <a:off x="8667720" y="5391000"/>
              <a:ext cx="36504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8" name="AutoShape 29"/>
            <p:cNvCxnSpPr>
              <a:stCxn id="149" idx="4"/>
              <a:endCxn id="167" idx="1"/>
            </p:cNvCxnSpPr>
            <p:nvPr/>
          </p:nvCxnSpPr>
          <p:spPr>
            <a:xfrm>
              <a:off x="8131320" y="4686120"/>
              <a:ext cx="589680" cy="7578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9" name="AutoShape 30"/>
            <p:cNvCxnSpPr>
              <a:stCxn id="149" idx="6"/>
              <a:endCxn id="166" idx="2"/>
            </p:cNvCxnSpPr>
            <p:nvPr/>
          </p:nvCxnSpPr>
          <p:spPr>
            <a:xfrm>
              <a:off x="8313840" y="4503240"/>
              <a:ext cx="892800" cy="180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70" name="Oval 31"/>
            <p:cNvSpPr/>
            <p:nvPr/>
          </p:nvSpPr>
          <p:spPr>
            <a:xfrm>
              <a:off x="4896000" y="395136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32"/>
            <p:cNvSpPr/>
            <p:nvPr/>
          </p:nvSpPr>
          <p:spPr>
            <a:xfrm>
              <a:off x="6507000" y="3772080"/>
              <a:ext cx="36540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33"/>
            <p:cNvSpPr/>
            <p:nvPr/>
          </p:nvSpPr>
          <p:spPr>
            <a:xfrm>
              <a:off x="7559640" y="360036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3" name="AutoShape 34"/>
            <p:cNvCxnSpPr>
              <a:stCxn id="149" idx="0"/>
              <a:endCxn id="172" idx="5"/>
            </p:cNvCxnSpPr>
            <p:nvPr/>
          </p:nvCxnSpPr>
          <p:spPr>
            <a:xfrm flipH="1" flipV="1">
              <a:off x="7872480" y="3912840"/>
              <a:ext cx="255960" cy="405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4" name="AutoShape 35"/>
            <p:cNvCxnSpPr>
              <a:stCxn id="144" idx="7"/>
              <a:endCxn id="171" idx="3"/>
            </p:cNvCxnSpPr>
            <p:nvPr/>
          </p:nvCxnSpPr>
          <p:spPr>
            <a:xfrm flipV="1">
              <a:off x="6280200" y="4084200"/>
              <a:ext cx="280080" cy="4579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5" name="AutoShape 36"/>
            <p:cNvCxnSpPr>
              <a:stCxn id="171" idx="2"/>
              <a:endCxn id="170" idx="6"/>
            </p:cNvCxnSpPr>
            <p:nvPr/>
          </p:nvCxnSpPr>
          <p:spPr>
            <a:xfrm flipH="1">
              <a:off x="5261760" y="3956040"/>
              <a:ext cx="1243800" cy="178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6" name="AutoShape 37"/>
            <p:cNvCxnSpPr>
              <a:stCxn id="146" idx="0"/>
              <a:endCxn id="170" idx="4"/>
            </p:cNvCxnSpPr>
            <p:nvPr/>
          </p:nvCxnSpPr>
          <p:spPr>
            <a:xfrm flipV="1">
              <a:off x="4889520" y="4317480"/>
              <a:ext cx="187920" cy="713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7" name="AutoShape 38"/>
            <p:cNvCxnSpPr>
              <a:stCxn id="172" idx="2"/>
              <a:endCxn id="171" idx="6"/>
            </p:cNvCxnSpPr>
            <p:nvPr/>
          </p:nvCxnSpPr>
          <p:spPr>
            <a:xfrm flipH="1">
              <a:off x="6873120" y="3784680"/>
              <a:ext cx="68508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</p:grpSp>
      <p:grpSp>
        <p:nvGrpSpPr>
          <p:cNvPr id="178" name="Group 39"/>
          <p:cNvGrpSpPr/>
          <p:nvPr/>
        </p:nvGrpSpPr>
        <p:grpSpPr>
          <a:xfrm>
            <a:off x="4708440" y="3600360"/>
            <a:ext cx="4865760" cy="3389400"/>
            <a:chOff x="4708440" y="3600360"/>
            <a:chExt cx="4865760" cy="3389400"/>
          </a:xfrm>
        </p:grpSpPr>
        <p:sp>
          <p:nvSpPr>
            <p:cNvPr id="179" name="Oval 40"/>
            <p:cNvSpPr/>
            <p:nvPr/>
          </p:nvSpPr>
          <p:spPr>
            <a:xfrm>
              <a:off x="7769160" y="576108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41"/>
            <p:cNvSpPr/>
            <p:nvPr/>
          </p:nvSpPr>
          <p:spPr>
            <a:xfrm>
              <a:off x="5967360" y="449280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42"/>
            <p:cNvSpPr/>
            <p:nvPr/>
          </p:nvSpPr>
          <p:spPr>
            <a:xfrm>
              <a:off x="6499080" y="6480000"/>
              <a:ext cx="36540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43"/>
            <p:cNvSpPr/>
            <p:nvPr/>
          </p:nvSpPr>
          <p:spPr>
            <a:xfrm>
              <a:off x="4708440" y="503244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44"/>
            <p:cNvSpPr/>
            <p:nvPr/>
          </p:nvSpPr>
          <p:spPr>
            <a:xfrm>
              <a:off x="5635800" y="576108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45"/>
            <p:cNvSpPr/>
            <p:nvPr/>
          </p:nvSpPr>
          <p:spPr>
            <a:xfrm>
              <a:off x="6651720" y="539280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46"/>
            <p:cNvSpPr/>
            <p:nvPr/>
          </p:nvSpPr>
          <p:spPr>
            <a:xfrm>
              <a:off x="7948440" y="4319640"/>
              <a:ext cx="36540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47"/>
            <p:cNvSpPr/>
            <p:nvPr/>
          </p:nvSpPr>
          <p:spPr>
            <a:xfrm>
              <a:off x="4879800" y="6472080"/>
              <a:ext cx="36540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7" name="AutoShape 48"/>
            <p:cNvCxnSpPr>
              <a:stCxn id="182" idx="5"/>
              <a:endCxn id="183" idx="1"/>
            </p:cNvCxnSpPr>
            <p:nvPr/>
          </p:nvCxnSpPr>
          <p:spPr>
            <a:xfrm>
              <a:off x="5022720" y="5346720"/>
              <a:ext cx="664560" cy="4658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88" name="AutoShape 49"/>
            <p:cNvCxnSpPr>
              <a:stCxn id="183" idx="3"/>
              <a:endCxn id="186" idx="7"/>
            </p:cNvCxnSpPr>
            <p:nvPr/>
          </p:nvCxnSpPr>
          <p:spPr>
            <a:xfrm flipH="1">
              <a:off x="5192280" y="6073920"/>
              <a:ext cx="494640" cy="451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89" name="AutoShape 50"/>
            <p:cNvCxnSpPr>
              <a:stCxn id="183" idx="5"/>
              <a:endCxn id="181" idx="1"/>
            </p:cNvCxnSpPr>
            <p:nvPr/>
          </p:nvCxnSpPr>
          <p:spPr>
            <a:xfrm>
              <a:off x="5948280" y="6073920"/>
              <a:ext cx="603720" cy="459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0" name="AutoShape 51"/>
            <p:cNvCxnSpPr>
              <a:stCxn id="186" idx="6"/>
              <a:endCxn id="181" idx="2"/>
            </p:cNvCxnSpPr>
            <p:nvPr/>
          </p:nvCxnSpPr>
          <p:spPr>
            <a:xfrm>
              <a:off x="5246280" y="6656400"/>
              <a:ext cx="1251720" cy="7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1" name="AutoShape 52"/>
            <p:cNvCxnSpPr>
              <a:stCxn id="182" idx="4"/>
              <a:endCxn id="186" idx="0"/>
            </p:cNvCxnSpPr>
            <p:nvPr/>
          </p:nvCxnSpPr>
          <p:spPr>
            <a:xfrm>
              <a:off x="4892760" y="5398560"/>
              <a:ext cx="170640" cy="1072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2" name="AutoShape 53"/>
            <p:cNvCxnSpPr>
              <a:stCxn id="182" idx="7"/>
              <a:endCxn id="180" idx="2"/>
            </p:cNvCxnSpPr>
            <p:nvPr/>
          </p:nvCxnSpPr>
          <p:spPr>
            <a:xfrm flipV="1">
              <a:off x="5021280" y="4676040"/>
              <a:ext cx="945360" cy="4086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3" name="AutoShape 54"/>
            <p:cNvCxnSpPr>
              <a:stCxn id="180" idx="4"/>
              <a:endCxn id="183" idx="0"/>
            </p:cNvCxnSpPr>
            <p:nvPr/>
          </p:nvCxnSpPr>
          <p:spPr>
            <a:xfrm flipH="1">
              <a:off x="5819040" y="4859280"/>
              <a:ext cx="330840" cy="90072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4" name="AutoShape 55"/>
            <p:cNvCxnSpPr>
              <a:stCxn id="184" idx="4"/>
              <a:endCxn id="181" idx="0"/>
            </p:cNvCxnSpPr>
            <p:nvPr/>
          </p:nvCxnSpPr>
          <p:spPr>
            <a:xfrm flipH="1">
              <a:off x="6682680" y="5759280"/>
              <a:ext cx="151560" cy="7200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5" name="AutoShape 56"/>
            <p:cNvCxnSpPr>
              <a:stCxn id="184" idx="5"/>
              <a:endCxn id="179" idx="2"/>
            </p:cNvCxnSpPr>
            <p:nvPr/>
          </p:nvCxnSpPr>
          <p:spPr>
            <a:xfrm>
              <a:off x="6963840" y="5705280"/>
              <a:ext cx="802440" cy="2386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6" name="AutoShape 57"/>
            <p:cNvCxnSpPr>
              <a:stCxn id="184" idx="7"/>
              <a:endCxn id="185" idx="3"/>
            </p:cNvCxnSpPr>
            <p:nvPr/>
          </p:nvCxnSpPr>
          <p:spPr>
            <a:xfrm flipV="1">
              <a:off x="6964200" y="4631760"/>
              <a:ext cx="1037520" cy="81180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7" name="AutoShape 58"/>
            <p:cNvCxnSpPr>
              <a:stCxn id="183" idx="7"/>
              <a:endCxn id="184" idx="2"/>
            </p:cNvCxnSpPr>
            <p:nvPr/>
          </p:nvCxnSpPr>
          <p:spPr>
            <a:xfrm flipV="1">
              <a:off x="5947920" y="5574600"/>
              <a:ext cx="702360" cy="23724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8" name="AutoShape 59"/>
            <p:cNvCxnSpPr>
              <a:stCxn id="185" idx="2"/>
              <a:endCxn id="180" idx="6"/>
            </p:cNvCxnSpPr>
            <p:nvPr/>
          </p:nvCxnSpPr>
          <p:spPr>
            <a:xfrm flipH="1">
              <a:off x="6333840" y="4503240"/>
              <a:ext cx="1613520" cy="17244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99" name="Oval 60"/>
            <p:cNvSpPr/>
            <p:nvPr/>
          </p:nvSpPr>
          <p:spPr>
            <a:xfrm>
              <a:off x="7659720" y="662472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0" name="AutoShape 61"/>
            <p:cNvCxnSpPr>
              <a:stCxn id="179" idx="4"/>
              <a:endCxn id="199" idx="0"/>
            </p:cNvCxnSpPr>
            <p:nvPr/>
          </p:nvCxnSpPr>
          <p:spPr>
            <a:xfrm flipH="1">
              <a:off x="7843320" y="6127560"/>
              <a:ext cx="107280" cy="495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01" name="AutoShape 62"/>
            <p:cNvCxnSpPr>
              <a:stCxn id="199" idx="2"/>
              <a:endCxn id="181" idx="6"/>
            </p:cNvCxnSpPr>
            <p:nvPr/>
          </p:nvCxnSpPr>
          <p:spPr>
            <a:xfrm flipH="1" flipV="1">
              <a:off x="6865200" y="6663600"/>
              <a:ext cx="793080" cy="143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02" name="Oval 63"/>
            <p:cNvSpPr/>
            <p:nvPr/>
          </p:nvSpPr>
          <p:spPr>
            <a:xfrm>
              <a:off x="9209160" y="450072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64"/>
            <p:cNvSpPr/>
            <p:nvPr/>
          </p:nvSpPr>
          <p:spPr>
            <a:xfrm>
              <a:off x="8669160" y="5392800"/>
              <a:ext cx="36540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4" name="AutoShape 65"/>
            <p:cNvCxnSpPr>
              <a:stCxn id="185" idx="4"/>
              <a:endCxn id="203" idx="1"/>
            </p:cNvCxnSpPr>
            <p:nvPr/>
          </p:nvCxnSpPr>
          <p:spPr>
            <a:xfrm>
              <a:off x="8132760" y="4686120"/>
              <a:ext cx="589680" cy="7592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05" name="AutoShape 66"/>
            <p:cNvCxnSpPr>
              <a:stCxn id="185" idx="6"/>
              <a:endCxn id="202" idx="2"/>
            </p:cNvCxnSpPr>
            <p:nvPr/>
          </p:nvCxnSpPr>
          <p:spPr>
            <a:xfrm>
              <a:off x="8315280" y="4503240"/>
              <a:ext cx="891360" cy="180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06" name="Oval 67"/>
            <p:cNvSpPr/>
            <p:nvPr/>
          </p:nvSpPr>
          <p:spPr>
            <a:xfrm>
              <a:off x="4896000" y="395136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68"/>
            <p:cNvSpPr/>
            <p:nvPr/>
          </p:nvSpPr>
          <p:spPr>
            <a:xfrm>
              <a:off x="6508800" y="377208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69"/>
            <p:cNvSpPr/>
            <p:nvPr/>
          </p:nvSpPr>
          <p:spPr>
            <a:xfrm>
              <a:off x="7559640" y="360036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9" name="AutoShape 70"/>
            <p:cNvCxnSpPr>
              <a:stCxn id="185" idx="0"/>
              <a:endCxn id="208" idx="5"/>
            </p:cNvCxnSpPr>
            <p:nvPr/>
          </p:nvCxnSpPr>
          <p:spPr>
            <a:xfrm flipH="1" flipV="1">
              <a:off x="7873200" y="3912840"/>
              <a:ext cx="258120" cy="405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10" name="AutoShape 71"/>
            <p:cNvCxnSpPr>
              <a:stCxn id="180" idx="7"/>
              <a:endCxn id="207" idx="3"/>
            </p:cNvCxnSpPr>
            <p:nvPr/>
          </p:nvCxnSpPr>
          <p:spPr>
            <a:xfrm flipV="1">
              <a:off x="6280200" y="4083840"/>
              <a:ext cx="281520" cy="459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11" name="AutoShape 72"/>
            <p:cNvCxnSpPr>
              <a:stCxn id="207" idx="2"/>
              <a:endCxn id="206" idx="6"/>
            </p:cNvCxnSpPr>
            <p:nvPr/>
          </p:nvCxnSpPr>
          <p:spPr>
            <a:xfrm flipH="1">
              <a:off x="5261760" y="3956040"/>
              <a:ext cx="1245240" cy="178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12" name="AutoShape 73"/>
            <p:cNvCxnSpPr>
              <a:stCxn id="182" idx="0"/>
              <a:endCxn id="206" idx="4"/>
            </p:cNvCxnSpPr>
            <p:nvPr/>
          </p:nvCxnSpPr>
          <p:spPr>
            <a:xfrm flipV="1">
              <a:off x="4892760" y="4317480"/>
              <a:ext cx="186480" cy="713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13" name="AutoShape 74"/>
            <p:cNvCxnSpPr>
              <a:stCxn id="208" idx="2"/>
              <a:endCxn id="207" idx="6"/>
            </p:cNvCxnSpPr>
            <p:nvPr/>
          </p:nvCxnSpPr>
          <p:spPr>
            <a:xfrm flipH="1">
              <a:off x="6875640" y="3784680"/>
              <a:ext cx="68292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</p:grpSp>
      <p:sp>
        <p:nvSpPr>
          <p:cNvPr id="214" name="Text Box 75"/>
          <p:cNvSpPr/>
          <p:nvPr/>
        </p:nvSpPr>
        <p:spPr>
          <a:xfrm>
            <a:off x="550800" y="4680000"/>
            <a:ext cx="35895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Если в графе есть цикл, то почему DFS обязательно его найдё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550800" y="1839960"/>
            <a:ext cx="9010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Рассмотрим цикл и момент, когда покидаем первую вершину в нё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3456000" y="3051000"/>
            <a:ext cx="2481120" cy="2165400"/>
            <a:chOff x="3456000" y="3051000"/>
            <a:chExt cx="2481120" cy="2165400"/>
          </a:xfrm>
        </p:grpSpPr>
        <p:cxnSp>
          <p:nvCxnSpPr>
            <p:cNvPr id="218" name="AutoShape 4"/>
            <p:cNvCxnSpPr>
              <a:stCxn id="219" idx="5"/>
              <a:endCxn id="220" idx="1"/>
            </p:cNvCxnSpPr>
            <p:nvPr/>
          </p:nvCxnSpPr>
          <p:spPr>
            <a:xfrm>
              <a:off x="3769920" y="4238280"/>
              <a:ext cx="421560" cy="664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21" name="AutoShape 5"/>
            <p:cNvCxnSpPr>
              <a:stCxn id="220" idx="6"/>
              <a:endCxn id="222" idx="2"/>
            </p:cNvCxnSpPr>
            <p:nvPr/>
          </p:nvCxnSpPr>
          <p:spPr>
            <a:xfrm flipV="1">
              <a:off x="4506840" y="4863600"/>
              <a:ext cx="89280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23" name="Oval 6"/>
            <p:cNvSpPr/>
            <p:nvPr/>
          </p:nvSpPr>
          <p:spPr>
            <a:xfrm>
              <a:off x="5572080" y="306072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24" name="AutoShape 7"/>
            <p:cNvCxnSpPr>
              <a:stCxn id="222" idx="0"/>
              <a:endCxn id="223" idx="4"/>
            </p:cNvCxnSpPr>
            <p:nvPr/>
          </p:nvCxnSpPr>
          <p:spPr>
            <a:xfrm flipV="1">
              <a:off x="5584680" y="3427200"/>
              <a:ext cx="170640" cy="1251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25" name="AutoShape 8"/>
            <p:cNvCxnSpPr>
              <a:stCxn id="226" idx="2"/>
              <a:endCxn id="219" idx="7"/>
            </p:cNvCxnSpPr>
            <p:nvPr/>
          </p:nvCxnSpPr>
          <p:spPr>
            <a:xfrm flipH="1">
              <a:off x="3768120" y="3235320"/>
              <a:ext cx="549720" cy="7437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27" name="AutoShape 9"/>
            <p:cNvCxnSpPr>
              <a:stCxn id="223" idx="2"/>
              <a:endCxn id="226" idx="7"/>
            </p:cNvCxnSpPr>
            <p:nvPr/>
          </p:nvCxnSpPr>
          <p:spPr>
            <a:xfrm flipH="1" flipV="1">
              <a:off x="4631760" y="3104640"/>
              <a:ext cx="937080" cy="1389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28" name="Oval 10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Oval 11"/>
            <p:cNvSpPr/>
            <p:nvPr/>
          </p:nvSpPr>
          <p:spPr>
            <a:xfrm>
              <a:off x="4319640" y="3051000"/>
              <a:ext cx="365040" cy="3654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Oval 12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Oval 13"/>
            <p:cNvSpPr/>
            <p:nvPr/>
          </p:nvSpPr>
          <p:spPr>
            <a:xfrm>
              <a:off x="4140360" y="4851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Oval 14"/>
            <p:cNvSpPr/>
            <p:nvPr/>
          </p:nvSpPr>
          <p:spPr>
            <a:xfrm>
              <a:off x="5400720" y="46800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Group 15"/>
          <p:cNvGrpSpPr/>
          <p:nvPr/>
        </p:nvGrpSpPr>
        <p:grpSpPr>
          <a:xfrm>
            <a:off x="3456000" y="3052800"/>
            <a:ext cx="2481120" cy="2165400"/>
            <a:chOff x="3456000" y="3052800"/>
            <a:chExt cx="2481120" cy="2165400"/>
          </a:xfrm>
        </p:grpSpPr>
        <p:cxnSp>
          <p:nvCxnSpPr>
            <p:cNvPr id="230" name="AutoShape 16"/>
            <p:cNvCxnSpPr>
              <a:stCxn id="231" idx="5"/>
              <a:endCxn id="232" idx="1"/>
            </p:cNvCxnSpPr>
            <p:nvPr/>
          </p:nvCxnSpPr>
          <p:spPr>
            <a:xfrm>
              <a:off x="3769920" y="4240080"/>
              <a:ext cx="421560" cy="6645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33" name="AutoShape 17"/>
            <p:cNvCxnSpPr>
              <a:stCxn id="232" idx="6"/>
              <a:endCxn id="234" idx="2"/>
            </p:cNvCxnSpPr>
            <p:nvPr/>
          </p:nvCxnSpPr>
          <p:spPr>
            <a:xfrm flipV="1">
              <a:off x="4506840" y="4863240"/>
              <a:ext cx="892800" cy="172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35" name="Oval 18"/>
            <p:cNvSpPr/>
            <p:nvPr/>
          </p:nvSpPr>
          <p:spPr>
            <a:xfrm>
              <a:off x="5572080" y="306072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36" name="AutoShape 19"/>
            <p:cNvCxnSpPr>
              <a:stCxn id="234" idx="0"/>
              <a:endCxn id="235" idx="4"/>
            </p:cNvCxnSpPr>
            <p:nvPr/>
          </p:nvCxnSpPr>
          <p:spPr>
            <a:xfrm flipV="1">
              <a:off x="5584680" y="3427200"/>
              <a:ext cx="170640" cy="1251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37" name="AutoShape 20"/>
            <p:cNvCxnSpPr>
              <a:stCxn id="238" idx="2"/>
              <a:endCxn id="231" idx="7"/>
            </p:cNvCxnSpPr>
            <p:nvPr/>
          </p:nvCxnSpPr>
          <p:spPr>
            <a:xfrm flipH="1">
              <a:off x="3768120" y="3236400"/>
              <a:ext cx="549720" cy="740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39" name="AutoShape 21"/>
            <p:cNvCxnSpPr>
              <a:stCxn id="235" idx="2"/>
              <a:endCxn id="238" idx="7"/>
            </p:cNvCxnSpPr>
            <p:nvPr/>
          </p:nvCxnSpPr>
          <p:spPr>
            <a:xfrm flipH="1" flipV="1">
              <a:off x="4631760" y="3106080"/>
              <a:ext cx="937080" cy="137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40" name="Oval 22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23"/>
            <p:cNvSpPr/>
            <p:nvPr/>
          </p:nvSpPr>
          <p:spPr>
            <a:xfrm>
              <a:off x="4319640" y="30528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Oval 24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Oval 25"/>
            <p:cNvSpPr/>
            <p:nvPr/>
          </p:nvSpPr>
          <p:spPr>
            <a:xfrm>
              <a:off x="4140360" y="48531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Oval 26"/>
            <p:cNvSpPr/>
            <p:nvPr/>
          </p:nvSpPr>
          <p:spPr>
            <a:xfrm>
              <a:off x="5400720" y="46800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Group 27"/>
          <p:cNvGrpSpPr/>
          <p:nvPr/>
        </p:nvGrpSpPr>
        <p:grpSpPr>
          <a:xfrm>
            <a:off x="3456000" y="3052800"/>
            <a:ext cx="2481120" cy="2165400"/>
            <a:chOff x="3456000" y="3052800"/>
            <a:chExt cx="2481120" cy="2165400"/>
          </a:xfrm>
        </p:grpSpPr>
        <p:cxnSp>
          <p:nvCxnSpPr>
            <p:cNvPr id="242" name="AutoShape 28"/>
            <p:cNvCxnSpPr>
              <a:stCxn id="243" idx="5"/>
              <a:endCxn id="244" idx="1"/>
            </p:cNvCxnSpPr>
            <p:nvPr/>
          </p:nvCxnSpPr>
          <p:spPr>
            <a:xfrm>
              <a:off x="3769920" y="4240080"/>
              <a:ext cx="421560" cy="6645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45" name="AutoShape 29"/>
            <p:cNvCxnSpPr>
              <a:stCxn id="244" idx="6"/>
              <a:endCxn id="246" idx="2"/>
            </p:cNvCxnSpPr>
            <p:nvPr/>
          </p:nvCxnSpPr>
          <p:spPr>
            <a:xfrm flipV="1">
              <a:off x="4506840" y="4865400"/>
              <a:ext cx="89280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47" name="Oval 30"/>
            <p:cNvSpPr/>
            <p:nvPr/>
          </p:nvSpPr>
          <p:spPr>
            <a:xfrm>
              <a:off x="5572080" y="306072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48" name="AutoShape 31"/>
            <p:cNvCxnSpPr>
              <a:stCxn id="246" idx="0"/>
              <a:endCxn id="247" idx="4"/>
            </p:cNvCxnSpPr>
            <p:nvPr/>
          </p:nvCxnSpPr>
          <p:spPr>
            <a:xfrm flipV="1">
              <a:off x="5584680" y="3426840"/>
              <a:ext cx="170640" cy="1253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49" name="AutoShape 32"/>
            <p:cNvCxnSpPr>
              <a:stCxn id="250" idx="2"/>
              <a:endCxn id="243" idx="7"/>
            </p:cNvCxnSpPr>
            <p:nvPr/>
          </p:nvCxnSpPr>
          <p:spPr>
            <a:xfrm flipH="1">
              <a:off x="3768120" y="3236760"/>
              <a:ext cx="549720" cy="7423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51" name="AutoShape 33"/>
            <p:cNvCxnSpPr>
              <a:stCxn id="247" idx="2"/>
              <a:endCxn id="250" idx="7"/>
            </p:cNvCxnSpPr>
            <p:nvPr/>
          </p:nvCxnSpPr>
          <p:spPr>
            <a:xfrm flipH="1" flipV="1">
              <a:off x="4631760" y="3106080"/>
              <a:ext cx="937080" cy="137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52" name="Oval 34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35"/>
            <p:cNvSpPr/>
            <p:nvPr/>
          </p:nvSpPr>
          <p:spPr>
            <a:xfrm>
              <a:off x="4319640" y="30528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36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37"/>
            <p:cNvSpPr/>
            <p:nvPr/>
          </p:nvSpPr>
          <p:spPr>
            <a:xfrm>
              <a:off x="4140360" y="485316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Oval 38"/>
            <p:cNvSpPr/>
            <p:nvPr/>
          </p:nvSpPr>
          <p:spPr>
            <a:xfrm>
              <a:off x="5400720" y="4681440"/>
              <a:ext cx="365040" cy="3654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Group 39"/>
          <p:cNvGrpSpPr/>
          <p:nvPr/>
        </p:nvGrpSpPr>
        <p:grpSpPr>
          <a:xfrm>
            <a:off x="3456000" y="3052800"/>
            <a:ext cx="2481120" cy="2165400"/>
            <a:chOff x="3456000" y="3052800"/>
            <a:chExt cx="2481120" cy="2165400"/>
          </a:xfrm>
        </p:grpSpPr>
        <p:cxnSp>
          <p:nvCxnSpPr>
            <p:cNvPr id="254" name="AutoShape 40"/>
            <p:cNvCxnSpPr>
              <a:stCxn id="255" idx="5"/>
              <a:endCxn id="256" idx="1"/>
            </p:cNvCxnSpPr>
            <p:nvPr/>
          </p:nvCxnSpPr>
          <p:spPr>
            <a:xfrm>
              <a:off x="3769920" y="4240080"/>
              <a:ext cx="421560" cy="6645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57" name="AutoShape 41"/>
            <p:cNvCxnSpPr>
              <a:stCxn id="256" idx="6"/>
              <a:endCxn id="258" idx="2"/>
            </p:cNvCxnSpPr>
            <p:nvPr/>
          </p:nvCxnSpPr>
          <p:spPr>
            <a:xfrm flipV="1">
              <a:off x="4506840" y="4865400"/>
              <a:ext cx="89280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59" name="Oval 42"/>
            <p:cNvSpPr/>
            <p:nvPr/>
          </p:nvSpPr>
          <p:spPr>
            <a:xfrm>
              <a:off x="5572080" y="306216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60" name="AutoShape 43"/>
            <p:cNvCxnSpPr>
              <a:stCxn id="258" idx="0"/>
              <a:endCxn id="259" idx="4"/>
            </p:cNvCxnSpPr>
            <p:nvPr/>
          </p:nvCxnSpPr>
          <p:spPr>
            <a:xfrm flipV="1">
              <a:off x="5584680" y="3428280"/>
              <a:ext cx="170640" cy="1251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61" name="AutoShape 44"/>
            <p:cNvCxnSpPr>
              <a:stCxn id="262" idx="2"/>
              <a:endCxn id="255" idx="7"/>
            </p:cNvCxnSpPr>
            <p:nvPr/>
          </p:nvCxnSpPr>
          <p:spPr>
            <a:xfrm flipH="1">
              <a:off x="3768120" y="3236760"/>
              <a:ext cx="549720" cy="7423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63" name="AutoShape 45"/>
            <p:cNvCxnSpPr>
              <a:stCxn id="259" idx="2"/>
              <a:endCxn id="262" idx="7"/>
            </p:cNvCxnSpPr>
            <p:nvPr/>
          </p:nvCxnSpPr>
          <p:spPr>
            <a:xfrm flipH="1" flipV="1">
              <a:off x="4631760" y="3106080"/>
              <a:ext cx="937080" cy="1386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64" name="Oval 46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Oval 47"/>
            <p:cNvSpPr/>
            <p:nvPr/>
          </p:nvSpPr>
          <p:spPr>
            <a:xfrm>
              <a:off x="4319640" y="305280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Oval 48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49"/>
            <p:cNvSpPr/>
            <p:nvPr/>
          </p:nvSpPr>
          <p:spPr>
            <a:xfrm>
              <a:off x="4140360" y="485316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Oval 50"/>
            <p:cNvSpPr/>
            <p:nvPr/>
          </p:nvSpPr>
          <p:spPr>
            <a:xfrm>
              <a:off x="5400720" y="468144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Group 51"/>
          <p:cNvGrpSpPr/>
          <p:nvPr/>
        </p:nvGrpSpPr>
        <p:grpSpPr>
          <a:xfrm>
            <a:off x="3456000" y="3054240"/>
            <a:ext cx="2481120" cy="2165400"/>
            <a:chOff x="3456000" y="3054240"/>
            <a:chExt cx="2481120" cy="2165400"/>
          </a:xfrm>
        </p:grpSpPr>
        <p:cxnSp>
          <p:nvCxnSpPr>
            <p:cNvPr id="266" name="AutoShape 52"/>
            <p:cNvCxnSpPr>
              <a:stCxn id="267" idx="5"/>
              <a:endCxn id="268" idx="1"/>
            </p:cNvCxnSpPr>
            <p:nvPr/>
          </p:nvCxnSpPr>
          <p:spPr>
            <a:xfrm>
              <a:off x="3769920" y="4241520"/>
              <a:ext cx="421560" cy="664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69" name="AutoShape 53"/>
            <p:cNvCxnSpPr>
              <a:stCxn id="268" idx="6"/>
              <a:endCxn id="270" idx="2"/>
            </p:cNvCxnSpPr>
            <p:nvPr/>
          </p:nvCxnSpPr>
          <p:spPr>
            <a:xfrm flipV="1">
              <a:off x="4506840" y="4865400"/>
              <a:ext cx="892800" cy="1720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71" name="Oval 54"/>
            <p:cNvSpPr/>
            <p:nvPr/>
          </p:nvSpPr>
          <p:spPr>
            <a:xfrm>
              <a:off x="5572080" y="306216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72" name="AutoShape 55"/>
            <p:cNvCxnSpPr>
              <a:stCxn id="270" idx="0"/>
              <a:endCxn id="271" idx="4"/>
            </p:cNvCxnSpPr>
            <p:nvPr/>
          </p:nvCxnSpPr>
          <p:spPr>
            <a:xfrm flipV="1">
              <a:off x="5584680" y="3428280"/>
              <a:ext cx="170640" cy="1251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73" name="AutoShape 56"/>
            <p:cNvCxnSpPr>
              <a:stCxn id="274" idx="2"/>
              <a:endCxn id="267" idx="7"/>
            </p:cNvCxnSpPr>
            <p:nvPr/>
          </p:nvCxnSpPr>
          <p:spPr>
            <a:xfrm flipH="1">
              <a:off x="3768120" y="3238200"/>
              <a:ext cx="549720" cy="740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75" name="AutoShape 57"/>
            <p:cNvCxnSpPr>
              <a:stCxn id="271" idx="2"/>
              <a:endCxn id="274" idx="7"/>
            </p:cNvCxnSpPr>
            <p:nvPr/>
          </p:nvCxnSpPr>
          <p:spPr>
            <a:xfrm flipH="1" flipV="1">
              <a:off x="4631760" y="3107520"/>
              <a:ext cx="937080" cy="137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76" name="Oval 58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Oval 59"/>
            <p:cNvSpPr/>
            <p:nvPr/>
          </p:nvSpPr>
          <p:spPr>
            <a:xfrm>
              <a:off x="4319640" y="305424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Oval 60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Oval 61"/>
            <p:cNvSpPr/>
            <p:nvPr/>
          </p:nvSpPr>
          <p:spPr>
            <a:xfrm>
              <a:off x="4140360" y="485460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Oval 62"/>
            <p:cNvSpPr/>
            <p:nvPr/>
          </p:nvSpPr>
          <p:spPr>
            <a:xfrm>
              <a:off x="5400720" y="468144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7" name="Group 63"/>
          <p:cNvGrpSpPr/>
          <p:nvPr/>
        </p:nvGrpSpPr>
        <p:grpSpPr>
          <a:xfrm>
            <a:off x="3456000" y="3051000"/>
            <a:ext cx="2481120" cy="2165400"/>
            <a:chOff x="3456000" y="3051000"/>
            <a:chExt cx="2481120" cy="2165400"/>
          </a:xfrm>
        </p:grpSpPr>
        <p:cxnSp>
          <p:nvCxnSpPr>
            <p:cNvPr id="278" name="AutoShape 64"/>
            <p:cNvCxnSpPr>
              <a:stCxn id="279" idx="5"/>
              <a:endCxn id="280" idx="1"/>
            </p:cNvCxnSpPr>
            <p:nvPr/>
          </p:nvCxnSpPr>
          <p:spPr>
            <a:xfrm>
              <a:off x="3769920" y="4238280"/>
              <a:ext cx="421560" cy="66420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81" name="AutoShape 65"/>
            <p:cNvCxnSpPr>
              <a:stCxn id="280" idx="6"/>
              <a:endCxn id="282" idx="2"/>
            </p:cNvCxnSpPr>
            <p:nvPr/>
          </p:nvCxnSpPr>
          <p:spPr>
            <a:xfrm flipV="1">
              <a:off x="4506840" y="4863600"/>
              <a:ext cx="89280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3" name="Oval 66"/>
            <p:cNvSpPr/>
            <p:nvPr/>
          </p:nvSpPr>
          <p:spPr>
            <a:xfrm>
              <a:off x="5572080" y="306072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84" name="AutoShape 67"/>
            <p:cNvCxnSpPr>
              <a:stCxn id="282" idx="0"/>
              <a:endCxn id="283" idx="4"/>
            </p:cNvCxnSpPr>
            <p:nvPr/>
          </p:nvCxnSpPr>
          <p:spPr>
            <a:xfrm flipV="1">
              <a:off x="5584680" y="3427200"/>
              <a:ext cx="170640" cy="1251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68"/>
            <p:cNvCxnSpPr>
              <a:stCxn id="286" idx="2"/>
              <a:endCxn id="279" idx="7"/>
            </p:cNvCxnSpPr>
            <p:nvPr/>
          </p:nvCxnSpPr>
          <p:spPr>
            <a:xfrm flipH="1">
              <a:off x="3768120" y="3235320"/>
              <a:ext cx="549720" cy="7437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7" name="AutoShape 69"/>
            <p:cNvCxnSpPr>
              <a:stCxn id="283" idx="2"/>
              <a:endCxn id="286" idx="7"/>
            </p:cNvCxnSpPr>
            <p:nvPr/>
          </p:nvCxnSpPr>
          <p:spPr>
            <a:xfrm flipH="1" flipV="1">
              <a:off x="4631760" y="3104640"/>
              <a:ext cx="937080" cy="1389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8" name="Oval 70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Oval 71"/>
            <p:cNvSpPr/>
            <p:nvPr/>
          </p:nvSpPr>
          <p:spPr>
            <a:xfrm>
              <a:off x="4319640" y="305100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Oval 72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Oval 73"/>
            <p:cNvSpPr/>
            <p:nvPr/>
          </p:nvSpPr>
          <p:spPr>
            <a:xfrm>
              <a:off x="4140360" y="485136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74"/>
            <p:cNvSpPr/>
            <p:nvPr/>
          </p:nvSpPr>
          <p:spPr>
            <a:xfrm>
              <a:off x="5400720" y="468000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Text Box 75"/>
          <p:cNvSpPr/>
          <p:nvPr/>
        </p:nvSpPr>
        <p:spPr>
          <a:xfrm>
            <a:off x="550800" y="5548320"/>
            <a:ext cx="9010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Возвращаться будем из вершины </a:t>
            </a:r>
            <a:r>
              <a:rPr b="0" i="1" lang="pl-PL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в вершину </a:t>
            </a:r>
            <a:r>
              <a:rPr b="0" i="1" lang="pl-PL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, поочерёдно окрашивая вершины в цикле в чёрный цв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2"/>
          <p:cNvSpPr/>
          <p:nvPr/>
        </p:nvSpPr>
        <p:spPr>
          <a:xfrm>
            <a:off x="550800" y="1839960"/>
            <a:ext cx="9010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Как определить сам цик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550800" y="2560680"/>
            <a:ext cx="901080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Сделаем стек. При заходе в вершину помещаем её в стек, при выходе — забираем её оттуда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массив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stack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длины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n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— стек вершин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8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sp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— указатель вершины стека (число элементов в нём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360360" y="4500720"/>
            <a:ext cx="4680000" cy="284472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 :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Push(v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Inc(sp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tack[sp] := v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Pop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ec(sp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5157720" y="4500720"/>
            <a:ext cx="4741920" cy="284472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Push(v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tack[++sp - 1] = v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Pop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--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179280" y="1584360"/>
            <a:ext cx="5040360" cy="57960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i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i] := WHIT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:= False; found := False; DFS(1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FS(v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v] := GRAY; Push(v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u - сосед v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 not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Found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color[u] = WHITE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FS(u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color[u] = GRAY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begin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Found := Tr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c := u; rm := Tr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nd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Found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запомнить текущую вершину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v] := BLACK; Po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5400720" y="1587600"/>
            <a:ext cx="4500360" cy="579276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i = 0; i &lt; n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i] = WHIT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= Found =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ALSE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 DFS(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FS(v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v] = GRAY; Push(v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u - сосед v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(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!Fou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color[u] == WHITE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FS(u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color[u] == GRA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= Found =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c = u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Fou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запомнить текущую вершину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v] = BLACK; Po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550800" y="1552680"/>
            <a:ext cx="90108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Как запомнить все вершины, из которых выходи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550800" y="2633760"/>
            <a:ext cx="901080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Сделаем второй стек. Если цикл найден, то помещаем во второй стек все покидаемые вершины, пока не встретим вершину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cc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массив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stack2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длины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n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— стек вершин в прямом порядке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8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sp2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— указатель вершины второго стека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360360" y="4751280"/>
            <a:ext cx="4562640" cy="27352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2 :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запомнить текущую вершину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rm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be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:= rm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and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(v &lt;&gt; cc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Inc(sp2); stack2[sp2] := v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nd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5067360" y="4756320"/>
            <a:ext cx="4707000" cy="273204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2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запомнить текущую вершину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r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&amp;= v != cc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tack[++sp - 1] = v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0360" y="1768320"/>
            <a:ext cx="9360000" cy="56311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первой строке файла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in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заданы целые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— соответственно число вершин и число рёбер  ориентированного графа (1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10 000, 0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50 000). В следующих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строках файла заданы пары номеров вершин, соединённых рёбр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файл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ut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вывести последовательность номеров вершин, соответствующих любому циклу в графе. Если граф ациклический, то вывести 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времени — 1 с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памяти — 16 М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1:20:17Z</dcterms:created>
  <dc:creator>Югов Иван Олегович</dc:creator>
  <dc:description>Некоторые права защищены. Данная работа распространяется под лицензией Creative Commons Attribution 2.0
Фоновое изображение: Peter Asplund
---
Art Creative Commons Some rights reserved. This work is licensed under a Creative Commons Attribution License 2.0.
Background by Peter Asplund
</dc:description>
  <cp:keywords>граф теория программирование graph theory programming</cp:keywords>
  <dc:language>en-US</dc:language>
  <cp:lastModifiedBy>iyugov</cp:lastModifiedBy>
  <dcterms:modified xsi:type="dcterms:W3CDTF">2011-12-20T08:14:47Z</dcterms:modified>
  <cp:revision>223</cp:revision>
  <dc:subject>Теория графов: топологическая сортировка отсечением вершин</dc:subject>
  <dc:title>Теория граф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Язык">
    <vt:lpwstr>русский</vt:lpwstr>
  </property>
</Properties>
</file>