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48C10-8195-4C09-AF95-2961AD1B082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4BC21-9682-407C-8D03-C51B3898C35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69E1A-97DC-40F2-AFAE-21FCDED690B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297F2-39AE-4926-A8E3-948111EF37A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2F172-4D93-4F81-8F58-8C1706C8C26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ервое доказали для отсечения вершин и для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второе справедливо? Из-за транзитивности и антисимметричности путей ациклического ориентированного графа (отношения порядк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ариант для матрицы смежности. За сколько работает? Что нужно дописать? За сколько будет работать? Как нужно написать для списка смежности? За сколько будет работа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У этого способа определения цикла есть недостаток: он позволяет определять только наличие какого-то цикла, но не может определить конкретный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E40EC-A04E-4B49-A615-227D1E6D66B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идите цикл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 цикле будут только серые вершины. Они составляют часть серого пу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существование ребра в серую вершину из текущей однозначно свидетельствует о наличии цикла? Из той серой вершины (a) можно попасть в текущую (d) по серому пути, а по найденному ребру можно попасть обратно — это цикл. Это ребро называется обратным ребр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9AFEB-3A12-4685-BF0E-6CDEFDFAFD8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8360" cy="4833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мотрим только на цикл, но помним, что могут быть в графе и другие рёбра и верши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го цвета становится эта вершин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начит, непосредственно перед уходом из первой вершины цикла все вершины в нём были серые. А куда мы из неё можем уйти? только в предыдущ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тало быть, мы попали в следующую вершину откуда-то извне цикла, и будем покидать текущую уже без захода в неё, т. к. она уже серая. Это и есть тот самый момент, когда мы обнаруживаем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Если наша задача — определить наличие циклов, то возвращаться не обязательно, можно прервать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E397D-7454-4F14-B478-2E1C9D9C26B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 уже есть в программном стеке из-за рекурсии, но сделаем свой ст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цедуры помещения вершины в стек (Push) и доставания её оттуда (Pop) настолько просты, что лучше даже не оформлять их отдельными  процедурами. Доставая вершину из стека, мы не передаём ничего в качестве параметра, а к последней вершине стека всегда можно обратиться как stack[sp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F6C31-7187-428B-A8A0-B72ACF09E4F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изменится процедура DF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ва роль переменной c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чем запоминать вершины, почему бы их сразу не вывести? Они будут выведены в обратном поряд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6CB44-3E15-47A7-831D-802615BE5BE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F9B67-0F25-4003-A44B-D7B62557947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E498-FA5E-4277-A114-621BA8AD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871A-6F43-49DB-BF20-D046E030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B65-045B-49E4-9FA7-745FB895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86B6-C53E-4D46-A208-17AD6B4A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5334-FA38-432B-8C61-09021EFF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2844-67C7-400A-95FE-E9A5E252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2911-D64F-48C9-8688-A48CD156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9972-A396-477C-9737-0F1A9476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4FCF-DE14-4D17-98D5-9FBB7EBB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5D9C-E2EB-4D87-A2D0-944221D2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2A3B-2CB6-46AF-9A6A-3217ABF6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7F0-B326-4FC5-BEBD-6AC2A244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7143-BC36-4B58-ABBF-7E297CD1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D63E-21D4-4D3B-89B0-F18B4447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D234-D326-494D-A524-8E68DF93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31ED-5B43-40EC-A246-8BACA276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B6ED-1C45-4F5E-8DC2-267FE6E8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8E29F-EE27-4B68-88AE-6B4573C0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3B50D-6BFE-414E-9ADF-2181EE28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0441A-5AE0-4281-A9BB-E2A5D53C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D3A18-AD87-4CE7-8A3A-77158A79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54232-3DF9-48CA-8A12-33906365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2C92-C428-4EA7-A48F-83B088C0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B88FC-F08E-4328-B7EA-2C8A61CD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B8DD2-40E8-45AF-97B7-4BAC28A1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A1AD9-B620-418A-9F69-C754A4A8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11E45-351B-4C5D-ACD8-5A3D194F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9BDFD-5C6B-44E6-B9C7-D515142D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F29F2-3A7F-4471-87F3-8E1E2C7D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31A0E-A5EA-4A93-854C-C71A5D0C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9B5-16E9-49EE-8CE8-0E033963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F7EA-91D1-4A1C-87DB-2B0EF545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A3B5-A15D-4A4F-B622-98636638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B821-F5CC-4EE4-B417-F455A07B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CB0-009B-4B29-AC6C-68A32EEF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342-DB81-490C-B3E7-10441F2E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FDB5B1-2334-4C65-91FC-2C0A0C5C92C3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000190-83CA-487B-83EB-10BDF98C6AC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1CC2A2-4F8E-4D45-A648-3E170F26B51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ение наличия циклов в граф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ерно ли утверждение, что из всех циклов в графе, проходящих через начальную вершину, DFS прежде всего находит цикл минимальной длины? Привести доказательство или контрприме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пределении наличия циклов в ориентированном графе проверкой рёбер: в выходной файл вывести 1, если в графе есть циклы, и 0 в противном случа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ыполнить п. 2 для неориентированного граф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тыскании цикла в ориентированном графе с помощью DFS без использования второго сте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рёбер может быть в ориентированном ациклическ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Может ли быть так, что правильным результатом топологической сортировки графа оказывается любой порядок его вершин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 производстве деталей с помощью DF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 использовать топологическую сортировку для определения наличия циклов в граф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7092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Циклы и 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550800" y="2811600"/>
            <a:ext cx="8667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ы, то топологическая сортировка невозмож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граф ациклический, то можно выполнить топологическую сортиров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50800" y="3890880"/>
            <a:ext cx="8667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с помощью топологической сортировки определить наличие циклов в граф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60360" y="5111640"/>
            <a:ext cx="468000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Fals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A[i, j]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157720" y="5111640"/>
            <a:ext cx="474192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A[i, j]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50800" y="1839960"/>
            <a:ext cx="901080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Используем DFS для нахождения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из текущей вершины есть путь в серую вершину, то имеем ци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4707000" y="3600360"/>
            <a:ext cx="4865760" cy="3389400"/>
            <a:chOff x="4707000" y="3600360"/>
            <a:chExt cx="4865760" cy="3389400"/>
          </a:xfrm>
        </p:grpSpPr>
        <p:sp>
          <p:nvSpPr>
            <p:cNvPr id="143" name="Oval 4"/>
            <p:cNvSpPr/>
            <p:nvPr/>
          </p:nvSpPr>
          <p:spPr>
            <a:xfrm>
              <a:off x="7767720" y="5759280"/>
              <a:ext cx="36504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5967360" y="44910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6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470700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8"/>
            <p:cNvSpPr/>
            <p:nvPr/>
          </p:nvSpPr>
          <p:spPr>
            <a:xfrm>
              <a:off x="5635800" y="575928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6651720" y="539100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7947000" y="43196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1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1" name="AutoShape 12"/>
            <p:cNvCxnSpPr>
              <a:stCxn id="146" idx="5"/>
              <a:endCxn id="147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AutoShape 13"/>
            <p:cNvCxnSpPr>
              <a:stCxn id="147" idx="3"/>
              <a:endCxn id="150" idx="7"/>
            </p:cNvCxnSpPr>
            <p:nvPr/>
          </p:nvCxnSpPr>
          <p:spPr>
            <a:xfrm flipH="1">
              <a:off x="5192280" y="6071760"/>
              <a:ext cx="494640" cy="453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AutoShape 14"/>
            <p:cNvCxnSpPr>
              <a:stCxn id="147" idx="5"/>
              <a:endCxn id="145" idx="1"/>
            </p:cNvCxnSpPr>
            <p:nvPr/>
          </p:nvCxnSpPr>
          <p:spPr>
            <a:xfrm>
              <a:off x="5948280" y="6071760"/>
              <a:ext cx="603720" cy="461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AutoShape 15"/>
            <p:cNvCxnSpPr>
              <a:stCxn id="150" idx="6"/>
              <a:endCxn id="145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5" name="AutoShape 16"/>
            <p:cNvCxnSpPr>
              <a:stCxn id="146" idx="4"/>
              <a:endCxn id="150" idx="0"/>
            </p:cNvCxnSpPr>
            <p:nvPr/>
          </p:nvCxnSpPr>
          <p:spPr>
            <a:xfrm>
              <a:off x="4889520" y="5398560"/>
              <a:ext cx="17208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6" name="AutoShape 17"/>
            <p:cNvCxnSpPr>
              <a:stCxn id="146" idx="7"/>
              <a:endCxn id="144" idx="2"/>
            </p:cNvCxnSpPr>
            <p:nvPr/>
          </p:nvCxnSpPr>
          <p:spPr>
            <a:xfrm flipV="1">
              <a:off x="5019840" y="4674600"/>
              <a:ext cx="946800" cy="410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7" name="AutoShape 18"/>
            <p:cNvCxnSpPr>
              <a:stCxn id="144" idx="4"/>
              <a:endCxn id="147" idx="0"/>
            </p:cNvCxnSpPr>
            <p:nvPr/>
          </p:nvCxnSpPr>
          <p:spPr>
            <a:xfrm flipH="1">
              <a:off x="5819040" y="4857840"/>
              <a:ext cx="330840" cy="900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8" name="AutoShape 19"/>
            <p:cNvCxnSpPr>
              <a:stCxn id="148" idx="4"/>
              <a:endCxn id="145" idx="0"/>
            </p:cNvCxnSpPr>
            <p:nvPr/>
          </p:nvCxnSpPr>
          <p:spPr>
            <a:xfrm flipH="1">
              <a:off x="6682680" y="5757840"/>
              <a:ext cx="151560" cy="72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9" name="AutoShape 20"/>
            <p:cNvCxnSpPr>
              <a:stCxn id="148" idx="5"/>
              <a:endCxn id="143" idx="2"/>
            </p:cNvCxnSpPr>
            <p:nvPr/>
          </p:nvCxnSpPr>
          <p:spPr>
            <a:xfrm>
              <a:off x="6963840" y="5703840"/>
              <a:ext cx="802440" cy="239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0" name="AutoShape 21"/>
            <p:cNvCxnSpPr>
              <a:stCxn id="148" idx="7"/>
              <a:endCxn id="149" idx="3"/>
            </p:cNvCxnSpPr>
            <p:nvPr/>
          </p:nvCxnSpPr>
          <p:spPr>
            <a:xfrm flipV="1">
              <a:off x="6964200" y="4631760"/>
              <a:ext cx="1036080" cy="81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1" name="AutoShape 22"/>
            <p:cNvCxnSpPr>
              <a:stCxn id="147" idx="7"/>
              <a:endCxn id="148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2" name="AutoShape 23"/>
            <p:cNvCxnSpPr>
              <a:stCxn id="149" idx="2"/>
              <a:endCxn id="144" idx="6"/>
            </p:cNvCxnSpPr>
            <p:nvPr/>
          </p:nvCxnSpPr>
          <p:spPr>
            <a:xfrm flipH="1">
              <a:off x="6333840" y="4503600"/>
              <a:ext cx="1612080" cy="170640"/>
            </a:xfrm>
            <a:prstGeom prst="straightConnector1">
              <a:avLst/>
            </a:prstGeom>
            <a:ln w="3600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163" name="Oval 24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4" name="AutoShape 25"/>
            <p:cNvCxnSpPr>
              <a:stCxn id="143" idx="4"/>
              <a:endCxn id="163" idx="0"/>
            </p:cNvCxnSpPr>
            <p:nvPr/>
          </p:nvCxnSpPr>
          <p:spPr>
            <a:xfrm flipH="1">
              <a:off x="7843320" y="6126120"/>
              <a:ext cx="107280" cy="497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5" name="AutoShape 26"/>
            <p:cNvCxnSpPr>
              <a:stCxn id="163" idx="2"/>
              <a:endCxn id="145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66" name="Oval 27"/>
            <p:cNvSpPr/>
            <p:nvPr/>
          </p:nvSpPr>
          <p:spPr>
            <a:xfrm>
              <a:off x="9207360" y="4500720"/>
              <a:ext cx="36540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8"/>
            <p:cNvSpPr/>
            <p:nvPr/>
          </p:nvSpPr>
          <p:spPr>
            <a:xfrm>
              <a:off x="8667720" y="5391000"/>
              <a:ext cx="36504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8" name="AutoShape 29"/>
            <p:cNvCxnSpPr>
              <a:stCxn id="149" idx="4"/>
              <a:endCxn id="167" idx="1"/>
            </p:cNvCxnSpPr>
            <p:nvPr/>
          </p:nvCxnSpPr>
          <p:spPr>
            <a:xfrm>
              <a:off x="8131320" y="4686120"/>
              <a:ext cx="589680" cy="7578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9" name="AutoShape 30"/>
            <p:cNvCxnSpPr>
              <a:stCxn id="149" idx="6"/>
              <a:endCxn id="166" idx="2"/>
            </p:cNvCxnSpPr>
            <p:nvPr/>
          </p:nvCxnSpPr>
          <p:spPr>
            <a:xfrm>
              <a:off x="8313840" y="4503240"/>
              <a:ext cx="89280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0" name="Oval 31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32"/>
            <p:cNvSpPr/>
            <p:nvPr/>
          </p:nvSpPr>
          <p:spPr>
            <a:xfrm>
              <a:off x="6507000" y="377208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33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3" name="AutoShape 34"/>
            <p:cNvCxnSpPr>
              <a:stCxn id="149" idx="0"/>
              <a:endCxn id="172" idx="5"/>
            </p:cNvCxnSpPr>
            <p:nvPr/>
          </p:nvCxnSpPr>
          <p:spPr>
            <a:xfrm flipH="1" flipV="1">
              <a:off x="7872480" y="3912840"/>
              <a:ext cx="25596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AutoShape 35"/>
            <p:cNvCxnSpPr>
              <a:stCxn id="144" idx="7"/>
              <a:endCxn id="171" idx="3"/>
            </p:cNvCxnSpPr>
            <p:nvPr/>
          </p:nvCxnSpPr>
          <p:spPr>
            <a:xfrm flipV="1">
              <a:off x="6280200" y="4084200"/>
              <a:ext cx="280080" cy="457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AutoShape 36"/>
            <p:cNvCxnSpPr>
              <a:stCxn id="171" idx="2"/>
              <a:endCxn id="170" idx="6"/>
            </p:cNvCxnSpPr>
            <p:nvPr/>
          </p:nvCxnSpPr>
          <p:spPr>
            <a:xfrm flipH="1">
              <a:off x="5261760" y="3956040"/>
              <a:ext cx="124380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AutoShape 37"/>
            <p:cNvCxnSpPr>
              <a:stCxn id="146" idx="0"/>
              <a:endCxn id="170" idx="4"/>
            </p:cNvCxnSpPr>
            <p:nvPr/>
          </p:nvCxnSpPr>
          <p:spPr>
            <a:xfrm flipV="1">
              <a:off x="4889520" y="4317480"/>
              <a:ext cx="18792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7" name="AutoShape 38"/>
            <p:cNvCxnSpPr>
              <a:stCxn id="172" idx="2"/>
              <a:endCxn id="171" idx="6"/>
            </p:cNvCxnSpPr>
            <p:nvPr/>
          </p:nvCxnSpPr>
          <p:spPr>
            <a:xfrm flipH="1">
              <a:off x="6873120" y="3784680"/>
              <a:ext cx="68508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178" name="Group 39"/>
          <p:cNvGrpSpPr/>
          <p:nvPr/>
        </p:nvGrpSpPr>
        <p:grpSpPr>
          <a:xfrm>
            <a:off x="4708440" y="3600360"/>
            <a:ext cx="4865760" cy="3389400"/>
            <a:chOff x="4708440" y="3600360"/>
            <a:chExt cx="4865760" cy="3389400"/>
          </a:xfrm>
        </p:grpSpPr>
        <p:sp>
          <p:nvSpPr>
            <p:cNvPr id="179" name="Oval 40"/>
            <p:cNvSpPr/>
            <p:nvPr/>
          </p:nvSpPr>
          <p:spPr>
            <a:xfrm>
              <a:off x="7769160" y="576108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41"/>
            <p:cNvSpPr/>
            <p:nvPr/>
          </p:nvSpPr>
          <p:spPr>
            <a:xfrm>
              <a:off x="5967360" y="44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42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43"/>
            <p:cNvSpPr/>
            <p:nvPr/>
          </p:nvSpPr>
          <p:spPr>
            <a:xfrm>
              <a:off x="470844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5635800" y="576108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45"/>
            <p:cNvSpPr/>
            <p:nvPr/>
          </p:nvSpPr>
          <p:spPr>
            <a:xfrm>
              <a:off x="6651720" y="53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46"/>
            <p:cNvSpPr/>
            <p:nvPr/>
          </p:nvSpPr>
          <p:spPr>
            <a:xfrm>
              <a:off x="7948440" y="4319640"/>
              <a:ext cx="36540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47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7" name="AutoShape 48"/>
            <p:cNvCxnSpPr>
              <a:stCxn id="182" idx="5"/>
              <a:endCxn id="183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8" name="AutoShape 49"/>
            <p:cNvCxnSpPr>
              <a:stCxn id="183" idx="3"/>
              <a:endCxn id="186" idx="7"/>
            </p:cNvCxnSpPr>
            <p:nvPr/>
          </p:nvCxnSpPr>
          <p:spPr>
            <a:xfrm flipH="1">
              <a:off x="5192280" y="6073920"/>
              <a:ext cx="494640" cy="45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AutoShape 50"/>
            <p:cNvCxnSpPr>
              <a:stCxn id="183" idx="5"/>
              <a:endCxn id="181" idx="1"/>
            </p:cNvCxnSpPr>
            <p:nvPr/>
          </p:nvCxnSpPr>
          <p:spPr>
            <a:xfrm>
              <a:off x="5948280" y="6073920"/>
              <a:ext cx="603720" cy="459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AutoShape 51"/>
            <p:cNvCxnSpPr>
              <a:stCxn id="186" idx="6"/>
              <a:endCxn id="181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1" name="AutoShape 52"/>
            <p:cNvCxnSpPr>
              <a:stCxn id="182" idx="4"/>
              <a:endCxn id="186" idx="0"/>
            </p:cNvCxnSpPr>
            <p:nvPr/>
          </p:nvCxnSpPr>
          <p:spPr>
            <a:xfrm>
              <a:off x="4892760" y="5398560"/>
              <a:ext cx="17064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2" name="AutoShape 53"/>
            <p:cNvCxnSpPr>
              <a:stCxn id="182" idx="7"/>
              <a:endCxn id="180" idx="2"/>
            </p:cNvCxnSpPr>
            <p:nvPr/>
          </p:nvCxnSpPr>
          <p:spPr>
            <a:xfrm flipV="1">
              <a:off x="5021280" y="4676040"/>
              <a:ext cx="945360" cy="40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3" name="AutoShape 54"/>
            <p:cNvCxnSpPr>
              <a:stCxn id="180" idx="4"/>
              <a:endCxn id="183" idx="0"/>
            </p:cNvCxnSpPr>
            <p:nvPr/>
          </p:nvCxnSpPr>
          <p:spPr>
            <a:xfrm flipH="1">
              <a:off x="5819040" y="4859280"/>
              <a:ext cx="330840" cy="90072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4" name="AutoShape 55"/>
            <p:cNvCxnSpPr>
              <a:stCxn id="184" idx="4"/>
              <a:endCxn id="181" idx="0"/>
            </p:cNvCxnSpPr>
            <p:nvPr/>
          </p:nvCxnSpPr>
          <p:spPr>
            <a:xfrm flipH="1">
              <a:off x="6682680" y="5759280"/>
              <a:ext cx="151560" cy="720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5" name="AutoShape 56"/>
            <p:cNvCxnSpPr>
              <a:stCxn id="184" idx="5"/>
              <a:endCxn id="179" idx="2"/>
            </p:cNvCxnSpPr>
            <p:nvPr/>
          </p:nvCxnSpPr>
          <p:spPr>
            <a:xfrm>
              <a:off x="6963840" y="5705280"/>
              <a:ext cx="802440" cy="2386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6" name="AutoShape 57"/>
            <p:cNvCxnSpPr>
              <a:stCxn id="184" idx="7"/>
              <a:endCxn id="185" idx="3"/>
            </p:cNvCxnSpPr>
            <p:nvPr/>
          </p:nvCxnSpPr>
          <p:spPr>
            <a:xfrm flipV="1">
              <a:off x="6964200" y="4631760"/>
              <a:ext cx="1037520" cy="8118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7" name="AutoShape 58"/>
            <p:cNvCxnSpPr>
              <a:stCxn id="183" idx="7"/>
              <a:endCxn id="184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8" name="AutoShape 59"/>
            <p:cNvCxnSpPr>
              <a:stCxn id="185" idx="2"/>
              <a:endCxn id="180" idx="6"/>
            </p:cNvCxnSpPr>
            <p:nvPr/>
          </p:nvCxnSpPr>
          <p:spPr>
            <a:xfrm flipH="1">
              <a:off x="6333840" y="4503240"/>
              <a:ext cx="1613520" cy="1724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9" name="Oval 60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0" name="AutoShape 61"/>
            <p:cNvCxnSpPr>
              <a:stCxn id="179" idx="4"/>
              <a:endCxn id="199" idx="0"/>
            </p:cNvCxnSpPr>
            <p:nvPr/>
          </p:nvCxnSpPr>
          <p:spPr>
            <a:xfrm flipH="1">
              <a:off x="7843320" y="6127560"/>
              <a:ext cx="107280" cy="495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1" name="AutoShape 62"/>
            <p:cNvCxnSpPr>
              <a:stCxn id="199" idx="2"/>
              <a:endCxn id="181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2" name="Oval 63"/>
            <p:cNvSpPr/>
            <p:nvPr/>
          </p:nvSpPr>
          <p:spPr>
            <a:xfrm>
              <a:off x="9209160" y="4500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64"/>
            <p:cNvSpPr/>
            <p:nvPr/>
          </p:nvSpPr>
          <p:spPr>
            <a:xfrm>
              <a:off x="8669160" y="539280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4" name="AutoShape 65"/>
            <p:cNvCxnSpPr>
              <a:stCxn id="185" idx="4"/>
              <a:endCxn id="203" idx="1"/>
            </p:cNvCxnSpPr>
            <p:nvPr/>
          </p:nvCxnSpPr>
          <p:spPr>
            <a:xfrm>
              <a:off x="8132760" y="4686120"/>
              <a:ext cx="589680" cy="759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5" name="AutoShape 66"/>
            <p:cNvCxnSpPr>
              <a:stCxn id="185" idx="6"/>
              <a:endCxn id="202" idx="2"/>
            </p:cNvCxnSpPr>
            <p:nvPr/>
          </p:nvCxnSpPr>
          <p:spPr>
            <a:xfrm>
              <a:off x="8315280" y="4503240"/>
              <a:ext cx="89136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6" name="Oval 67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68"/>
            <p:cNvSpPr/>
            <p:nvPr/>
          </p:nvSpPr>
          <p:spPr>
            <a:xfrm>
              <a:off x="6508800" y="377208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69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9" name="AutoShape 70"/>
            <p:cNvCxnSpPr>
              <a:stCxn id="185" idx="0"/>
              <a:endCxn id="208" idx="5"/>
            </p:cNvCxnSpPr>
            <p:nvPr/>
          </p:nvCxnSpPr>
          <p:spPr>
            <a:xfrm flipH="1" flipV="1">
              <a:off x="7873200" y="3912840"/>
              <a:ext cx="25812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0" name="AutoShape 71"/>
            <p:cNvCxnSpPr>
              <a:stCxn id="180" idx="7"/>
              <a:endCxn id="207" idx="3"/>
            </p:cNvCxnSpPr>
            <p:nvPr/>
          </p:nvCxnSpPr>
          <p:spPr>
            <a:xfrm flipV="1">
              <a:off x="6280200" y="4083840"/>
              <a:ext cx="281520" cy="459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1" name="AutoShape 72"/>
            <p:cNvCxnSpPr>
              <a:stCxn id="207" idx="2"/>
              <a:endCxn id="206" idx="6"/>
            </p:cNvCxnSpPr>
            <p:nvPr/>
          </p:nvCxnSpPr>
          <p:spPr>
            <a:xfrm flipH="1">
              <a:off x="5261760" y="3956040"/>
              <a:ext cx="124524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2" name="AutoShape 73"/>
            <p:cNvCxnSpPr>
              <a:stCxn id="182" idx="0"/>
              <a:endCxn id="206" idx="4"/>
            </p:cNvCxnSpPr>
            <p:nvPr/>
          </p:nvCxnSpPr>
          <p:spPr>
            <a:xfrm flipV="1">
              <a:off x="4892760" y="4317480"/>
              <a:ext cx="18648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3" name="AutoShape 74"/>
            <p:cNvCxnSpPr>
              <a:stCxn id="208" idx="2"/>
              <a:endCxn id="207" idx="6"/>
            </p:cNvCxnSpPr>
            <p:nvPr/>
          </p:nvCxnSpPr>
          <p:spPr>
            <a:xfrm flipH="1">
              <a:off x="6875640" y="3784680"/>
              <a:ext cx="68292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214" name="Text Box 75"/>
          <p:cNvSpPr/>
          <p:nvPr/>
        </p:nvSpPr>
        <p:spPr>
          <a:xfrm>
            <a:off x="550800" y="4680000"/>
            <a:ext cx="35895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, то почему DFS обязательно его найдё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Рассмотрим цикл и момент, когда покидаем первую вершину в нё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18" name="AutoShape 4"/>
            <p:cNvCxnSpPr>
              <a:stCxn id="219" idx="5"/>
              <a:endCxn id="22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1" name="AutoShape 5"/>
            <p:cNvCxnSpPr>
              <a:stCxn id="220" idx="6"/>
              <a:endCxn id="22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3" name="Oval 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4" name="AutoShape 7"/>
            <p:cNvCxnSpPr>
              <a:stCxn id="222" idx="0"/>
              <a:endCxn id="22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5" name="AutoShape 8"/>
            <p:cNvCxnSpPr>
              <a:stCxn id="226" idx="2"/>
              <a:endCxn id="21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7" name="AutoShape 9"/>
            <p:cNvCxnSpPr>
              <a:stCxn id="223" idx="2"/>
              <a:endCxn id="22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8" name="Oval 1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Group 15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30" name="AutoShape 16"/>
            <p:cNvCxnSpPr>
              <a:stCxn id="231" idx="5"/>
              <a:endCxn id="232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3" name="AutoShape 17"/>
            <p:cNvCxnSpPr>
              <a:stCxn id="232" idx="6"/>
              <a:endCxn id="234" idx="2"/>
            </p:cNvCxnSpPr>
            <p:nvPr/>
          </p:nvCxnSpPr>
          <p:spPr>
            <a:xfrm flipV="1">
              <a:off x="4506840" y="4863240"/>
              <a:ext cx="892800" cy="1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35" name="Oval 18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6" name="AutoShape 19"/>
            <p:cNvCxnSpPr>
              <a:stCxn id="234" idx="0"/>
              <a:endCxn id="235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7" name="AutoShape 20"/>
            <p:cNvCxnSpPr>
              <a:stCxn id="238" idx="2"/>
              <a:endCxn id="231" idx="7"/>
            </p:cNvCxnSpPr>
            <p:nvPr/>
          </p:nvCxnSpPr>
          <p:spPr>
            <a:xfrm flipH="1">
              <a:off x="3768120" y="32364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9" name="AutoShape 21"/>
            <p:cNvCxnSpPr>
              <a:stCxn id="235" idx="2"/>
              <a:endCxn id="238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0" name="Oval 2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2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25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26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Group 27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42" name="AutoShape 28"/>
            <p:cNvCxnSpPr>
              <a:stCxn id="243" idx="5"/>
              <a:endCxn id="244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5" name="AutoShape 29"/>
            <p:cNvCxnSpPr>
              <a:stCxn id="244" idx="6"/>
              <a:endCxn id="246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7" name="Oval 30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AutoShape 31"/>
            <p:cNvCxnSpPr>
              <a:stCxn id="246" idx="0"/>
              <a:endCxn id="247" idx="4"/>
            </p:cNvCxnSpPr>
            <p:nvPr/>
          </p:nvCxnSpPr>
          <p:spPr>
            <a:xfrm flipV="1">
              <a:off x="5584680" y="3426840"/>
              <a:ext cx="170640" cy="1253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9" name="AutoShape 32"/>
            <p:cNvCxnSpPr>
              <a:stCxn id="250" idx="2"/>
              <a:endCxn id="243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1" name="AutoShape 33"/>
            <p:cNvCxnSpPr>
              <a:stCxn id="247" idx="2"/>
              <a:endCxn id="250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2" name="Oval 3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3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37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38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39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54" name="AutoShape 40"/>
            <p:cNvCxnSpPr>
              <a:stCxn id="255" idx="5"/>
              <a:endCxn id="256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7" name="AutoShape 41"/>
            <p:cNvCxnSpPr>
              <a:stCxn id="256" idx="6"/>
              <a:endCxn id="258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9" name="Oval 42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0" name="AutoShape 43"/>
            <p:cNvCxnSpPr>
              <a:stCxn id="258" idx="0"/>
              <a:endCxn id="259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1" name="AutoShape 44"/>
            <p:cNvCxnSpPr>
              <a:stCxn id="262" idx="2"/>
              <a:endCxn id="255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3" name="AutoShape 45"/>
            <p:cNvCxnSpPr>
              <a:stCxn id="259" idx="2"/>
              <a:endCxn id="262" idx="7"/>
            </p:cNvCxnSpPr>
            <p:nvPr/>
          </p:nvCxnSpPr>
          <p:spPr>
            <a:xfrm flipH="1" flipV="1">
              <a:off x="4631760" y="3106080"/>
              <a:ext cx="937080" cy="13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64" name="Oval 4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47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4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49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50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51"/>
          <p:cNvGrpSpPr/>
          <p:nvPr/>
        </p:nvGrpSpPr>
        <p:grpSpPr>
          <a:xfrm>
            <a:off x="3456000" y="3054240"/>
            <a:ext cx="2481120" cy="2165400"/>
            <a:chOff x="3456000" y="3054240"/>
            <a:chExt cx="2481120" cy="2165400"/>
          </a:xfrm>
        </p:grpSpPr>
        <p:cxnSp>
          <p:nvCxnSpPr>
            <p:cNvPr id="266" name="AutoShape 52"/>
            <p:cNvCxnSpPr>
              <a:stCxn id="267" idx="5"/>
              <a:endCxn id="268" idx="1"/>
            </p:cNvCxnSpPr>
            <p:nvPr/>
          </p:nvCxnSpPr>
          <p:spPr>
            <a:xfrm>
              <a:off x="3769920" y="424152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9" name="AutoShape 53"/>
            <p:cNvCxnSpPr>
              <a:stCxn id="268" idx="6"/>
              <a:endCxn id="270" idx="2"/>
            </p:cNvCxnSpPr>
            <p:nvPr/>
          </p:nvCxnSpPr>
          <p:spPr>
            <a:xfrm flipV="1">
              <a:off x="4506840" y="4865400"/>
              <a:ext cx="892800" cy="1720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1" name="Oval 54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2" name="AutoShape 55"/>
            <p:cNvCxnSpPr>
              <a:stCxn id="270" idx="0"/>
              <a:endCxn id="271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3" name="AutoShape 56"/>
            <p:cNvCxnSpPr>
              <a:stCxn id="274" idx="2"/>
              <a:endCxn id="267" idx="7"/>
            </p:cNvCxnSpPr>
            <p:nvPr/>
          </p:nvCxnSpPr>
          <p:spPr>
            <a:xfrm flipH="1">
              <a:off x="3768120" y="32382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5" name="AutoShape 57"/>
            <p:cNvCxnSpPr>
              <a:stCxn id="271" idx="2"/>
              <a:endCxn id="274" idx="7"/>
            </p:cNvCxnSpPr>
            <p:nvPr/>
          </p:nvCxnSpPr>
          <p:spPr>
            <a:xfrm flipH="1" flipV="1">
              <a:off x="4631760" y="310752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6" name="Oval 5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59"/>
            <p:cNvSpPr/>
            <p:nvPr/>
          </p:nvSpPr>
          <p:spPr>
            <a:xfrm>
              <a:off x="4319640" y="30542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60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61"/>
            <p:cNvSpPr/>
            <p:nvPr/>
          </p:nvSpPr>
          <p:spPr>
            <a:xfrm>
              <a:off x="4140360" y="48546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62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Group 6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78" name="AutoShape 64"/>
            <p:cNvCxnSpPr>
              <a:stCxn id="279" idx="5"/>
              <a:endCxn id="28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1" name="AutoShape 65"/>
            <p:cNvCxnSpPr>
              <a:stCxn id="280" idx="6"/>
              <a:endCxn id="28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3" name="Oval 6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84" name="AutoShape 67"/>
            <p:cNvCxnSpPr>
              <a:stCxn id="282" idx="0"/>
              <a:endCxn id="28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68"/>
            <p:cNvCxnSpPr>
              <a:stCxn id="286" idx="2"/>
              <a:endCxn id="27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7" name="AutoShape 69"/>
            <p:cNvCxnSpPr>
              <a:stCxn id="283" idx="2"/>
              <a:endCxn id="28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8" name="Oval 7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7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7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7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7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Text Box 75"/>
          <p:cNvSpPr/>
          <p:nvPr/>
        </p:nvSpPr>
        <p:spPr>
          <a:xfrm>
            <a:off x="550800" y="5548320"/>
            <a:ext cx="9010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озвращаться будем из вершины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в вершину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поочерёдно окрашивая вершины в цикле в чёрный ц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550800" y="1839960"/>
            <a:ext cx="90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определить сам цик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50800" y="256068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стек. При заходе в вершину помещаем её в стек, при выходе — забираем её оттуд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стека (число элементов в нём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60360" y="4500720"/>
            <a:ext cx="468000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sp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5157720" y="4500720"/>
            <a:ext cx="474192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179280" y="1584360"/>
            <a:ext cx="5040360" cy="5796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: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False; found := False; DFS(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 not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WHITE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GRAY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Found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:= u; rm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5400720" y="1587600"/>
            <a:ext cx="4500360" cy="57927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 DFS(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(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!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WHITE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GR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= u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550800" y="1552680"/>
            <a:ext cx="90108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запомнить все вершины, из которых выходи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550800" y="263376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второй стек. Если цикл найден, то помещаем во второй стек все покидаемые вершины, пока не встретим вершину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cc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 в прямом порядке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второго стек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60360" y="4751280"/>
            <a:ext cx="4562640" cy="27352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v &lt;&gt; cc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2); stack2[sp2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5067360" y="4756320"/>
            <a:ext cx="4707000" cy="273204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&amp;= v != c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6311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последовательность номеров вершин, соответствующих любому циклу в графе. Если граф ациклический, то вывести 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iyugov</cp:lastModifiedBy>
  <dcterms:modified xsi:type="dcterms:W3CDTF">2011-12-20T08:14:47Z</dcterms:modified>
  <cp:revision>223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