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134-3546-45BA-8CAA-483A9E9A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DC0-5874-4D51-B05F-4DC8930A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D7D6-C470-42BF-B864-AA098A7C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D5D-11A0-4BD4-B743-1B416631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0AB-BB68-40DE-BEC5-4118120D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BBB-C2B3-49DE-A09D-6A89353A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683-4F49-49E6-8089-27B68DA7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DC0-C0A9-4A00-A54C-9690CB1D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AAA-328E-4C54-8F94-615143D9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EE1-B647-4B21-A973-279431DD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D60-596B-4D3C-8FCD-96E622FC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BB5-EC01-4AE5-A325-40FDAF79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4B65-F064-48B1-8967-77CE4AB0E5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57720" y="435780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работ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читель информатики лицея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. Балаково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ролёва Татья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12"/>
          <p:cNvCxnSpPr>
            <a:stCxn id="51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3"/>
          <p:cNvCxnSpPr>
            <a:endCxn id="46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5"/>
          <p:cNvCxnSpPr>
            <a:endCxn id="48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37"/>
          <p:cNvCxnSpPr>
            <a:endCxn id="49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52"/>
          <p:cNvCxnSpPr>
            <a:endCxn id="51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6"/>
          <p:cNvCxnSpPr>
            <a:stCxn id="77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>
            <a:endCxn id="73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30"/>
          <p:cNvCxnSpPr>
            <a:endCxn id="75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47"/>
          <p:cNvCxnSpPr>
            <a:stCxn id="83" idx="4"/>
            <a:endCxn id="77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50"/>
          <p:cNvCxnSpPr>
            <a:endCxn id="84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12"/>
          <p:cNvCxnSpPr>
            <a:stCxn id="100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5"/>
          <p:cNvCxnSpPr>
            <a:stCxn id="100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7"/>
          <p:cNvCxnSpPr>
            <a:endCxn id="100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0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1"/>
          <p:cNvCxnSpPr>
            <a:stCxn id="99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6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7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2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3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кабинет информатики</cp:lastModifiedBy>
  <dcterms:modified xsi:type="dcterms:W3CDTF">2011-12-16T13:25:25Z</dcterms:modified>
  <cp:revision>18</cp:revision>
  <dc:subject/>
  <dc:title>Операторные скобки Сложные условия</dc:title>
</cp:coreProperties>
</file>