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512-51B1-4D9A-AC6B-5D11F73E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6E9-E0C8-4DCA-9344-B5DCCBF6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8ACC-A964-4BB5-A954-23436437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D3E-2569-49DA-80DE-E5F57B68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F29-FB40-4CCE-B2E1-5385CF77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C65-489D-4244-A8ED-7895A3FA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9944-D263-4781-954F-CED43D6F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15E8-D408-4950-B0CB-E2F69C05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D72-B1AB-4A59-9750-4ADD56E7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72DE-BAFD-471E-90C8-A8BC6B6C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944-7015-4AB8-8437-C580B6AB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CE83-124F-489A-BD87-96992A45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9A45-11A5-4C08-A2DF-CC777852E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57720" y="435780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итель информатики лицея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ё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>
            <a:stCxn id="51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3"/>
          <p:cNvCxnSpPr>
            <a:endCxn id="46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>
            <a:endCxn id="48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37"/>
          <p:cNvCxnSpPr>
            <a:endCxn id="49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51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stCxn id="77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>
            <a:endCxn id="73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0"/>
          <p:cNvCxnSpPr>
            <a:endCxn id="75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>
            <a:stCxn id="83" idx="4"/>
            <a:endCxn id="77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0"/>
          <p:cNvCxnSpPr>
            <a:endCxn id="84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2"/>
          <p:cNvCxnSpPr>
            <a:stCxn id="100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5"/>
          <p:cNvCxnSpPr>
            <a:stCxn id="100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>
            <a:endCxn id="100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0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1"/>
          <p:cNvCxnSpPr>
            <a:stCxn id="99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6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7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3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кабинет информатики</cp:lastModifiedBy>
  <dcterms:modified xsi:type="dcterms:W3CDTF">2011-12-16T13:25:25Z</dcterms:modified>
  <cp:revision>18</cp:revision>
  <dc:subject/>
  <dc:title>Операторные скобки Сложные условия</dc:title>
</cp:coreProperties>
</file>