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E78A4-2E4D-4210-ABF9-0FA6553FEC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* 44 100 * 16 = 84 672 000 бит = 10 584байт ≈ 10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= 1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1 * 1 000 = 11 000 Гц (11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20 * 11 000 * 16 = 42 240 000 бит = 5 280 000байт ≈ 5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7 * 60 = 4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2 * 1 000 = 22 000 Гц (2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420 * 22 000 * 8 = 73 920 000 бит = 9 240 000 байт ≈ 8,8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 * 60 = 18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2 * 1 000 = 32 000 Гц (3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80 * 32 000 * 8 = 92 160 000 бит = 11 520 000 байт ≈ 11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4 * 1 000 = 24 000 Гц (24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1 * 24 000 * 16 = 384 000 бит = 48 000 байт ≈ 47 к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20 * 44 100 * 20 = 35 280 000 бит = 4 410 000 байт ≈ 4,2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Определите количество уровней звукового сигнала при использовании 8-битных звуковых кар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объем файла с 10 минутной речью записанного с частотой дискретизации 11025 Гц и разрядностью кода 4 бита на 1 измер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речь принято записывать в режиме моно (1 канал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0 * 60 = 60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1 025 Гц (11 025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 * 600 * 11 025 * 4 = 26 460 000 бит = 3 307 500 байт ≈ 3,15 М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 = 3,154277 Мбай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время звучания звукового файла объемом 3.5 Мбайт, содержащего стереозапись с частотой дискретизации 44 100 Гц и разрядностью кода 16 бит на 1 измер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= 20,805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. 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4543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45,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44,1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22719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7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0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бъем свободной памяти на диске — 5,25 Мб, разрядность звуковой платы — 16. Какова длительность звучания цифрового аудиофайла, записанного с частотой дискретизации 22,05 кГц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дна минута записи цифрового аудиофайла занимает на диске 1,3 Мб, разрядность звуковой платы — 8. С какой частотой дискретизации записан звук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12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3A6-3A62-4692-B5DE-3F57508A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1A20-5766-43A4-BF60-7C26399E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E8D-0113-43F5-9A40-40AD4903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87F-5AC6-4673-97EF-49B2D1D1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739-8B05-443B-ABF8-C838F624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F2B-E2F1-46B0-B5B1-B60B869A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573-71AD-4092-91D7-A4D1B25F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678-B410-4D9B-B9AA-63B789ED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8C9-208B-4582-8B65-9073F380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B6E-C33A-4093-B1DD-01B9A92C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43D-178F-4C5A-A5F0-E456FA08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ACC-ECA4-4472-A1C3-33EEFEC8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59772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CC8D788-07F8-44FB-A938-59DDAED1FEC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Кодирование звука</a:t>
            </a:r>
            <a:endParaRPr b="1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ременная дискретиз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цифров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Частота дискретизации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количество «ступенек» на единицу длины оси абсцисс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высоту тона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Глубина дискретизации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на сколько частей может быть разбита одна «ступенька» на графике в высоту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громкость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бита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м больше величина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частот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луби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искретиз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ем более близким к аналоговому сигналу будет приближаться цифровой звук, и тем выше будет качеств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85840" y="4125960"/>
            <a:ext cx="6700680" cy="2257200"/>
            <a:chOff x="1185840" y="4125960"/>
            <a:chExt cx="6700680" cy="2257200"/>
          </a:xfrm>
        </p:grpSpPr>
        <p:sp>
          <p:nvSpPr>
            <p:cNvPr id="131" name=""/>
            <p:cNvSpPr/>
            <p:nvPr/>
          </p:nvSpPr>
          <p:spPr>
            <a:xfrm flipH="1">
              <a:off x="1329840" y="63817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338120" y="63342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38120" y="62816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336680" y="62308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336680" y="6178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336680" y="61326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336680" y="6080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36680" y="6027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336680" y="5975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329840" y="592308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338120" y="58752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338120" y="5823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336680" y="57722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336680" y="57196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336680" y="56736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336680" y="56214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36680" y="55688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336680" y="55166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22280" y="546732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330200" y="54198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330200" y="53672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328400" y="53164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328400" y="526428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328400" y="521820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328400" y="516564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328400" y="511344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328400" y="50608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29840" y="49975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338120" y="4950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338120" y="48974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336680" y="4846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336680" y="47941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336680" y="4748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336680" y="4695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336680" y="4643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336680" y="45910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5840" y="453240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93760" y="44845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93760" y="443232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191960" y="43815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191960" y="432900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191960" y="428292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191960" y="423072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191960" y="417816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191960" y="41259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вокупная характеристика качества цифрового звука – профессиональный термин звукорежиссеров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J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в –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битрей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представляет собой произведение количества каналов на частоту и на глубину дискретизации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меряется: бит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/сек = бит/се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низкое качество цифрового звука (качество телефонной связи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ин канал (мо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000 = 64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62,5 к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высокое качество цифрового звука (аудио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ва канала (стере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2 = 1 536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≈ 1,5 М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е аудиосистемы кроме стерео поддерживают т.н.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вадрозву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4 кан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нформационный объем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ого файл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выше качество звука, тем больше требуется дискового пространства для его хранения и оперативной памяти для его обработ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онный объем определяется как произведение глубины и частоты дискретизации на длительность воспроизведения и на количество кан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ли произведение битрейта на длительност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 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5-секундной стереозвуковой дорожки с глубиной кодирования 16 бит и частотой дискретизации 24 000 1/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4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/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канала)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 840 00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468,75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граммное обеспечение для работы со звуком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зличаю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редства записи зву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Звуковые редакто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лее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аудиотрек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на аудио-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звуковых файл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udio Track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трек представляет собой формат записи звука в виде непрерывного цифрового потока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огично звуковым дорожкам на виниловых диск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 хранится без сжат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дорожка воспринимается компьютером, как файл с расширение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.cda (Compact Disk Audio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Он хорошо воспроизводится плеером, но его нельзя скопир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54000" y="2076480"/>
            <a:ext cx="7434360" cy="3355920"/>
          </a:xfrm>
          <a:custGeom>
            <a:avLst/>
            <a:gdLst/>
            <a:ahLst/>
            <a:rect l="l" t="t" r="r" b="b"/>
            <a:pathLst>
              <a:path w="4683" h="2114">
                <a:moveTo>
                  <a:pt x="0" y="1157"/>
                </a:moveTo>
                <a:cubicBezTo>
                  <a:pt x="54" y="989"/>
                  <a:pt x="201" y="0"/>
                  <a:pt x="322" y="158"/>
                </a:cubicBezTo>
                <a:cubicBezTo>
                  <a:pt x="473" y="183"/>
                  <a:pt x="526" y="2100"/>
                  <a:pt x="729" y="2107"/>
                </a:cubicBezTo>
                <a:cubicBezTo>
                  <a:pt x="932" y="2114"/>
                  <a:pt x="950" y="411"/>
                  <a:pt x="1076" y="418"/>
                </a:cubicBezTo>
                <a:cubicBezTo>
                  <a:pt x="1202" y="425"/>
                  <a:pt x="1185" y="1608"/>
                  <a:pt x="1271" y="1608"/>
                </a:cubicBezTo>
                <a:cubicBezTo>
                  <a:pt x="1357" y="1608"/>
                  <a:pt x="1372" y="896"/>
                  <a:pt x="1508" y="903"/>
                </a:cubicBezTo>
                <a:cubicBezTo>
                  <a:pt x="1644" y="910"/>
                  <a:pt x="1666" y="1526"/>
                  <a:pt x="1739" y="1548"/>
                </a:cubicBezTo>
                <a:cubicBezTo>
                  <a:pt x="1819" y="1571"/>
                  <a:pt x="1863" y="819"/>
                  <a:pt x="1961" y="831"/>
                </a:cubicBezTo>
                <a:cubicBezTo>
                  <a:pt x="2059" y="844"/>
                  <a:pt x="2123" y="1616"/>
                  <a:pt x="2219" y="1616"/>
                </a:cubicBezTo>
                <a:cubicBezTo>
                  <a:pt x="2315" y="1616"/>
                  <a:pt x="2413" y="480"/>
                  <a:pt x="2535" y="476"/>
                </a:cubicBezTo>
                <a:cubicBezTo>
                  <a:pt x="2657" y="471"/>
                  <a:pt x="2759" y="1915"/>
                  <a:pt x="2897" y="1914"/>
                </a:cubicBezTo>
                <a:cubicBezTo>
                  <a:pt x="3035" y="1913"/>
                  <a:pt x="3119" y="980"/>
                  <a:pt x="3231" y="976"/>
                </a:cubicBezTo>
                <a:cubicBezTo>
                  <a:pt x="3343" y="972"/>
                  <a:pt x="3346" y="1362"/>
                  <a:pt x="3413" y="1366"/>
                </a:cubicBezTo>
                <a:cubicBezTo>
                  <a:pt x="3480" y="1370"/>
                  <a:pt x="3494" y="1050"/>
                  <a:pt x="3555" y="1052"/>
                </a:cubicBezTo>
                <a:cubicBezTo>
                  <a:pt x="3616" y="1053"/>
                  <a:pt x="3640" y="1252"/>
                  <a:pt x="3685" y="1258"/>
                </a:cubicBezTo>
                <a:cubicBezTo>
                  <a:pt x="3730" y="1265"/>
                  <a:pt x="3807" y="1081"/>
                  <a:pt x="3867" y="1081"/>
                </a:cubicBezTo>
                <a:cubicBezTo>
                  <a:pt x="3927" y="1081"/>
                  <a:pt x="3945" y="1241"/>
                  <a:pt x="4048" y="1258"/>
                </a:cubicBezTo>
                <a:cubicBezTo>
                  <a:pt x="4151" y="1276"/>
                  <a:pt x="4305" y="1045"/>
                  <a:pt x="4411" y="1045"/>
                </a:cubicBezTo>
                <a:cubicBezTo>
                  <a:pt x="4517" y="1045"/>
                  <a:pt x="4626" y="1214"/>
                  <a:pt x="4683" y="12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921120"/>
            <a:ext cx="7777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6080" y="1700280"/>
            <a:ext cx="1800" cy="44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48000" y="2715840"/>
            <a:ext cx="180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067280" y="2715840"/>
            <a:ext cx="144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2887560"/>
            <a:ext cx="7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24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4760" y="3036960"/>
            <a:ext cx="6069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832120"/>
            <a:ext cx="360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8360" y="2832120"/>
            <a:ext cx="1440" cy="1071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Непрерывная звуковая волна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40920" y="1185840"/>
            <a:ext cx="3600360" cy="91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57" y="2667"/>
                </a:moveTo>
                <a:lnTo>
                  <a:pt x="24638" y="2667"/>
                </a:lnTo>
                <a:lnTo>
                  <a:pt x="24638" y="23415"/>
                </a:lnTo>
                <a:lnTo>
                  <a:pt x="13538" y="3876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вол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а обратная частот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ни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13080" y="5265720"/>
            <a:ext cx="432288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81" y="3793"/>
                </a:moveTo>
                <a:lnTo>
                  <a:pt x="-2214" y="3793"/>
                </a:lnTo>
                <a:lnTo>
                  <a:pt x="-2214" y="-18018"/>
                </a:lnTo>
                <a:lnTo>
                  <a:pt x="766" y="-6200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литуда колебан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гром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ые файлы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иболее распространенные форматы звуковых файл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 (wa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ma (Windows Media Aud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 (mid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них тольк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хранит несжатый звук, все остальные используют сжат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жатие звуковой информ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сохранении звука в форматах со сжатием происходит отбрасывание не воспринимаемых человеческим ухом частот с малой амплитуд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жатие до десятков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еря информации, что может привести к ухудшению качества зву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бота со сжатым звуко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работе со сжатым звуком файл сначала распаковывается и только потом поступает на обработку плеером или редакто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распаковки/сжатия аудио применяются специальные программы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аудиокодек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/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De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1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овая плата производит кодирование аналогового звукового сигнала. Какое количество информации необходимо для кодирования каждого из 65 536 возможных уровней громкости сигна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 = 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2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-секундной звуковой дорожки п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640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78,1 (к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15 360 000 = 1,83 (М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длительность звукового файла, который может уместиться на дискет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,5’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сть, что для хранения данных на дискете доступно 2 847 секторов, объемом 512 байт кажды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0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. Решени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916280"/>
          <a:ext cx="8291520" cy="4065480"/>
        </p:xfrm>
        <a:graphic>
          <a:graphicData uri="http://schemas.openxmlformats.org/drawingml/2006/table">
            <a:tbl>
              <a:tblPr/>
              <a:tblGrid>
                <a:gridCol w="585720"/>
                <a:gridCol w="1069920"/>
                <a:gridCol w="398520"/>
                <a:gridCol w="1197000"/>
                <a:gridCol w="276120"/>
                <a:gridCol w="1379520"/>
                <a:gridCol w="1800360"/>
                <a:gridCol w="1584360"/>
              </a:tblGrid>
              <a:tr h="760320">
                <a:tc gridSpan="2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се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местимость дискеты, 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0680"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12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 = 11 661 3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gridSpan="8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лов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тре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-ть, с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36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4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6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* 44 1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84 672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0 584байт ≈ 10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5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= 1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000 Гц (11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20 * 11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2 24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5 280 000байт ≈ 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6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7 * 60 = 4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2 000 Гц (2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420 * 2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73 92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 240 000 байт ≈ 8,8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новные характеристики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ина волны и часто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</a:t>
            </a:r>
            <a:r>
              <a:rPr b="1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больше длина волны, тем меньше частот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ется в количестве колебаний в секунду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се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мплитуда колеб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ответствует громкости звук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ромкость измеряется в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децибелах (д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7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* 60 = 18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2 000 Гц (3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80 * 3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2 1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520 000 байт ≈ 11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8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4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4 000 Гц (24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1 * 24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84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8 000 байт ≈ 47 к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9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20 * 44 100 * 2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5 28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 410 000 байт ≈ 4,2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0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100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 количество уровней звукового сигнала при использова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битных звуковых 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1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объем файла с 10 минутной речью записанного с частотой дискретиз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025 Гц и разрядностью кода 4 бита на 1 изме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чь принято записывать в режиме моно (1 кана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 * 60 = 60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025 Гц (11 025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600 * 11 025 * 4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6 4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 307 500 байт ≈ 3,1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время звучания звукового файла объем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,5 Мбайт, содержащего стереозапись с частотой дискретизации 44 100 Гц и разрядностью кода 16 бит на 1 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Задание 13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168200"/>
            <a:ext cx="40338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98560" y="1160640"/>
            <a:ext cx="4645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501336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4543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45,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44,1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22719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14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свободной памяти на дис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,25 Мб, разрядность звуковой платы 16. Какова длительность звучания цифрового аудиофайла, записанного с частотой дискрет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,05 кГ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62200" y="1484280"/>
            <a:ext cx="4500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а минута записи цифрового аудиофайла занимает на диске 1,3 Мб, разрядность звуковой платы 8. С какой частотой дискретизации записан зву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62200" y="148392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ромкость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275000"/>
        </p:xfrm>
        <a:graphic>
          <a:graphicData uri="http://schemas.openxmlformats.org/drawingml/2006/table">
            <a:tbl>
              <a:tblPr/>
              <a:tblGrid>
                <a:gridCol w="6130800"/>
                <a:gridCol w="2098800"/>
              </a:tblGrid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мк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ий предел чувствительности человеческого ух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рох листье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ов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док автомобил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 двигате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вой поро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ременная дискретизация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3480" y="1341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разбиения непрерывной звуковой волны на отдельные (дискретные) временные участки, для которых может быть установлены различные уровни громк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solidFill>
            <a:srgbClr val="ccffff">
              <a:alpha val="6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8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Частот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записи аналогового сигнала и его преобразования в цифровую форму используется микрофон, подключенный к звуковой кар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чество звука зависит от количества измерений уровня звука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Количество измерений уровня звука в единицу времени называется </a:t>
            </a: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частотой дискрет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та дискретизации лежит в диапазоне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 8 000 до 48 000 измерений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лубин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дискретному временному отрезку – каждой «ступеньке» – присваивается определенный уровень громкост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для кодирования которых требуется определенный объем информаци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Глубина кодирования звука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 – количество информации, необходимое для кодирования дискретных уровней громкости цифровог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i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вестна глубина кодирования – 16 б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I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Рассчитать количество возможных уровней громкости внутри одного измерения звука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формул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ходи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уровню громкости присваивается одно из 65 536 значений, которое кодируется двоичными числами от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0000 0000 0000 0000 (минимальный уровень) до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111 1111 1111 1111 (максимальный уровен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аналогового звука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Частот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количество вершин на единицу длины оси абсцисс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высота тона звука.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Амплитуда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высота вершин на графике – координаты по оси ординат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громкость звук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децибела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2:15:17Z</dcterms:created>
  <dc:creator>Сергеев Евгений</dc:creator>
  <dc:description/>
  <dc:language>en-US</dc:language>
  <cp:lastModifiedBy>Сергеев Евгений</cp:lastModifiedBy>
  <dcterms:modified xsi:type="dcterms:W3CDTF">2010-10-08T12:17:10Z</dcterms:modified>
  <cp:revision>22</cp:revision>
  <dc:subject/>
  <dc:title>Слайд 1</dc:title>
</cp:coreProperties>
</file>