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FC1FEA-56AE-4D09-82F1-53419265069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DejaVu Sans"/>
              </a:rPr>
              <a:t>Подсчитать, сколько места будет занимать одна минута цифрового стереозвука с частотой 44.1 кГц и разрядностью 16 би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60 с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44,1 * 1 000 = 44 100 Гц (44 100 1/сек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16 би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2 * 60 * 44 100 * 16 = 84 672 000 бит = 10 584байт ≈ 10 М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DejaVu Sans"/>
              </a:rPr>
              <a:t>Подсчитать, сколько места будет занимать две минуты цифрового стереозвука с частотой 11 кГц и разрядностью 16 би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2 * 60 = 120 с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11 * 1 000 = 11 000 Гц (11 000 1/сек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16 б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2 * 120 * 11 000 * 16 = 42 240 000 бит = 5 280 000байт ≈ 5 М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DejaVu Sans"/>
              </a:rPr>
              <a:t>Подсчитать, сколько места будет занимать семь минут цифрового монозвука с частотой 22 кГц и разрядностью 8 би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7 * 60 = 420 с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22 * 1 000 = 22 000 Гц (22 000 1/сек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8 б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1 * 420 * 22 000 * 8 = 73 920 000 бит = 9 240 000 байт ≈ 8,8 М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DejaVu Sans"/>
              </a:rPr>
              <a:t>Подсчитать, сколько места будет занимать три минуты цифрового стереозвука с частотой 32 кГц и разрядностью 8 би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3 * 60 = 180 с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32 * 1 000 = 32 000 Гц (32 000 1/сек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8 б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2 * 180 * 32 000 * 8 = 92 160 000 бит = 11 520 000 байт ≈ 11 М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DejaVu Sans"/>
              </a:rPr>
              <a:t>Какой объем данных имеет моноаудиофайл, длительность звучания которого 1 секунда, при среднем качестве звука (16 бит, 24 кГц)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1 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24 * 1 000 = 24 000 Гц (24 000 1/сек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16 б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1 * 1 * 24 000 * 16 = 384 000 бит = 48 000 байт ≈ 47 к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DejaVu Sans"/>
              </a:rPr>
              <a:t>Рассчитайте объем стереоаудиофайла длительностью 20 секунд при 20-битном кодировании и частоте дискредитации 44.1 кГц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20 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44,1 * 1 000 = 44 100 Гц (44 100 1/сек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20 б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2 * 20 * 44 100 * 20 = 35 280 000 бит = 4 410 000 байт ≈ 4,2 М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Определите количество уровней звукового сигнала при использовании 8-битных звуковых карт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Количество возможных уровней громкости сигна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N =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DejaVu Sans"/>
              </a:rPr>
              <a:t>I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N = 2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  <a:ea typeface="DejaVu Sans"/>
              </a:rPr>
              <a:t>8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N =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25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Ответ: а. 256 уровн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Подсчитать объем файла с 10 минутной речью записанного с частотой дискретизации 11025 Гц и разрядностью кода 4 бита на 1 измерени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речь принято записывать в режиме моно (1 канал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10 * 60 = 600 сек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11 025 Гц (11 025 1/сек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4 бит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1 * 600 * 11 025 * 4 = 26 460 000 бит = 3 307 500 байт ≈ 3,15 Мб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Ответ = 3,154277 Мбай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Подсчитать время звучания звукового файла объемом 3.5 Мбайт, содержащего стереозапись с частотой дискретизации 44 100 Гц и разрядностью кода 16 бит на 1 измер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Х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44 100 Гц (44 100 1/сек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16 бит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2 * Х * 44 100 * 16 = 3,5 (Мб) </a:t>
            </a:r>
            <a:br>
              <a:rPr sz="13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1 411 200*Х = 29 360 1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Х = 20,8 (сек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Ответ= 20,805 с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3. В распоряжении пользователя имеется память объемом 2,6 Мб. Необходимо записать цифровой аудиофайл с длительностью звучания 1 минута. Какой должна быть частота дискретизации и разрядность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X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. Пусть Х=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60 сек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 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Z (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8 или 16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2,6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Мб =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21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81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38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1 бит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1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60 *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Y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Z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=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21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81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38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1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13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YZ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 = 36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506,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Пр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Y=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 Z=45438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Гц = 45,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4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кГц ≈ 44,1 кГц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standar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Пр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Y=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 Z=22719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Гц =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2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7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кГц ≈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2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05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кГц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standar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Объем свободной памяти на диске — 5,25 Мб, разрядность звуковой платы — 16. Какова длительность звучания цифрового аудиофайла, записанного с частотой дискретизации 22,05 кГц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неизвестно, принимаем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Х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22,05 * 1 000 = 22 500 Гц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16 бит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5,25 Мб =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44 040 192 би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1 * Х * 22500 * 16 = 5,25 (Мб) </a:t>
            </a:r>
            <a:br>
              <a:rPr sz="13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360 000*Х = 44 040 19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Х = 122,3 (сек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Одна минута записи цифрового аудиофайла занимает на диске 1,3 Мб, разрядность звуковой платы — 8. С какой частотой дискретизации записан звук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ешение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. Пусть Х=1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60 се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 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б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60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Y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1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3 (Мб) </a:t>
            </a:r>
            <a:br>
              <a:rPr sz="12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480Y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=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1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90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19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(би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Х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22 719 (бит/сек)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Х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22,05 кБит/сек (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st.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134600"/>
            <a:ext cx="822816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1346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520" y="41346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1346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280" y="41346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1360" y="41346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C9DB-6E71-418A-AA95-19ED99D06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8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1666-91EC-444B-A8D8-3160524E0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0D31-FFA0-46FC-AC82-A0CEA16CD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554E-0FD5-4384-AB6B-D42BE67B1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A5B8-6E35-4C14-9E0C-0FCE228C2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93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1C0D-43D4-489F-AD19-93695FDE2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1346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AA13-A7AD-45C6-99B8-26654710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8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520" y="41346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3F43-8FBF-4FE4-B569-ED135DC5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134600"/>
            <a:ext cx="822816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D3DF-8C72-40AA-9043-17B0EA6F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134600"/>
            <a:ext cx="822816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F22E-78B0-4938-A781-47A19C184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1346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520" y="41346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88A4-30F8-4510-B6B3-71BB5927B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1346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280" y="41346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1360" y="41346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FFCE-F473-4F95-91FA-0DF2A52AF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93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1346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520" y="41346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134600"/>
            <a:ext cx="822816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8360" y="6597720"/>
            <a:ext cx="8229600" cy="144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040" y="1523880"/>
            <a:ext cx="76215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123720" y="624348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88D6BF1-0BFA-4976-B2E6-28E2A0CADC9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3962520"/>
            <a:ext cx="6512040" cy="144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000" spc="-1" strike="noStrike">
                <a:solidFill>
                  <a:srgbClr val="006633"/>
                </a:solidFill>
                <a:latin typeface="Garamond"/>
              </a:rPr>
              <a:t>Кодирование звука</a:t>
            </a:r>
            <a:endParaRPr b="1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ременная дискретизаци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Вопрос: назовите основные характеристики цифрового звука</a:t>
            </a: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900" spc="-1" strike="noStrike" u="sng">
                <a:solidFill>
                  <a:srgbClr val="996600"/>
                </a:solidFill>
                <a:uFillTx/>
                <a:latin typeface="Arial"/>
              </a:rPr>
              <a:t>Частота дискретизации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(количество «ступенек» на единицу длины оси абсцисс)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Определяет высоту тона звука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Измеряется в 1/сек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900" spc="-1" strike="noStrike" u="sng">
                <a:solidFill>
                  <a:srgbClr val="996600"/>
                </a:solidFill>
                <a:uFillTx/>
                <a:latin typeface="Arial"/>
              </a:rPr>
              <a:t>Глубина дискретизации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(на сколько частей может быть разбита одна «ступенька» на графике в высоту)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Определяет громкость звука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Измеряется в битах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rcRect l="6832" t="17537" r="40045" b="48029"/>
          <a:stretch/>
        </p:blipFill>
        <p:spPr>
          <a:xfrm>
            <a:off x="1190520" y="4005360"/>
            <a:ext cx="6912000" cy="25192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Качество оцифрованного звука</a:t>
            </a: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ем больше величина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частоты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глубины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дискретизаци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тем более близким к аналоговому сигналу будет приближаться цифровой звук, и тем выше будет качество зву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185840" y="4125960"/>
            <a:ext cx="6700680" cy="2257200"/>
            <a:chOff x="1185840" y="4125960"/>
            <a:chExt cx="6700680" cy="2257200"/>
          </a:xfrm>
        </p:grpSpPr>
        <p:sp>
          <p:nvSpPr>
            <p:cNvPr id="131" name=""/>
            <p:cNvSpPr/>
            <p:nvPr/>
          </p:nvSpPr>
          <p:spPr>
            <a:xfrm flipH="1">
              <a:off x="1329840" y="6381720"/>
              <a:ext cx="65566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1338120" y="633420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1338120" y="628164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1336680" y="623088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1336680" y="617868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1336680" y="613260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1336680" y="608004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336680" y="602784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1336680" y="597528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1329840" y="5923080"/>
              <a:ext cx="65566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1338120" y="587520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1338120" y="582300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1336680" y="577224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1336680" y="571968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1336680" y="567360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1336680" y="562140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1336680" y="556884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1336680" y="551664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1322280" y="5467320"/>
              <a:ext cx="65563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1330200" y="541980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1330200" y="536724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328400" y="5316480"/>
              <a:ext cx="652284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1328400" y="5264280"/>
              <a:ext cx="65228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1328400" y="5218200"/>
              <a:ext cx="65228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1328400" y="5165640"/>
              <a:ext cx="652284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1328400" y="5113440"/>
              <a:ext cx="65228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1328400" y="5060880"/>
              <a:ext cx="652284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29840" y="4997520"/>
              <a:ext cx="65566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1338120" y="495000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1338120" y="489744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1336680" y="484668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336680" y="479412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1336680" y="474804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1336680" y="469584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336680" y="464328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336680" y="459108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185840" y="4532400"/>
              <a:ext cx="65563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1193760" y="448452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1193760" y="443232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1191960" y="4381560"/>
              <a:ext cx="65228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191960" y="4329000"/>
              <a:ext cx="652284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1191960" y="4282920"/>
              <a:ext cx="652284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1191960" y="4230720"/>
              <a:ext cx="65228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1191960" y="4178160"/>
              <a:ext cx="652284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1191960" y="4125960"/>
              <a:ext cx="65228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 flipV="1">
            <a:off x="1332000" y="3552840"/>
            <a:ext cx="1440" cy="281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335240" y="6370560"/>
            <a:ext cx="67658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dur="indefinite" fill="hold">
                      <p:stCondLst>
                        <p:cond delay="indefinite"/>
                      </p:stCondLst>
                      <p:childTnLst>
                        <p:par>
                          <p:cTn id="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 fill="hold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 fill="hold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 fill="hold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Качество оцифрованного звука</a:t>
            </a: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вокупная характеристика качества цифрового звука – профессиональный термин звукорежиссеров и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J’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ев –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битрейт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представляет собой произведение количества каналов на частоту и на глубину дискретизации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змеряется: бит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1/сек = бит/сек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Качество оцифрованного звука</a:t>
            </a: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амое низкое качество цифрового звука (качество телефонной связи) соответствуе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8 000 измерений в секунду (1/сек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8 бит глубины звук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дин канал (моно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итрейт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8000 = 64000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= 62,5 кбит/се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Качество оцифрованного звука</a:t>
            </a: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амое высокое качество цифрового звука (аудио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) соответствуе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48 000 измерений в секунду (1/сек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бит глубины звук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ва канала (стерео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итрейт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48 000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16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2 = 1 536 000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≈ 1,5 Мбит/се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Современные аудиосистемы кроме стерео поддерживают т.н.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квадрозвук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 – 4 кана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Информационный объем 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звукового файла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ем выше качество звука, тем больше требуется дискового пространства для его хранения и оперативной памяти для его обработк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нформационный объем определяется как произведение глубины и частоты дискретизации на длительность воспроизведения и на количество канал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или произведение битрейта на длительность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Пример 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еделить информационный объем 5-секундной стереозвуковой дорожки с глубиной кодирования 16 бит и частотой дискретизации 24 000 1/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Решение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16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ит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24 000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/сек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5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ек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2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канала)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3 840 00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бит =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468,75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к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ограммное обеспечение для работы со звуком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Различают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Средства записи звук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Звуковые редактор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Плеер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Хранение цифрового звука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8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В виде </a:t>
            </a:r>
            <a:r>
              <a:rPr b="1" i="1" lang="ru-RU" sz="3400" spc="-1" strike="noStrike">
                <a:solidFill>
                  <a:srgbClr val="000000"/>
                </a:solidFill>
                <a:latin typeface="Arial"/>
              </a:rPr>
              <a:t>аудиотреков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на аудио-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В виде звуковых файлов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8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Хранение цифрового звука</a:t>
            </a: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.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Audio Track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удиотрек представляет собой формат записи звука в виде непрерывного цифрового потока.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налогично звуковым дорожкам на виниловых диска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вук хранится без сжат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удиодорожка воспринимается компьютером, как файл с расширением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.cda (Compact Disk Audio)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Он хорошо воспроизводится плеером, но его нельзя скопирова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54000" y="2076480"/>
            <a:ext cx="7434360" cy="3355920"/>
          </a:xfrm>
          <a:custGeom>
            <a:avLst/>
            <a:gdLst/>
            <a:ahLst/>
            <a:rect l="l" t="t" r="r" b="b"/>
            <a:pathLst>
              <a:path w="4683" h="2114">
                <a:moveTo>
                  <a:pt x="0" y="1157"/>
                </a:moveTo>
                <a:cubicBezTo>
                  <a:pt x="54" y="989"/>
                  <a:pt x="201" y="0"/>
                  <a:pt x="322" y="158"/>
                </a:cubicBezTo>
                <a:cubicBezTo>
                  <a:pt x="473" y="183"/>
                  <a:pt x="526" y="2100"/>
                  <a:pt x="729" y="2107"/>
                </a:cubicBezTo>
                <a:cubicBezTo>
                  <a:pt x="932" y="2114"/>
                  <a:pt x="950" y="411"/>
                  <a:pt x="1076" y="418"/>
                </a:cubicBezTo>
                <a:cubicBezTo>
                  <a:pt x="1202" y="425"/>
                  <a:pt x="1185" y="1608"/>
                  <a:pt x="1271" y="1608"/>
                </a:cubicBezTo>
                <a:cubicBezTo>
                  <a:pt x="1357" y="1608"/>
                  <a:pt x="1372" y="896"/>
                  <a:pt x="1508" y="903"/>
                </a:cubicBezTo>
                <a:cubicBezTo>
                  <a:pt x="1644" y="910"/>
                  <a:pt x="1666" y="1526"/>
                  <a:pt x="1739" y="1548"/>
                </a:cubicBezTo>
                <a:cubicBezTo>
                  <a:pt x="1819" y="1571"/>
                  <a:pt x="1863" y="819"/>
                  <a:pt x="1961" y="831"/>
                </a:cubicBezTo>
                <a:cubicBezTo>
                  <a:pt x="2059" y="844"/>
                  <a:pt x="2123" y="1616"/>
                  <a:pt x="2219" y="1616"/>
                </a:cubicBezTo>
                <a:cubicBezTo>
                  <a:pt x="2315" y="1616"/>
                  <a:pt x="2413" y="480"/>
                  <a:pt x="2535" y="476"/>
                </a:cubicBezTo>
                <a:cubicBezTo>
                  <a:pt x="2657" y="471"/>
                  <a:pt x="2759" y="1915"/>
                  <a:pt x="2897" y="1914"/>
                </a:cubicBezTo>
                <a:cubicBezTo>
                  <a:pt x="3035" y="1913"/>
                  <a:pt x="3119" y="980"/>
                  <a:pt x="3231" y="976"/>
                </a:cubicBezTo>
                <a:cubicBezTo>
                  <a:pt x="3343" y="972"/>
                  <a:pt x="3346" y="1362"/>
                  <a:pt x="3413" y="1366"/>
                </a:cubicBezTo>
                <a:cubicBezTo>
                  <a:pt x="3480" y="1370"/>
                  <a:pt x="3494" y="1050"/>
                  <a:pt x="3555" y="1052"/>
                </a:cubicBezTo>
                <a:cubicBezTo>
                  <a:pt x="3616" y="1053"/>
                  <a:pt x="3640" y="1252"/>
                  <a:pt x="3685" y="1258"/>
                </a:cubicBezTo>
                <a:cubicBezTo>
                  <a:pt x="3730" y="1265"/>
                  <a:pt x="3807" y="1081"/>
                  <a:pt x="3867" y="1081"/>
                </a:cubicBezTo>
                <a:cubicBezTo>
                  <a:pt x="3927" y="1081"/>
                  <a:pt x="3945" y="1241"/>
                  <a:pt x="4048" y="1258"/>
                </a:cubicBezTo>
                <a:cubicBezTo>
                  <a:pt x="4151" y="1276"/>
                  <a:pt x="4305" y="1045"/>
                  <a:pt x="4411" y="1045"/>
                </a:cubicBezTo>
                <a:cubicBezTo>
                  <a:pt x="4517" y="1045"/>
                  <a:pt x="4626" y="1214"/>
                  <a:pt x="4683" y="125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5640" y="3921120"/>
            <a:ext cx="77770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46080" y="1700280"/>
            <a:ext cx="1800" cy="4465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348000" y="2715840"/>
            <a:ext cx="1800" cy="11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067280" y="2715840"/>
            <a:ext cx="1440" cy="11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48000" y="2887560"/>
            <a:ext cx="71928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48000" y="24922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844760" y="3036960"/>
            <a:ext cx="60696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32360" y="2832120"/>
            <a:ext cx="3600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88360" y="2832120"/>
            <a:ext cx="1440" cy="1071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33"/>
                </a:solidFill>
                <a:latin typeface="Garamond"/>
              </a:rPr>
              <a:t>Непрерывная звуковая волна</a:t>
            </a: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140920" y="1185840"/>
            <a:ext cx="3600360" cy="916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057" y="2667"/>
                </a:moveTo>
                <a:lnTo>
                  <a:pt x="24638" y="2667"/>
                </a:lnTo>
                <a:lnTo>
                  <a:pt x="24638" y="23415"/>
                </a:lnTo>
                <a:lnTo>
                  <a:pt x="13538" y="38766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ина волны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личина обратная частоте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м она больше, тем звук ниж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4213080" y="5265720"/>
            <a:ext cx="4322880" cy="642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381" y="3793"/>
                </a:moveTo>
                <a:lnTo>
                  <a:pt x="-2214" y="3793"/>
                </a:lnTo>
                <a:lnTo>
                  <a:pt x="-2214" y="-18018"/>
                </a:lnTo>
                <a:lnTo>
                  <a:pt x="766" y="-62006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мплитуда колебаний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м она больше, тем звук громч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0" fill="hold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 fill="hold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 fill="hold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 fill="hold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 fill="hold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dur="indefinite" fill="hold">
                      <p:stCondLst>
                        <p:cond delay="indefinite"/>
                      </p:stCondLst>
                      <p:childTnLst>
                        <p:par>
                          <p:cTn id="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 fill="hold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 fill="hold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Хранение цифрового звука.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Звуковые файлы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иболее распространенные форматы звуковых файлов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v (wav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ma (Windows Media Audi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d (midi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p3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з них только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v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хранит несжатый звук, все остальные используют сжат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Сжатие звуковой информации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 сохранении звука в форматах со сжатием происходит отбрасывание не воспринимаемых человеческим ухом частот с малой амплитудой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жатие до десятков ра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теря информации, что может привести к ухудшению качества зву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Работа со сжатым звуком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 работе со сжатым звуком файл сначала распаковывается и только потом поступает на обработку плеером или редактор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ля распаковки/сжатия аудио применяются специальные программы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аудиокодеки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udio </a:t>
            </a:r>
            <a:r>
              <a:rPr b="1" lang="en-US" sz="3000" spc="-1" strike="noStrike">
                <a:solidFill>
                  <a:srgbClr val="996600"/>
                </a:solidFill>
                <a:latin typeface="Arial"/>
              </a:rPr>
              <a:t>C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r/</a:t>
            </a:r>
            <a:r>
              <a:rPr b="1" lang="en-US" sz="3000" spc="-1" strike="noStrike">
                <a:solidFill>
                  <a:srgbClr val="996600"/>
                </a:solidFill>
                <a:latin typeface="Arial"/>
              </a:rPr>
              <a:t>De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der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Задание 1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вуковая плата производит кодирование аналогового звукового сигнала. Какое количество информации необходимо для кодирования каждого из 65 536 возможных уровней громкости сигнал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Решение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4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= 65 536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400" spc="-1" strike="noStrike" baseline="30000">
                <a:solidFill>
                  <a:srgbClr val="000000"/>
                </a:solidFill>
                <a:latin typeface="Arial"/>
              </a:rPr>
              <a:t>16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= 65 536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I = 16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dur="indefinite" fill="hold">
                      <p:stCondLst>
                        <p:cond delay="indefinite"/>
                      </p:stCondLst>
                      <p:childTnLst>
                        <p:par>
                          <p:cTn id="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dur="indefinite" fill="hold">
                      <p:stCondLst>
                        <p:cond delay="indefinite"/>
                      </p:stCondLst>
                      <p:childTnLst>
                        <p:par>
                          <p:cTn id="1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dur="indefinite" fill="hold">
                      <p:stCondLst>
                        <p:cond delay="indefinite"/>
                      </p:stCondLst>
                      <p:childTnLst>
                        <p:par>
                          <p:cTn id="1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dur="indefinite" fill="hold">
                      <p:stCondLst>
                        <p:cond delay="indefinite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dur="indefinite" fill="hold">
                      <p:stCondLst>
                        <p:cond delay="indefinite"/>
                      </p:stCondLst>
                      <p:childTnLst>
                        <p:par>
                          <p:cTn id="1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Задание 2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0" indent="0">
              <a:spcBef>
                <a:spcPts val="751"/>
              </a:spcBef>
              <a:buNone/>
              <a:tabLst>
                <a:tab algn="l" pos="0"/>
                <a:tab algn="l" pos="1012680"/>
                <a:tab algn="l" pos="1927080"/>
                <a:tab algn="l" pos="2841480"/>
                <a:tab algn="l" pos="3755880"/>
                <a:tab algn="l" pos="4670280"/>
                <a:tab algn="l" pos="5584680"/>
                <a:tab algn="l" pos="6499080"/>
                <a:tab algn="l" pos="7413480"/>
                <a:tab algn="l" pos="8327880"/>
                <a:tab algn="l" pos="9242280"/>
                <a:tab algn="l" pos="1015668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еделить информационный объем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0-секундной звуковой дорожки при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2800" indent="-44136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lphaLcPeriod"/>
              <a:tabLst>
                <a:tab algn="l" pos="1012680"/>
                <a:tab algn="l" pos="1927080"/>
                <a:tab algn="l" pos="2841480"/>
                <a:tab algn="l" pos="3755880"/>
                <a:tab algn="l" pos="4670280"/>
                <a:tab algn="l" pos="5584680"/>
                <a:tab algn="l" pos="6499080"/>
                <a:tab algn="l" pos="7413480"/>
                <a:tab algn="l" pos="8327880"/>
                <a:tab algn="l" pos="9242280"/>
                <a:tab algn="l" pos="1015668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но, 8 бит, 8 000 измер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2800" indent="-44136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lphaLcPeriod"/>
              <a:tabLst>
                <a:tab algn="l" pos="1012680"/>
                <a:tab algn="l" pos="1927080"/>
                <a:tab algn="l" pos="2841480"/>
                <a:tab algn="l" pos="3755880"/>
                <a:tab algn="l" pos="4670280"/>
                <a:tab algn="l" pos="5584680"/>
                <a:tab algn="l" pos="6499080"/>
                <a:tab algn="l" pos="7413480"/>
                <a:tab algn="l" pos="8327880"/>
                <a:tab algn="l" pos="9242280"/>
                <a:tab algn="l" pos="1015668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терео, 16 бит, 48 000 измер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spcBef>
                <a:spcPts val="751"/>
              </a:spcBef>
              <a:buNone/>
              <a:tabLst>
                <a:tab algn="l" pos="0"/>
                <a:tab algn="l" pos="1012680"/>
                <a:tab algn="l" pos="1927080"/>
                <a:tab algn="l" pos="2841480"/>
                <a:tab algn="l" pos="3755880"/>
                <a:tab algn="l" pos="4670280"/>
                <a:tab algn="l" pos="5584680"/>
                <a:tab algn="l" pos="6499080"/>
                <a:tab algn="l" pos="7413480"/>
                <a:tab algn="l" pos="8327880"/>
                <a:tab algn="l" pos="9242280"/>
                <a:tab algn="l" pos="10156680"/>
                <a:tab algn="l" pos="10333080"/>
                <a:tab algn="l" pos="1078236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Решение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2800" indent="-44136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lphaLcPeriod"/>
              <a:tabLst>
                <a:tab algn="l" pos="1012680"/>
                <a:tab algn="l" pos="1927080"/>
                <a:tab algn="l" pos="2841480"/>
                <a:tab algn="l" pos="3755880"/>
                <a:tab algn="l" pos="4670280"/>
                <a:tab algn="l" pos="5584680"/>
                <a:tab algn="l" pos="6499080"/>
                <a:tab algn="l" pos="7413480"/>
                <a:tab algn="l" pos="8327880"/>
                <a:tab algn="l" pos="9242280"/>
                <a:tab algn="l" pos="1015668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8 000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10 = 640 000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= 78,1 (кБ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2800" indent="-44136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lphaLcPeriod"/>
              <a:tabLst>
                <a:tab algn="l" pos="1012680"/>
                <a:tab algn="l" pos="1927080"/>
                <a:tab algn="l" pos="2841480"/>
                <a:tab algn="l" pos="3755880"/>
                <a:tab algn="l" pos="4670280"/>
                <a:tab algn="l" pos="5584680"/>
                <a:tab algn="l" pos="6499080"/>
                <a:tab algn="l" pos="7413480"/>
                <a:tab algn="l" pos="8327880"/>
                <a:tab algn="l" pos="9242280"/>
                <a:tab algn="l" pos="1015668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16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48 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10 = 15 360 000 = 1,83 (МБ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dur="indefinite" fill="hold">
                      <p:stCondLst>
                        <p:cond delay="indefinite"/>
                      </p:stCondLst>
                      <p:childTnLst>
                        <p:par>
                          <p:cTn id="1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dur="indefinite" fill="hold">
                      <p:stCondLst>
                        <p:cond delay="indefinite"/>
                      </p:stCondLst>
                      <p:childTnLst>
                        <p:par>
                          <p:cTn id="1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dur="indefinite" fill="hold">
                      <p:stCondLst>
                        <p:cond delay="indefinite"/>
                      </p:stCondLst>
                      <p:childTnLst>
                        <p:par>
                          <p:cTn id="1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dur="indefinite" fill="hold">
                      <p:stCondLst>
                        <p:cond delay="indefinite"/>
                      </p:stCondLst>
                      <p:childTnLst>
                        <p:par>
                          <p:cTn id="1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dur="indefinite" fill="hold">
                      <p:stCondLst>
                        <p:cond delay="indefinite"/>
                      </p:stCondLst>
                      <p:childTnLst>
                        <p:par>
                          <p:cTn id="1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dur="indefinite" fill="hold">
                      <p:stCondLst>
                        <p:cond delay="indefinite"/>
                      </p:stCondLst>
                      <p:childTnLst>
                        <p:par>
                          <p:cTn id="1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*Задание 3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еделить длительность звукового файла, который может уместиться на дискете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,5’’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честь, что для хранения данных на дискете доступно 2 847 секторов, объемом 512 байт кажды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024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lphaLcPeriod"/>
              <a:tabLst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но, 8 бит, 8 000 измер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024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lphaLcPeriod"/>
              <a:tabLst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терео, 16 бит, 48 000 измер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dur="indefinite" fill="hold">
                      <p:stCondLst>
                        <p:cond delay="0"/>
                      </p:stCondLst>
                      <p:childTnLst>
                        <p:par>
                          <p:cTn id="2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 fill="hold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dur="indefinite" fill="hold">
                      <p:stCondLst>
                        <p:cond delay="indefinite"/>
                      </p:stCondLst>
                      <p:childTnLst>
                        <p:par>
                          <p:cTn id="2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dur="indefinite" fill="hold">
                      <p:stCondLst>
                        <p:cond delay="indefinite"/>
                      </p:stCondLst>
                      <p:childTnLst>
                        <p:par>
                          <p:cTn id="2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dur="indefinite" fill="hold">
                      <p:stCondLst>
                        <p:cond delay="indefinite"/>
                      </p:stCondLst>
                      <p:childTnLst>
                        <p:par>
                          <p:cTn id="2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dur="indefinite" fill="hold">
                      <p:stCondLst>
                        <p:cond delay="indefinite"/>
                      </p:stCondLst>
                      <p:childTnLst>
                        <p:par>
                          <p:cTn id="2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*Задание 3. Решение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68360" y="1916280"/>
          <a:ext cx="8291520" cy="4065480"/>
        </p:xfrm>
        <a:graphic>
          <a:graphicData uri="http://schemas.openxmlformats.org/drawingml/2006/table">
            <a:tbl>
              <a:tblPr/>
              <a:tblGrid>
                <a:gridCol w="585720"/>
                <a:gridCol w="1069920"/>
                <a:gridCol w="398520"/>
                <a:gridCol w="1197000"/>
                <a:gridCol w="276120"/>
                <a:gridCol w="1379520"/>
                <a:gridCol w="1800360"/>
                <a:gridCol w="1584360"/>
              </a:tblGrid>
              <a:tr h="760320">
                <a:tc gridSpan="2"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кто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 секто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местимость дискеты, б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0680">
                <a:tc gridSpan="2"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84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847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512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8 = 11 661 31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3000">
                <a:tc gridSpan="8"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3000"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налов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уб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трей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ит-ть, с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8880"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0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 0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,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9600"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 0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36 0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dur="indefinite" fill="hold">
                      <p:stCondLst>
                        <p:cond delay="indefinite"/>
                      </p:stCondLst>
                      <p:childTnLst>
                        <p:par>
                          <p:cTn id="2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 fill="hold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Задание 4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одсчитать, сколько места будет занимать одна минута цифрового стереозвука с частотой 44.1 кГц и разрядностью 16 би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43280" y="1484280"/>
            <a:ext cx="41767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60 се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44,1 * 1 000 = 44 100 Гц (44 100 1/с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16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2 * 60 * 44 100 * 16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84 672 000 бит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10 584байт ≈ 10 М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dur="indefinite" fill="hold">
                      <p:stCondLst>
                        <p:cond delay="indefinite"/>
                      </p:stCondLst>
                      <p:childTnLst>
                        <p:par>
                          <p:cTn id="2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 fill="hold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dur="indefinite" fill="hold">
                      <p:stCondLst>
                        <p:cond delay="indefinite"/>
                      </p:stCondLst>
                      <p:childTnLst>
                        <p:par>
                          <p:cTn id="2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 fill="hold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Задание 5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одсчитать, сколько места будет занимать две минуты цифрового стереозвука с частотой 11 кГц и разрядностью 16 би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2920" y="1484280"/>
            <a:ext cx="4249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2 * 60 = 120 се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1 * 1 000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11 000 Гц (11 000 1/с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16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2 * 120 * 11 000 * 16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42 240 000 бит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5 280 000байт ≈ 5 М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dur="indefinite" fill="hold">
                      <p:stCondLst>
                        <p:cond delay="indefinite"/>
                      </p:stCondLst>
                      <p:childTnLst>
                        <p:par>
                          <p:cTn id="2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 fill="hold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dur="indefinite" fill="hold">
                      <p:stCondLst>
                        <p:cond delay="indefinite"/>
                      </p:stCondLst>
                      <p:childTnLst>
                        <p:par>
                          <p:cTn id="2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 fill="hold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Задание 6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одсчитать, сколько места будет занимать семь минут цифрового монозвука с частотой 22 кГц и разрядностью 8 би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42920" y="1484280"/>
            <a:ext cx="4249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7 * 60 = 420 се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22 * 1 000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22 000 Гц (22 000 1/с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8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 * 420 * 22 000 * 8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73 920 000 бит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9 240 000 байт ≈ 8,8 М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dur="indefinite" fill="hold">
                      <p:stCondLst>
                        <p:cond delay="indefinite"/>
                      </p:stCondLst>
                      <p:childTnLst>
                        <p:par>
                          <p:cTn id="2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 fill="hold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dur="indefinite" fill="hold">
                      <p:stCondLst>
                        <p:cond delay="indefinite"/>
                      </p:stCondLst>
                      <p:childTnLst>
                        <p:par>
                          <p:cTn id="2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Основные характеристики звука</a:t>
            </a: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лина волны и частота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ct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/</a:t>
            </a:r>
            <a:r>
              <a:rPr b="1" i="1" lang="el-GR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υ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Чем больше длина волны, тем меньше частота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Измеряется в количестве колебаний в секунду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/сек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мплитуда колебаний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оответствует громкости звука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ромкость измеряется в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децибелах (дБ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Задание 7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одсчитать, сколько места будет занимать три минуты цифрового стереозвука с частотой 32 кГц и разрядностью 8 би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2920" y="1484280"/>
            <a:ext cx="4249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3 * 60 = 180 се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32 * 1 000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32 000 Гц (32 000 1/с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8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2 * 180 * 32 000 * 8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92 160 000 бит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11 520 000 байт ≈ 11 М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Задание 8</a:t>
            </a:r>
            <a:endParaRPr b="1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Какой объем данных имеет моноаудиофайл, длительность звучания которого 1 секунда, при среднем качестве звука (16 бит, 24 кГц)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498920" y="1484280"/>
            <a:ext cx="45007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1 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24 * 1 000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24 000 Гц (24 000 1/с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16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 * 1 * 24 000 * 16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384 000 бит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48 000 байт ≈ 47 к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Задание 9</a:t>
            </a:r>
            <a:endParaRPr b="1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Рассчитайте объем стереоаудиофайла длительностью 20 секунд при 20-битном кодировании и частоте дискредитации 44.1 кГц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498920" y="1484280"/>
            <a:ext cx="41767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20 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44,1 * 1 000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44 100 Гц (44 100 1/с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20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2 * 20 * 44 100 * 20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35 280 000 бит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4 410 000 байт ≈ 4,2 М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dur="indefinite" fill="hold">
                      <p:stCondLst>
                        <p:cond delay="indefinite"/>
                      </p:stCondLst>
                      <p:childTnLst>
                        <p:par>
                          <p:cTn id="2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 fill="hold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dur="indefinite" fill="hold">
                      <p:stCondLst>
                        <p:cond delay="indefinite"/>
                      </p:stCondLst>
                      <p:childTnLst>
                        <p:par>
                          <p:cTn id="2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 fill="hold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Задание 10</a:t>
            </a:r>
            <a:endParaRPr b="1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100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ите количество уровней звукового сигнала при использовании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-битных звуковых ка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498920" y="1484280"/>
            <a:ext cx="41767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DejaVu Sans"/>
              </a:rPr>
              <a:t>Количество возможных уровней громкости сигнал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N =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  <a:ea typeface="DejaVu Sans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N = 2</a:t>
            </a:r>
            <a:r>
              <a:rPr b="0" lang="ru-RU" sz="2600" spc="-1" strike="noStrike" baseline="30000">
                <a:solidFill>
                  <a:srgbClr val="000000"/>
                </a:solidFill>
                <a:latin typeface="Arial"/>
                <a:ea typeface="DejaVu Sans"/>
              </a:rPr>
              <a:t>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N =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DejaVu Sans"/>
              </a:rPr>
              <a:t>25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DejaVu Sans"/>
              </a:rPr>
              <a:t>Ответ: а. 256 уровне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dur="indefinite" fill="hold">
                      <p:stCondLst>
                        <p:cond delay="indefinite"/>
                      </p:stCondLst>
                      <p:childTnLst>
                        <p:par>
                          <p:cTn id="2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 fill="hold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dur="indefinite" fill="hold">
                      <p:stCondLst>
                        <p:cond delay="indefinite"/>
                      </p:stCondLst>
                      <p:childTnLst>
                        <p:par>
                          <p:cTn id="3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 fill="hold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Задание 11</a:t>
            </a:r>
            <a:endParaRPr b="1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считать объем файла с 10 минутной речью записанного с частотой дискретизаци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 025 Гц и разрядностью кода 4 бита на 1 измер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498920" y="1484280"/>
            <a:ext cx="41767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чь принято записывать в режиме моно (1 канал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0 * 60 = 600 сек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1 025 Гц (11 025 1/с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4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 * 600 * 11 025 * 4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26 460 000 бит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3 307 500 байт ≈ 3,15 М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dur="indefinite" fill="hold">
                      <p:stCondLst>
                        <p:cond delay="indefinite"/>
                      </p:stCondLst>
                      <p:childTnLst>
                        <p:par>
                          <p:cTn id="3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 fill="hold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dur="indefinite" fill="hold">
                      <p:stCondLst>
                        <p:cond delay="indefinite"/>
                      </p:stCondLst>
                      <p:childTnLst>
                        <p:par>
                          <p:cTn id="3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 fill="hold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Задание 12</a:t>
            </a:r>
            <a:endParaRPr b="1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считать время звучания звукового файла объемом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,5 Мбайт, содержащего стереозапись с частотой дискретизации 44 100 Гц и разрядностью кода 16 бит на 1 изме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498920" y="1484280"/>
            <a:ext cx="45007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44 100 Гц (44 100 1/с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16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2 * Х * 44 100 * 16 = 3,5 (Мб) </a:t>
            </a:r>
            <a:br>
              <a:rPr sz="22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1 411 200*Х = 29 360 1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Х = 20,8 (се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dur="indefinite" fill="hold">
                      <p:stCondLst>
                        <p:cond delay="indefinite"/>
                      </p:stCondLst>
                      <p:childTnLst>
                        <p:par>
                          <p:cTn id="3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 fill="hold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dur="indefinite" fill="hold">
                      <p:stCondLst>
                        <p:cond delay="indefinite"/>
                      </p:stCondLst>
                      <p:childTnLst>
                        <p:par>
                          <p:cTn id="3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 fill="hold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33"/>
                </a:solidFill>
                <a:latin typeface="Garamond"/>
              </a:rPr>
              <a:t>Задание 13</a:t>
            </a: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168200"/>
            <a:ext cx="403380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аспоряжении пользователя имеется память объемом 2,6 Мб. Необходимо записать цифровой аудиофайл с длительностью звучания 1 минута. Какой должна быть частота дискретизации и разряднос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498560" y="1160640"/>
            <a:ext cx="46450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. Пусть Х=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60 сек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 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Z (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8 или 16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2,6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Мб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2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8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3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1 бит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60 *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Y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Z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2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8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3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YZ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= 36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506,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8360" y="5013360"/>
            <a:ext cx="85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=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Z=45438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ц = 45,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кГц ≈ 44,1 кГц 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=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Z=22719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ц =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72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кГц ≈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5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кГц 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dur="indefinite" fill="hold">
                      <p:stCondLst>
                        <p:cond delay="indefinite"/>
                      </p:stCondLst>
                      <p:childTnLst>
                        <p:par>
                          <p:cTn id="3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 fill="hold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dur="indefinite" fill="hold">
                      <p:stCondLst>
                        <p:cond delay="indefinite"/>
                      </p:stCondLst>
                      <p:childTnLst>
                        <p:par>
                          <p:cTn id="3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 fill="hold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dur="indefinite" fill="hold">
                      <p:stCondLst>
                        <p:cond delay="indefinite"/>
                      </p:stCondLst>
                      <p:childTnLst>
                        <p:par>
                          <p:cTn id="3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dur="indefinite" fill="hold">
                      <p:stCondLst>
                        <p:cond delay="indefinite"/>
                      </p:stCondLst>
                      <p:childTnLst>
                        <p:par>
                          <p:cTn id="3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 fill="hold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dur="indefinite" fill="hold">
                      <p:stCondLst>
                        <p:cond delay="indefinite"/>
                      </p:stCondLst>
                      <p:childTnLst>
                        <p:par>
                          <p:cTn id="3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Задание14</a:t>
            </a:r>
            <a:endParaRPr b="1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м свободной памяти на диск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,25 Мб, разрядность звуковой платы 16. Какова длительность звучания цифрового аудиофайла, записанного с частотой дискретиз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2,05 кГц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462200" y="1484280"/>
            <a:ext cx="45003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неизвестно, принимаем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22,05 * 1 000 = 22 500 Гц </a:t>
            </a: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16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5,25 Мб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44 040 192 б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 * Х * 22500 * 16 = 5,25 (Мб) </a:t>
            </a:r>
            <a:br>
              <a:rPr sz="22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360 000*Х = 44 040 1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Х = 122,3 (се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dur="indefinite" fill="hold">
                      <p:stCondLst>
                        <p:cond delay="indefinite"/>
                      </p:stCondLst>
                      <p:childTnLst>
                        <p:par>
                          <p:cTn id="3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 fill="hold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dur="indefinite" fill="hold">
                      <p:stCondLst>
                        <p:cond delay="indefinite"/>
                      </p:stCondLst>
                      <p:childTnLst>
                        <p:par>
                          <p:cTn id="3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 fill="hold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Задание 12</a:t>
            </a:r>
            <a:endParaRPr b="1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дна минута записи цифрового аудиофайла занимает на диске 1,3 Мб, разрядность звуковой платы 8. С какой частотой дискретизации записан звук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462200" y="1483920"/>
            <a:ext cx="4537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. Пусть Х=1</a:t>
            </a: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 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60 сек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8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60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Y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8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=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1,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3 (Мб) </a:t>
            </a:r>
            <a:br>
              <a:rPr sz="2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480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=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90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9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(бит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Х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22 719 (бит/сек)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Х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22,05 кБит/сек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st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dur="indefinite" fill="hold">
                      <p:stCondLst>
                        <p:cond delay="indefinite"/>
                      </p:stCondLst>
                      <p:childTnLst>
                        <p:par>
                          <p:cTn id="4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 fill="hold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dur="indefinite" fill="hold">
                      <p:stCondLst>
                        <p:cond delay="indefinite"/>
                      </p:stCondLst>
                      <p:childTnLst>
                        <p:par>
                          <p:cTn id="4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 fill="hold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Громкость звука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1600200"/>
          <a:ext cx="8229600" cy="4275000"/>
        </p:xfrm>
        <a:graphic>
          <a:graphicData uri="http://schemas.openxmlformats.org/drawingml/2006/table">
            <a:tbl>
              <a:tblPr/>
              <a:tblGrid>
                <a:gridCol w="6130800"/>
                <a:gridCol w="2098800"/>
              </a:tblGrid>
              <a:tr h="565200"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вук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омкост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85600">
                <a:tc>
                  <a:txBody>
                    <a:bodyPr lIns="90000" rIns="90000" tIns="69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жний предел чувствительности человеческого ух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дБ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69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орох листье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дБ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69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говор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дБ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69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удок автомобил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 дБ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69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активный двигател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 дБ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69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евой порог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 дБ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dur="indefinite" fill="hold">
                      <p:stCondLst>
                        <p:cond delay="0"/>
                      </p:stCondLst>
                      <p:childTnLst>
                        <p:par>
                          <p:cTn id="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 fill="hold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6832" t="17537" r="40045" b="48029"/>
          <a:stretch/>
        </p:blipFill>
        <p:spPr>
          <a:xfrm>
            <a:off x="1190520" y="4005360"/>
            <a:ext cx="6912000" cy="2519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332000" y="3876840"/>
            <a:ext cx="6535800" cy="2504880"/>
          </a:xfrm>
          <a:custGeom>
            <a:avLst/>
            <a:gdLst/>
            <a:ahLst/>
            <a:rect l="l" t="t" r="r" b="b"/>
            <a:pathLst>
              <a:path w="4117" h="1578">
                <a:moveTo>
                  <a:pt x="2" y="1571"/>
                </a:moveTo>
                <a:cubicBezTo>
                  <a:pt x="0" y="607"/>
                  <a:pt x="4" y="868"/>
                  <a:pt x="1" y="607"/>
                </a:cubicBezTo>
                <a:cubicBezTo>
                  <a:pt x="1" y="593"/>
                  <a:pt x="2" y="588"/>
                  <a:pt x="20" y="569"/>
                </a:cubicBezTo>
                <a:cubicBezTo>
                  <a:pt x="29" y="547"/>
                  <a:pt x="47" y="543"/>
                  <a:pt x="61" y="531"/>
                </a:cubicBezTo>
                <a:cubicBezTo>
                  <a:pt x="75" y="519"/>
                  <a:pt x="89" y="501"/>
                  <a:pt x="104" y="495"/>
                </a:cubicBezTo>
                <a:cubicBezTo>
                  <a:pt x="119" y="489"/>
                  <a:pt x="134" y="500"/>
                  <a:pt x="148" y="494"/>
                </a:cubicBezTo>
                <a:cubicBezTo>
                  <a:pt x="162" y="488"/>
                  <a:pt x="174" y="468"/>
                  <a:pt x="188" y="456"/>
                </a:cubicBezTo>
                <a:cubicBezTo>
                  <a:pt x="223" y="432"/>
                  <a:pt x="216" y="440"/>
                  <a:pt x="230" y="422"/>
                </a:cubicBezTo>
                <a:cubicBezTo>
                  <a:pt x="244" y="404"/>
                  <a:pt x="260" y="366"/>
                  <a:pt x="275" y="348"/>
                </a:cubicBezTo>
                <a:cubicBezTo>
                  <a:pt x="290" y="330"/>
                  <a:pt x="306" y="318"/>
                  <a:pt x="319" y="312"/>
                </a:cubicBezTo>
                <a:cubicBezTo>
                  <a:pt x="332" y="306"/>
                  <a:pt x="342" y="305"/>
                  <a:pt x="355" y="311"/>
                </a:cubicBezTo>
                <a:cubicBezTo>
                  <a:pt x="368" y="317"/>
                  <a:pt x="383" y="336"/>
                  <a:pt x="397" y="348"/>
                </a:cubicBezTo>
                <a:cubicBezTo>
                  <a:pt x="411" y="360"/>
                  <a:pt x="426" y="381"/>
                  <a:pt x="440" y="381"/>
                </a:cubicBezTo>
                <a:cubicBezTo>
                  <a:pt x="454" y="381"/>
                  <a:pt x="465" y="359"/>
                  <a:pt x="479" y="347"/>
                </a:cubicBezTo>
                <a:cubicBezTo>
                  <a:pt x="493" y="335"/>
                  <a:pt x="510" y="322"/>
                  <a:pt x="524" y="309"/>
                </a:cubicBezTo>
                <a:cubicBezTo>
                  <a:pt x="538" y="296"/>
                  <a:pt x="551" y="272"/>
                  <a:pt x="565" y="272"/>
                </a:cubicBezTo>
                <a:cubicBezTo>
                  <a:pt x="579" y="272"/>
                  <a:pt x="596" y="287"/>
                  <a:pt x="610" y="311"/>
                </a:cubicBezTo>
                <a:cubicBezTo>
                  <a:pt x="624" y="335"/>
                  <a:pt x="635" y="371"/>
                  <a:pt x="649" y="419"/>
                </a:cubicBezTo>
                <a:cubicBezTo>
                  <a:pt x="663" y="467"/>
                  <a:pt x="680" y="533"/>
                  <a:pt x="695" y="599"/>
                </a:cubicBezTo>
                <a:cubicBezTo>
                  <a:pt x="710" y="665"/>
                  <a:pt x="723" y="773"/>
                  <a:pt x="737" y="815"/>
                </a:cubicBezTo>
                <a:cubicBezTo>
                  <a:pt x="751" y="857"/>
                  <a:pt x="765" y="858"/>
                  <a:pt x="778" y="852"/>
                </a:cubicBezTo>
                <a:cubicBezTo>
                  <a:pt x="791" y="846"/>
                  <a:pt x="803" y="798"/>
                  <a:pt x="817" y="779"/>
                </a:cubicBezTo>
                <a:cubicBezTo>
                  <a:pt x="831" y="760"/>
                  <a:pt x="848" y="693"/>
                  <a:pt x="862" y="741"/>
                </a:cubicBezTo>
                <a:cubicBezTo>
                  <a:pt x="876" y="789"/>
                  <a:pt x="890" y="970"/>
                  <a:pt x="904" y="1067"/>
                </a:cubicBezTo>
                <a:cubicBezTo>
                  <a:pt x="918" y="1164"/>
                  <a:pt x="932" y="1321"/>
                  <a:pt x="946" y="1322"/>
                </a:cubicBezTo>
                <a:cubicBezTo>
                  <a:pt x="960" y="1323"/>
                  <a:pt x="973" y="1131"/>
                  <a:pt x="986" y="1070"/>
                </a:cubicBezTo>
                <a:cubicBezTo>
                  <a:pt x="999" y="1009"/>
                  <a:pt x="1010" y="963"/>
                  <a:pt x="1024" y="957"/>
                </a:cubicBezTo>
                <a:cubicBezTo>
                  <a:pt x="1038" y="951"/>
                  <a:pt x="1057" y="1013"/>
                  <a:pt x="1072" y="1031"/>
                </a:cubicBezTo>
                <a:cubicBezTo>
                  <a:pt x="1087" y="1049"/>
                  <a:pt x="1099" y="1070"/>
                  <a:pt x="1112" y="1064"/>
                </a:cubicBezTo>
                <a:cubicBezTo>
                  <a:pt x="1125" y="1058"/>
                  <a:pt x="1140" y="1031"/>
                  <a:pt x="1153" y="996"/>
                </a:cubicBezTo>
                <a:cubicBezTo>
                  <a:pt x="1166" y="961"/>
                  <a:pt x="1179" y="902"/>
                  <a:pt x="1193" y="854"/>
                </a:cubicBezTo>
                <a:cubicBezTo>
                  <a:pt x="1207" y="806"/>
                  <a:pt x="1221" y="755"/>
                  <a:pt x="1235" y="707"/>
                </a:cubicBezTo>
                <a:cubicBezTo>
                  <a:pt x="1249" y="659"/>
                  <a:pt x="1265" y="576"/>
                  <a:pt x="1280" y="564"/>
                </a:cubicBezTo>
                <a:cubicBezTo>
                  <a:pt x="1295" y="552"/>
                  <a:pt x="1310" y="618"/>
                  <a:pt x="1324" y="636"/>
                </a:cubicBezTo>
                <a:cubicBezTo>
                  <a:pt x="1338" y="654"/>
                  <a:pt x="1351" y="680"/>
                  <a:pt x="1364" y="674"/>
                </a:cubicBezTo>
                <a:cubicBezTo>
                  <a:pt x="1377" y="668"/>
                  <a:pt x="1391" y="618"/>
                  <a:pt x="1405" y="600"/>
                </a:cubicBezTo>
                <a:cubicBezTo>
                  <a:pt x="1419" y="582"/>
                  <a:pt x="1433" y="548"/>
                  <a:pt x="1447" y="566"/>
                </a:cubicBezTo>
                <a:cubicBezTo>
                  <a:pt x="1461" y="584"/>
                  <a:pt x="1475" y="624"/>
                  <a:pt x="1489" y="707"/>
                </a:cubicBezTo>
                <a:cubicBezTo>
                  <a:pt x="1503" y="790"/>
                  <a:pt x="1516" y="972"/>
                  <a:pt x="1531" y="1067"/>
                </a:cubicBezTo>
                <a:cubicBezTo>
                  <a:pt x="1546" y="1162"/>
                  <a:pt x="1565" y="1433"/>
                  <a:pt x="1579" y="1278"/>
                </a:cubicBezTo>
                <a:cubicBezTo>
                  <a:pt x="1593" y="1123"/>
                  <a:pt x="1603" y="260"/>
                  <a:pt x="1616" y="135"/>
                </a:cubicBezTo>
                <a:cubicBezTo>
                  <a:pt x="1629" y="10"/>
                  <a:pt x="1646" y="361"/>
                  <a:pt x="1660" y="528"/>
                </a:cubicBezTo>
                <a:cubicBezTo>
                  <a:pt x="1674" y="695"/>
                  <a:pt x="1687" y="1146"/>
                  <a:pt x="1700" y="1140"/>
                </a:cubicBezTo>
                <a:cubicBezTo>
                  <a:pt x="1713" y="1134"/>
                  <a:pt x="1727" y="528"/>
                  <a:pt x="1741" y="492"/>
                </a:cubicBezTo>
                <a:cubicBezTo>
                  <a:pt x="1755" y="456"/>
                  <a:pt x="1771" y="900"/>
                  <a:pt x="1786" y="924"/>
                </a:cubicBezTo>
                <a:cubicBezTo>
                  <a:pt x="1801" y="948"/>
                  <a:pt x="1815" y="710"/>
                  <a:pt x="1828" y="638"/>
                </a:cubicBezTo>
                <a:cubicBezTo>
                  <a:pt x="1841" y="566"/>
                  <a:pt x="1853" y="553"/>
                  <a:pt x="1867" y="492"/>
                </a:cubicBezTo>
                <a:cubicBezTo>
                  <a:pt x="1881" y="431"/>
                  <a:pt x="1895" y="278"/>
                  <a:pt x="1910" y="272"/>
                </a:cubicBezTo>
                <a:cubicBezTo>
                  <a:pt x="1925" y="266"/>
                  <a:pt x="1941" y="410"/>
                  <a:pt x="1955" y="459"/>
                </a:cubicBezTo>
                <a:cubicBezTo>
                  <a:pt x="1969" y="508"/>
                  <a:pt x="1982" y="540"/>
                  <a:pt x="1996" y="564"/>
                </a:cubicBezTo>
                <a:cubicBezTo>
                  <a:pt x="2010" y="588"/>
                  <a:pt x="2023" y="560"/>
                  <a:pt x="2038" y="602"/>
                </a:cubicBezTo>
                <a:cubicBezTo>
                  <a:pt x="2053" y="644"/>
                  <a:pt x="2070" y="776"/>
                  <a:pt x="2084" y="818"/>
                </a:cubicBezTo>
                <a:cubicBezTo>
                  <a:pt x="2098" y="860"/>
                  <a:pt x="2107" y="863"/>
                  <a:pt x="2120" y="857"/>
                </a:cubicBezTo>
                <a:cubicBezTo>
                  <a:pt x="2133" y="851"/>
                  <a:pt x="2147" y="801"/>
                  <a:pt x="2162" y="782"/>
                </a:cubicBezTo>
                <a:cubicBezTo>
                  <a:pt x="2177" y="763"/>
                  <a:pt x="2193" y="698"/>
                  <a:pt x="2207" y="746"/>
                </a:cubicBezTo>
                <a:cubicBezTo>
                  <a:pt x="2221" y="794"/>
                  <a:pt x="2231" y="974"/>
                  <a:pt x="2245" y="1070"/>
                </a:cubicBezTo>
                <a:cubicBezTo>
                  <a:pt x="2259" y="1166"/>
                  <a:pt x="2280" y="1323"/>
                  <a:pt x="2294" y="1323"/>
                </a:cubicBezTo>
                <a:cubicBezTo>
                  <a:pt x="2308" y="1323"/>
                  <a:pt x="2317" y="1128"/>
                  <a:pt x="2330" y="1068"/>
                </a:cubicBezTo>
                <a:cubicBezTo>
                  <a:pt x="2343" y="1008"/>
                  <a:pt x="2357" y="966"/>
                  <a:pt x="2371" y="960"/>
                </a:cubicBezTo>
                <a:cubicBezTo>
                  <a:pt x="2385" y="954"/>
                  <a:pt x="2399" y="1013"/>
                  <a:pt x="2413" y="1031"/>
                </a:cubicBezTo>
                <a:cubicBezTo>
                  <a:pt x="2427" y="1049"/>
                  <a:pt x="2444" y="1145"/>
                  <a:pt x="2458" y="1067"/>
                </a:cubicBezTo>
                <a:cubicBezTo>
                  <a:pt x="2472" y="989"/>
                  <a:pt x="2482" y="683"/>
                  <a:pt x="2495" y="564"/>
                </a:cubicBezTo>
                <a:cubicBezTo>
                  <a:pt x="2508" y="445"/>
                  <a:pt x="2525" y="393"/>
                  <a:pt x="2539" y="350"/>
                </a:cubicBezTo>
                <a:cubicBezTo>
                  <a:pt x="2553" y="307"/>
                  <a:pt x="2568" y="316"/>
                  <a:pt x="2582" y="309"/>
                </a:cubicBezTo>
                <a:cubicBezTo>
                  <a:pt x="2596" y="302"/>
                  <a:pt x="2609" y="302"/>
                  <a:pt x="2623" y="309"/>
                </a:cubicBezTo>
                <a:cubicBezTo>
                  <a:pt x="2637" y="316"/>
                  <a:pt x="2651" y="337"/>
                  <a:pt x="2665" y="350"/>
                </a:cubicBezTo>
                <a:cubicBezTo>
                  <a:pt x="2679" y="363"/>
                  <a:pt x="2694" y="387"/>
                  <a:pt x="2708" y="386"/>
                </a:cubicBezTo>
                <a:cubicBezTo>
                  <a:pt x="2722" y="385"/>
                  <a:pt x="2736" y="357"/>
                  <a:pt x="2750" y="345"/>
                </a:cubicBezTo>
                <a:cubicBezTo>
                  <a:pt x="2764" y="333"/>
                  <a:pt x="2778" y="326"/>
                  <a:pt x="2792" y="314"/>
                </a:cubicBezTo>
                <a:cubicBezTo>
                  <a:pt x="2806" y="302"/>
                  <a:pt x="2822" y="275"/>
                  <a:pt x="2836" y="275"/>
                </a:cubicBezTo>
                <a:cubicBezTo>
                  <a:pt x="2850" y="275"/>
                  <a:pt x="2861" y="288"/>
                  <a:pt x="2875" y="312"/>
                </a:cubicBezTo>
                <a:cubicBezTo>
                  <a:pt x="2889" y="336"/>
                  <a:pt x="2907" y="372"/>
                  <a:pt x="2921" y="420"/>
                </a:cubicBezTo>
                <a:cubicBezTo>
                  <a:pt x="2935" y="468"/>
                  <a:pt x="2947" y="534"/>
                  <a:pt x="2960" y="600"/>
                </a:cubicBezTo>
                <a:cubicBezTo>
                  <a:pt x="2973" y="666"/>
                  <a:pt x="2988" y="773"/>
                  <a:pt x="3002" y="815"/>
                </a:cubicBezTo>
                <a:cubicBezTo>
                  <a:pt x="3016" y="857"/>
                  <a:pt x="3030" y="894"/>
                  <a:pt x="3044" y="851"/>
                </a:cubicBezTo>
                <a:cubicBezTo>
                  <a:pt x="3058" y="808"/>
                  <a:pt x="3072" y="582"/>
                  <a:pt x="3086" y="558"/>
                </a:cubicBezTo>
                <a:cubicBezTo>
                  <a:pt x="3100" y="534"/>
                  <a:pt x="3116" y="623"/>
                  <a:pt x="3130" y="708"/>
                </a:cubicBezTo>
                <a:cubicBezTo>
                  <a:pt x="3144" y="793"/>
                  <a:pt x="3157" y="965"/>
                  <a:pt x="3170" y="1067"/>
                </a:cubicBezTo>
                <a:cubicBezTo>
                  <a:pt x="3183" y="1169"/>
                  <a:pt x="3197" y="1474"/>
                  <a:pt x="3211" y="1319"/>
                </a:cubicBezTo>
                <a:cubicBezTo>
                  <a:pt x="3225" y="1164"/>
                  <a:pt x="3238" y="265"/>
                  <a:pt x="3253" y="134"/>
                </a:cubicBezTo>
                <a:cubicBezTo>
                  <a:pt x="3268" y="3"/>
                  <a:pt x="3285" y="457"/>
                  <a:pt x="3299" y="530"/>
                </a:cubicBezTo>
                <a:cubicBezTo>
                  <a:pt x="3313" y="603"/>
                  <a:pt x="3327" y="541"/>
                  <a:pt x="3340" y="570"/>
                </a:cubicBezTo>
                <a:cubicBezTo>
                  <a:pt x="3353" y="599"/>
                  <a:pt x="3366" y="624"/>
                  <a:pt x="3380" y="707"/>
                </a:cubicBezTo>
                <a:cubicBezTo>
                  <a:pt x="3394" y="790"/>
                  <a:pt x="3408" y="969"/>
                  <a:pt x="3422" y="1071"/>
                </a:cubicBezTo>
                <a:cubicBezTo>
                  <a:pt x="3436" y="1173"/>
                  <a:pt x="3449" y="1319"/>
                  <a:pt x="3467" y="1322"/>
                </a:cubicBezTo>
                <a:cubicBezTo>
                  <a:pt x="3485" y="1325"/>
                  <a:pt x="3492" y="264"/>
                  <a:pt x="3505" y="132"/>
                </a:cubicBezTo>
                <a:cubicBezTo>
                  <a:pt x="3518" y="0"/>
                  <a:pt x="3534" y="501"/>
                  <a:pt x="3548" y="531"/>
                </a:cubicBezTo>
                <a:cubicBezTo>
                  <a:pt x="3562" y="561"/>
                  <a:pt x="3575" y="351"/>
                  <a:pt x="3589" y="315"/>
                </a:cubicBezTo>
                <a:cubicBezTo>
                  <a:pt x="3603" y="279"/>
                  <a:pt x="3617" y="281"/>
                  <a:pt x="3634" y="312"/>
                </a:cubicBezTo>
                <a:cubicBezTo>
                  <a:pt x="3651" y="343"/>
                  <a:pt x="3662" y="336"/>
                  <a:pt x="3676" y="348"/>
                </a:cubicBezTo>
                <a:cubicBezTo>
                  <a:pt x="3690" y="360"/>
                  <a:pt x="3704" y="384"/>
                  <a:pt x="3718" y="384"/>
                </a:cubicBezTo>
                <a:cubicBezTo>
                  <a:pt x="3732" y="384"/>
                  <a:pt x="3749" y="338"/>
                  <a:pt x="3763" y="350"/>
                </a:cubicBezTo>
                <a:cubicBezTo>
                  <a:pt x="3777" y="362"/>
                  <a:pt x="3786" y="423"/>
                  <a:pt x="3799" y="458"/>
                </a:cubicBezTo>
                <a:cubicBezTo>
                  <a:pt x="3812" y="493"/>
                  <a:pt x="3828" y="539"/>
                  <a:pt x="3842" y="563"/>
                </a:cubicBezTo>
                <a:cubicBezTo>
                  <a:pt x="3856" y="587"/>
                  <a:pt x="3870" y="561"/>
                  <a:pt x="3884" y="603"/>
                </a:cubicBezTo>
                <a:cubicBezTo>
                  <a:pt x="3898" y="645"/>
                  <a:pt x="3914" y="775"/>
                  <a:pt x="3928" y="816"/>
                </a:cubicBezTo>
                <a:cubicBezTo>
                  <a:pt x="3942" y="857"/>
                  <a:pt x="3953" y="852"/>
                  <a:pt x="3968" y="852"/>
                </a:cubicBezTo>
                <a:cubicBezTo>
                  <a:pt x="3983" y="852"/>
                  <a:pt x="4000" y="745"/>
                  <a:pt x="4012" y="744"/>
                </a:cubicBezTo>
                <a:cubicBezTo>
                  <a:pt x="4024" y="743"/>
                  <a:pt x="4040" y="975"/>
                  <a:pt x="4054" y="1071"/>
                </a:cubicBezTo>
                <a:cubicBezTo>
                  <a:pt x="4068" y="1167"/>
                  <a:pt x="4084" y="1271"/>
                  <a:pt x="4094" y="1323"/>
                </a:cubicBezTo>
                <a:cubicBezTo>
                  <a:pt x="4104" y="1375"/>
                  <a:pt x="4117" y="1345"/>
                  <a:pt x="4116" y="1381"/>
                </a:cubicBezTo>
                <a:cubicBezTo>
                  <a:pt x="4113" y="1560"/>
                  <a:pt x="4117" y="1422"/>
                  <a:pt x="4112" y="1572"/>
                </a:cubicBezTo>
                <a:cubicBezTo>
                  <a:pt x="2801" y="1578"/>
                  <a:pt x="125" y="1572"/>
                  <a:pt x="2" y="1571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Временная дискретизация звука</a:t>
            </a: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63480" y="134100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цесс разбиения непрерывной звуковой волны на отдельные (дискретные) временные участки, для которых может быть установлены различные уровни громко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335240" y="6370560"/>
            <a:ext cx="67658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332000" y="3552840"/>
            <a:ext cx="1440" cy="281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32000" y="3876840"/>
            <a:ext cx="6535800" cy="2504880"/>
          </a:xfrm>
          <a:custGeom>
            <a:avLst/>
            <a:gdLst/>
            <a:ahLst/>
            <a:rect l="l" t="t" r="r" b="b"/>
            <a:pathLst>
              <a:path w="4117" h="1578">
                <a:moveTo>
                  <a:pt x="2" y="1571"/>
                </a:moveTo>
                <a:cubicBezTo>
                  <a:pt x="0" y="607"/>
                  <a:pt x="4" y="868"/>
                  <a:pt x="1" y="607"/>
                </a:cubicBezTo>
                <a:cubicBezTo>
                  <a:pt x="1" y="593"/>
                  <a:pt x="2" y="588"/>
                  <a:pt x="20" y="569"/>
                </a:cubicBezTo>
                <a:cubicBezTo>
                  <a:pt x="29" y="547"/>
                  <a:pt x="47" y="543"/>
                  <a:pt x="61" y="531"/>
                </a:cubicBezTo>
                <a:cubicBezTo>
                  <a:pt x="75" y="519"/>
                  <a:pt x="89" y="501"/>
                  <a:pt x="104" y="495"/>
                </a:cubicBezTo>
                <a:cubicBezTo>
                  <a:pt x="119" y="489"/>
                  <a:pt x="134" y="500"/>
                  <a:pt x="148" y="494"/>
                </a:cubicBezTo>
                <a:cubicBezTo>
                  <a:pt x="162" y="488"/>
                  <a:pt x="174" y="468"/>
                  <a:pt x="188" y="456"/>
                </a:cubicBezTo>
                <a:cubicBezTo>
                  <a:pt x="223" y="432"/>
                  <a:pt x="216" y="440"/>
                  <a:pt x="230" y="422"/>
                </a:cubicBezTo>
                <a:cubicBezTo>
                  <a:pt x="244" y="404"/>
                  <a:pt x="260" y="366"/>
                  <a:pt x="275" y="348"/>
                </a:cubicBezTo>
                <a:cubicBezTo>
                  <a:pt x="290" y="330"/>
                  <a:pt x="306" y="318"/>
                  <a:pt x="319" y="312"/>
                </a:cubicBezTo>
                <a:cubicBezTo>
                  <a:pt x="332" y="306"/>
                  <a:pt x="342" y="305"/>
                  <a:pt x="355" y="311"/>
                </a:cubicBezTo>
                <a:cubicBezTo>
                  <a:pt x="368" y="317"/>
                  <a:pt x="383" y="336"/>
                  <a:pt x="397" y="348"/>
                </a:cubicBezTo>
                <a:cubicBezTo>
                  <a:pt x="411" y="360"/>
                  <a:pt x="426" y="381"/>
                  <a:pt x="440" y="381"/>
                </a:cubicBezTo>
                <a:cubicBezTo>
                  <a:pt x="454" y="381"/>
                  <a:pt x="465" y="359"/>
                  <a:pt x="479" y="347"/>
                </a:cubicBezTo>
                <a:cubicBezTo>
                  <a:pt x="493" y="335"/>
                  <a:pt x="510" y="322"/>
                  <a:pt x="524" y="309"/>
                </a:cubicBezTo>
                <a:cubicBezTo>
                  <a:pt x="538" y="296"/>
                  <a:pt x="551" y="272"/>
                  <a:pt x="565" y="272"/>
                </a:cubicBezTo>
                <a:cubicBezTo>
                  <a:pt x="579" y="272"/>
                  <a:pt x="596" y="287"/>
                  <a:pt x="610" y="311"/>
                </a:cubicBezTo>
                <a:cubicBezTo>
                  <a:pt x="624" y="335"/>
                  <a:pt x="635" y="371"/>
                  <a:pt x="649" y="419"/>
                </a:cubicBezTo>
                <a:cubicBezTo>
                  <a:pt x="663" y="467"/>
                  <a:pt x="680" y="533"/>
                  <a:pt x="695" y="599"/>
                </a:cubicBezTo>
                <a:cubicBezTo>
                  <a:pt x="710" y="665"/>
                  <a:pt x="723" y="773"/>
                  <a:pt x="737" y="815"/>
                </a:cubicBezTo>
                <a:cubicBezTo>
                  <a:pt x="751" y="857"/>
                  <a:pt x="765" y="858"/>
                  <a:pt x="778" y="852"/>
                </a:cubicBezTo>
                <a:cubicBezTo>
                  <a:pt x="791" y="846"/>
                  <a:pt x="803" y="798"/>
                  <a:pt x="817" y="779"/>
                </a:cubicBezTo>
                <a:cubicBezTo>
                  <a:pt x="831" y="760"/>
                  <a:pt x="848" y="693"/>
                  <a:pt x="862" y="741"/>
                </a:cubicBezTo>
                <a:cubicBezTo>
                  <a:pt x="876" y="789"/>
                  <a:pt x="890" y="970"/>
                  <a:pt x="904" y="1067"/>
                </a:cubicBezTo>
                <a:cubicBezTo>
                  <a:pt x="918" y="1164"/>
                  <a:pt x="932" y="1321"/>
                  <a:pt x="946" y="1322"/>
                </a:cubicBezTo>
                <a:cubicBezTo>
                  <a:pt x="960" y="1323"/>
                  <a:pt x="973" y="1131"/>
                  <a:pt x="986" y="1070"/>
                </a:cubicBezTo>
                <a:cubicBezTo>
                  <a:pt x="999" y="1009"/>
                  <a:pt x="1010" y="963"/>
                  <a:pt x="1024" y="957"/>
                </a:cubicBezTo>
                <a:cubicBezTo>
                  <a:pt x="1038" y="951"/>
                  <a:pt x="1057" y="1013"/>
                  <a:pt x="1072" y="1031"/>
                </a:cubicBezTo>
                <a:cubicBezTo>
                  <a:pt x="1087" y="1049"/>
                  <a:pt x="1099" y="1070"/>
                  <a:pt x="1112" y="1064"/>
                </a:cubicBezTo>
                <a:cubicBezTo>
                  <a:pt x="1125" y="1058"/>
                  <a:pt x="1140" y="1031"/>
                  <a:pt x="1153" y="996"/>
                </a:cubicBezTo>
                <a:cubicBezTo>
                  <a:pt x="1166" y="961"/>
                  <a:pt x="1179" y="902"/>
                  <a:pt x="1193" y="854"/>
                </a:cubicBezTo>
                <a:cubicBezTo>
                  <a:pt x="1207" y="806"/>
                  <a:pt x="1221" y="755"/>
                  <a:pt x="1235" y="707"/>
                </a:cubicBezTo>
                <a:cubicBezTo>
                  <a:pt x="1249" y="659"/>
                  <a:pt x="1265" y="576"/>
                  <a:pt x="1280" y="564"/>
                </a:cubicBezTo>
                <a:cubicBezTo>
                  <a:pt x="1295" y="552"/>
                  <a:pt x="1310" y="618"/>
                  <a:pt x="1324" y="636"/>
                </a:cubicBezTo>
                <a:cubicBezTo>
                  <a:pt x="1338" y="654"/>
                  <a:pt x="1351" y="680"/>
                  <a:pt x="1364" y="674"/>
                </a:cubicBezTo>
                <a:cubicBezTo>
                  <a:pt x="1377" y="668"/>
                  <a:pt x="1391" y="618"/>
                  <a:pt x="1405" y="600"/>
                </a:cubicBezTo>
                <a:cubicBezTo>
                  <a:pt x="1419" y="582"/>
                  <a:pt x="1433" y="548"/>
                  <a:pt x="1447" y="566"/>
                </a:cubicBezTo>
                <a:cubicBezTo>
                  <a:pt x="1461" y="584"/>
                  <a:pt x="1475" y="624"/>
                  <a:pt x="1489" y="707"/>
                </a:cubicBezTo>
                <a:cubicBezTo>
                  <a:pt x="1503" y="790"/>
                  <a:pt x="1516" y="972"/>
                  <a:pt x="1531" y="1067"/>
                </a:cubicBezTo>
                <a:cubicBezTo>
                  <a:pt x="1546" y="1162"/>
                  <a:pt x="1565" y="1433"/>
                  <a:pt x="1579" y="1278"/>
                </a:cubicBezTo>
                <a:cubicBezTo>
                  <a:pt x="1593" y="1123"/>
                  <a:pt x="1603" y="260"/>
                  <a:pt x="1616" y="135"/>
                </a:cubicBezTo>
                <a:cubicBezTo>
                  <a:pt x="1629" y="10"/>
                  <a:pt x="1646" y="361"/>
                  <a:pt x="1660" y="528"/>
                </a:cubicBezTo>
                <a:cubicBezTo>
                  <a:pt x="1674" y="695"/>
                  <a:pt x="1687" y="1146"/>
                  <a:pt x="1700" y="1140"/>
                </a:cubicBezTo>
                <a:cubicBezTo>
                  <a:pt x="1713" y="1134"/>
                  <a:pt x="1727" y="528"/>
                  <a:pt x="1741" y="492"/>
                </a:cubicBezTo>
                <a:cubicBezTo>
                  <a:pt x="1755" y="456"/>
                  <a:pt x="1771" y="900"/>
                  <a:pt x="1786" y="924"/>
                </a:cubicBezTo>
                <a:cubicBezTo>
                  <a:pt x="1801" y="948"/>
                  <a:pt x="1815" y="710"/>
                  <a:pt x="1828" y="638"/>
                </a:cubicBezTo>
                <a:cubicBezTo>
                  <a:pt x="1841" y="566"/>
                  <a:pt x="1853" y="553"/>
                  <a:pt x="1867" y="492"/>
                </a:cubicBezTo>
                <a:cubicBezTo>
                  <a:pt x="1881" y="431"/>
                  <a:pt x="1895" y="278"/>
                  <a:pt x="1910" y="272"/>
                </a:cubicBezTo>
                <a:cubicBezTo>
                  <a:pt x="1925" y="266"/>
                  <a:pt x="1941" y="410"/>
                  <a:pt x="1955" y="459"/>
                </a:cubicBezTo>
                <a:cubicBezTo>
                  <a:pt x="1969" y="508"/>
                  <a:pt x="1982" y="540"/>
                  <a:pt x="1996" y="564"/>
                </a:cubicBezTo>
                <a:cubicBezTo>
                  <a:pt x="2010" y="588"/>
                  <a:pt x="2023" y="560"/>
                  <a:pt x="2038" y="602"/>
                </a:cubicBezTo>
                <a:cubicBezTo>
                  <a:pt x="2053" y="644"/>
                  <a:pt x="2070" y="776"/>
                  <a:pt x="2084" y="818"/>
                </a:cubicBezTo>
                <a:cubicBezTo>
                  <a:pt x="2098" y="860"/>
                  <a:pt x="2107" y="863"/>
                  <a:pt x="2120" y="857"/>
                </a:cubicBezTo>
                <a:cubicBezTo>
                  <a:pt x="2133" y="851"/>
                  <a:pt x="2147" y="801"/>
                  <a:pt x="2162" y="782"/>
                </a:cubicBezTo>
                <a:cubicBezTo>
                  <a:pt x="2177" y="763"/>
                  <a:pt x="2193" y="698"/>
                  <a:pt x="2207" y="746"/>
                </a:cubicBezTo>
                <a:cubicBezTo>
                  <a:pt x="2221" y="794"/>
                  <a:pt x="2231" y="974"/>
                  <a:pt x="2245" y="1070"/>
                </a:cubicBezTo>
                <a:cubicBezTo>
                  <a:pt x="2259" y="1166"/>
                  <a:pt x="2280" y="1323"/>
                  <a:pt x="2294" y="1323"/>
                </a:cubicBezTo>
                <a:cubicBezTo>
                  <a:pt x="2308" y="1323"/>
                  <a:pt x="2317" y="1128"/>
                  <a:pt x="2330" y="1068"/>
                </a:cubicBezTo>
                <a:cubicBezTo>
                  <a:pt x="2343" y="1008"/>
                  <a:pt x="2357" y="966"/>
                  <a:pt x="2371" y="960"/>
                </a:cubicBezTo>
                <a:cubicBezTo>
                  <a:pt x="2385" y="954"/>
                  <a:pt x="2399" y="1013"/>
                  <a:pt x="2413" y="1031"/>
                </a:cubicBezTo>
                <a:cubicBezTo>
                  <a:pt x="2427" y="1049"/>
                  <a:pt x="2444" y="1145"/>
                  <a:pt x="2458" y="1067"/>
                </a:cubicBezTo>
                <a:cubicBezTo>
                  <a:pt x="2472" y="989"/>
                  <a:pt x="2482" y="683"/>
                  <a:pt x="2495" y="564"/>
                </a:cubicBezTo>
                <a:cubicBezTo>
                  <a:pt x="2508" y="445"/>
                  <a:pt x="2525" y="393"/>
                  <a:pt x="2539" y="350"/>
                </a:cubicBezTo>
                <a:cubicBezTo>
                  <a:pt x="2553" y="307"/>
                  <a:pt x="2568" y="316"/>
                  <a:pt x="2582" y="309"/>
                </a:cubicBezTo>
                <a:cubicBezTo>
                  <a:pt x="2596" y="302"/>
                  <a:pt x="2609" y="302"/>
                  <a:pt x="2623" y="309"/>
                </a:cubicBezTo>
                <a:cubicBezTo>
                  <a:pt x="2637" y="316"/>
                  <a:pt x="2651" y="337"/>
                  <a:pt x="2665" y="350"/>
                </a:cubicBezTo>
                <a:cubicBezTo>
                  <a:pt x="2679" y="363"/>
                  <a:pt x="2694" y="387"/>
                  <a:pt x="2708" y="386"/>
                </a:cubicBezTo>
                <a:cubicBezTo>
                  <a:pt x="2722" y="385"/>
                  <a:pt x="2736" y="357"/>
                  <a:pt x="2750" y="345"/>
                </a:cubicBezTo>
                <a:cubicBezTo>
                  <a:pt x="2764" y="333"/>
                  <a:pt x="2778" y="326"/>
                  <a:pt x="2792" y="314"/>
                </a:cubicBezTo>
                <a:cubicBezTo>
                  <a:pt x="2806" y="302"/>
                  <a:pt x="2822" y="275"/>
                  <a:pt x="2836" y="275"/>
                </a:cubicBezTo>
                <a:cubicBezTo>
                  <a:pt x="2850" y="275"/>
                  <a:pt x="2861" y="288"/>
                  <a:pt x="2875" y="312"/>
                </a:cubicBezTo>
                <a:cubicBezTo>
                  <a:pt x="2889" y="336"/>
                  <a:pt x="2907" y="372"/>
                  <a:pt x="2921" y="420"/>
                </a:cubicBezTo>
                <a:cubicBezTo>
                  <a:pt x="2935" y="468"/>
                  <a:pt x="2947" y="534"/>
                  <a:pt x="2960" y="600"/>
                </a:cubicBezTo>
                <a:cubicBezTo>
                  <a:pt x="2973" y="666"/>
                  <a:pt x="2988" y="773"/>
                  <a:pt x="3002" y="815"/>
                </a:cubicBezTo>
                <a:cubicBezTo>
                  <a:pt x="3016" y="857"/>
                  <a:pt x="3030" y="894"/>
                  <a:pt x="3044" y="851"/>
                </a:cubicBezTo>
                <a:cubicBezTo>
                  <a:pt x="3058" y="808"/>
                  <a:pt x="3072" y="582"/>
                  <a:pt x="3086" y="558"/>
                </a:cubicBezTo>
                <a:cubicBezTo>
                  <a:pt x="3100" y="534"/>
                  <a:pt x="3116" y="623"/>
                  <a:pt x="3130" y="708"/>
                </a:cubicBezTo>
                <a:cubicBezTo>
                  <a:pt x="3144" y="793"/>
                  <a:pt x="3157" y="965"/>
                  <a:pt x="3170" y="1067"/>
                </a:cubicBezTo>
                <a:cubicBezTo>
                  <a:pt x="3183" y="1169"/>
                  <a:pt x="3197" y="1474"/>
                  <a:pt x="3211" y="1319"/>
                </a:cubicBezTo>
                <a:cubicBezTo>
                  <a:pt x="3225" y="1164"/>
                  <a:pt x="3238" y="265"/>
                  <a:pt x="3253" y="134"/>
                </a:cubicBezTo>
                <a:cubicBezTo>
                  <a:pt x="3268" y="3"/>
                  <a:pt x="3285" y="457"/>
                  <a:pt x="3299" y="530"/>
                </a:cubicBezTo>
                <a:cubicBezTo>
                  <a:pt x="3313" y="603"/>
                  <a:pt x="3327" y="541"/>
                  <a:pt x="3340" y="570"/>
                </a:cubicBezTo>
                <a:cubicBezTo>
                  <a:pt x="3353" y="599"/>
                  <a:pt x="3366" y="624"/>
                  <a:pt x="3380" y="707"/>
                </a:cubicBezTo>
                <a:cubicBezTo>
                  <a:pt x="3394" y="790"/>
                  <a:pt x="3408" y="969"/>
                  <a:pt x="3422" y="1071"/>
                </a:cubicBezTo>
                <a:cubicBezTo>
                  <a:pt x="3436" y="1173"/>
                  <a:pt x="3449" y="1319"/>
                  <a:pt x="3467" y="1322"/>
                </a:cubicBezTo>
                <a:cubicBezTo>
                  <a:pt x="3485" y="1325"/>
                  <a:pt x="3492" y="264"/>
                  <a:pt x="3505" y="132"/>
                </a:cubicBezTo>
                <a:cubicBezTo>
                  <a:pt x="3518" y="0"/>
                  <a:pt x="3534" y="501"/>
                  <a:pt x="3548" y="531"/>
                </a:cubicBezTo>
                <a:cubicBezTo>
                  <a:pt x="3562" y="561"/>
                  <a:pt x="3575" y="351"/>
                  <a:pt x="3589" y="315"/>
                </a:cubicBezTo>
                <a:cubicBezTo>
                  <a:pt x="3603" y="279"/>
                  <a:pt x="3617" y="281"/>
                  <a:pt x="3634" y="312"/>
                </a:cubicBezTo>
                <a:cubicBezTo>
                  <a:pt x="3651" y="343"/>
                  <a:pt x="3662" y="336"/>
                  <a:pt x="3676" y="348"/>
                </a:cubicBezTo>
                <a:cubicBezTo>
                  <a:pt x="3690" y="360"/>
                  <a:pt x="3704" y="384"/>
                  <a:pt x="3718" y="384"/>
                </a:cubicBezTo>
                <a:cubicBezTo>
                  <a:pt x="3732" y="384"/>
                  <a:pt x="3749" y="338"/>
                  <a:pt x="3763" y="350"/>
                </a:cubicBezTo>
                <a:cubicBezTo>
                  <a:pt x="3777" y="362"/>
                  <a:pt x="3786" y="423"/>
                  <a:pt x="3799" y="458"/>
                </a:cubicBezTo>
                <a:cubicBezTo>
                  <a:pt x="3812" y="493"/>
                  <a:pt x="3828" y="539"/>
                  <a:pt x="3842" y="563"/>
                </a:cubicBezTo>
                <a:cubicBezTo>
                  <a:pt x="3856" y="587"/>
                  <a:pt x="3870" y="561"/>
                  <a:pt x="3884" y="603"/>
                </a:cubicBezTo>
                <a:cubicBezTo>
                  <a:pt x="3898" y="645"/>
                  <a:pt x="3914" y="775"/>
                  <a:pt x="3928" y="816"/>
                </a:cubicBezTo>
                <a:cubicBezTo>
                  <a:pt x="3942" y="857"/>
                  <a:pt x="3953" y="852"/>
                  <a:pt x="3968" y="852"/>
                </a:cubicBezTo>
                <a:cubicBezTo>
                  <a:pt x="3983" y="852"/>
                  <a:pt x="4000" y="745"/>
                  <a:pt x="4012" y="744"/>
                </a:cubicBezTo>
                <a:cubicBezTo>
                  <a:pt x="4024" y="743"/>
                  <a:pt x="4040" y="975"/>
                  <a:pt x="4054" y="1071"/>
                </a:cubicBezTo>
                <a:cubicBezTo>
                  <a:pt x="4068" y="1167"/>
                  <a:pt x="4084" y="1271"/>
                  <a:pt x="4094" y="1323"/>
                </a:cubicBezTo>
                <a:cubicBezTo>
                  <a:pt x="4104" y="1375"/>
                  <a:pt x="4117" y="1345"/>
                  <a:pt x="4116" y="1381"/>
                </a:cubicBezTo>
                <a:cubicBezTo>
                  <a:pt x="4113" y="1560"/>
                  <a:pt x="4117" y="1422"/>
                  <a:pt x="4112" y="1572"/>
                </a:cubicBezTo>
                <a:cubicBezTo>
                  <a:pt x="2801" y="1578"/>
                  <a:pt x="125" y="1572"/>
                  <a:pt x="2" y="1571"/>
                </a:cubicBezTo>
                <a:close/>
              </a:path>
            </a:pathLst>
          </a:custGeom>
          <a:solidFill>
            <a:srgbClr val="ccffff">
              <a:alpha val="6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 fill="hold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 fill="hold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8000" fill="hold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 fill="hold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Частота дискретизации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ля записи аналогового сигнала и его преобразования в цифровую форму используется микрофон, подключенный к звуковой карт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чество звука зависит от количества измерений уровня звука в секунд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996600"/>
                </a:solidFill>
                <a:latin typeface="Arial"/>
              </a:rPr>
              <a:t>Количество измерений уровня звука в единицу времени называется </a:t>
            </a:r>
            <a:r>
              <a:rPr b="1" i="1" lang="ru-RU" sz="2600" spc="-1" strike="noStrike">
                <a:solidFill>
                  <a:srgbClr val="996600"/>
                </a:solidFill>
                <a:latin typeface="Arial"/>
              </a:rPr>
              <a:t>частотой дискретизац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астота дискретизации лежит в диапазоне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т 8 000 до 48 000 измерений в секунд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Глубина дискретизации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ждому дискретному временному отрезку – каждой «ступеньке» – присваивается определенный уровень громкости (</a:t>
            </a:r>
            <a:r>
              <a:rPr b="1" i="1" lang="en-US" sz="2600" spc="-1" strike="noStrike">
                <a:solidFill>
                  <a:srgbClr val="996600"/>
                </a:solidFill>
                <a:latin typeface="Arial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, для кодирования которых требуется определенный объем информации (</a:t>
            </a:r>
            <a:r>
              <a:rPr b="1" i="1" lang="en-US" sz="2600" spc="-1" strike="noStrike">
                <a:solidFill>
                  <a:srgbClr val="996600"/>
                </a:solidFill>
                <a:latin typeface="Arial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996600"/>
                </a:solidFill>
                <a:latin typeface="Arial"/>
              </a:rPr>
              <a:t>Глубина кодирования звука</a:t>
            </a:r>
            <a:r>
              <a:rPr b="0" lang="ru-RU" sz="2600" spc="-1" strike="noStrike">
                <a:solidFill>
                  <a:srgbClr val="996600"/>
                </a:solidFill>
                <a:latin typeface="Arial"/>
              </a:rPr>
              <a:t> – количество информации, необходимое для кодирования дискретных уровней громкости цифрового зву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N = 2</a:t>
            </a:r>
            <a:r>
              <a:rPr b="1" i="1" lang="en-US" sz="34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Пример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звестна глубина кодирования – 16 бит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I)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 Рассчитать количество возможных уровней громкости внутри одного измерения звука 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 формуле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 =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ходим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 =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600" spc="-1" strike="noStrike" baseline="30000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= 65 53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ждому уровню громкости присваивается одно из 65 536 значений, которое кодируется двоичными числами от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0000 0000 0000 0000 (минимальный уровень) до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111 1111 1111 1111 (максимальный уровень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Вопрос: назовите основные характеристики аналогового звука</a:t>
            </a:r>
            <a:endParaRPr b="1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7600" indent="-327600">
              <a:lnSpc>
                <a:spcPct val="90000"/>
              </a:lnSpc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3300" spc="-1" strike="noStrike" u="sng">
                <a:solidFill>
                  <a:srgbClr val="996600"/>
                </a:solidFill>
                <a:uFillTx/>
                <a:latin typeface="Arial"/>
              </a:rPr>
              <a:t>Частота</a:t>
            </a: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(количество вершин на единицу длины оси абсцисс)</a:t>
            </a: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От нее зависит высота тона звука.</a:t>
            </a: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Измеряется в 1/сек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276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90000"/>
              </a:lnSpc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3300" spc="-1" strike="noStrike" u="sng">
                <a:solidFill>
                  <a:srgbClr val="996600"/>
                </a:solidFill>
                <a:uFillTx/>
                <a:latin typeface="Arial"/>
              </a:rPr>
              <a:t>Амплитуда</a:t>
            </a: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(высота вершин на графике – координаты по оси ординат)</a:t>
            </a: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От нее зависит громкость звука</a:t>
            </a: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Измеряется в децибелах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4T12:15:17Z</dcterms:created>
  <dc:creator>Сергеев Евгений</dc:creator>
  <dc:description/>
  <dc:language>en-US</dc:language>
  <cp:lastModifiedBy>Сергеев Евгений</cp:lastModifiedBy>
  <dcterms:modified xsi:type="dcterms:W3CDTF">2010-10-08T12:17:10Z</dcterms:modified>
  <cp:revision>22</cp:revision>
  <dc:subject/>
  <dc:title>Слайд 1</dc:title>
</cp:coreProperties>
</file>