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1155-1771-4570-ACD0-264FA9944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* 44 100 * 16 = 84 672 000 бит = 10 584байт ≈ 10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60 = 1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1 * 1 000 = 11 000 Гц (11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20 * 11 000 * 16 = 42 240 000 бит = 5 280 000байт ≈ 5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7 * 60 = 42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2 * 1 000 = 22 000 Гц (2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420 * 22 000 * 8 = 73 920 000 бит = 9 240 000 байт ≈ 8,8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 * 60 = 180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32 * 1 000 = 32 000 Гц (32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180 * 32 000 * 8 = 92 160 000 бит = 11 520 000 байт ≈ 11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4 * 1 000 = 24 000 Гц (24 0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1 * 1 * 24 000 * 16 = 384 000 бит = 48 000 байт ≈ 47 к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44,1 * 1 000 = 44 100 Гц (44 100 1/се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2 * 20 * 44 100 * 20 = 35 280 000 бит = 4 410 000 байт ≈ 4,2 М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Определите количество уровней звукового сигнала при использовании 8-битных звуковых кар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объем файла с 10 минутной речью записанного с частотой дискретизации 11025 Гц и разрядностью кода 4 бита на 1 измер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речь принято записывать в режиме моно (1 канал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0 * 60 = 60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1 025 Гц (11 025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 * 600 * 11 025 * 4 = 26 460 000 бит = 3 307 500 байт ≈ 3,15 Мб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 = 3,154277 Мбай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одсчитать время звучания звукового файла объемом 3.5 Мбайт, содержащего стереозапись с частотой дискретизации 44 100 Гц и разрядностью кода 16 бит на 1 измер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= 20,805 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. 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4543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45,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44,1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Z=22719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Гц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0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кГц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tandar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бъем свободной памяти на диске — 5,25 Мб, разрядность звуковой платы — 16. Какова длительность звучания цифрового аудиофайла, записанного с частотой дискретизации 22,05 кГц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13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Одна минута записи цифрового аудиофайла занимает на диске 1,3 Мб, разрядность звуковой платы — 8. С какой частотой дискретизации записан звук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60 с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12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Х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59-BF4A-43F8-88BB-C6960941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C75-46C0-4E4D-8858-A5AA5C8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9A7-7F01-428B-A063-4E1E115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813-695A-41BB-A2E3-5CEDA152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CBD-E3CA-47A9-A382-96E7556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DBC-F06A-47BA-BF3A-3F9E2F2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687-0622-4B28-8898-886018F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618-4205-4D71-AE36-1DA4A10B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D1A-F238-4D21-903C-FC3A085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2A0-B1C3-47BC-9532-0E980453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631-D159-49FE-9DA6-5701F9D1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134600"/>
            <a:ext cx="264924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0F3-A4F8-41E9-BBEF-8EF4D07F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41346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4600"/>
            <a:ext cx="8228160" cy="23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9772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CF111A-8157-4359-BA32-0DED83BE58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одирование звука</a:t>
            </a:r>
            <a:endParaRPr b="1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ременная дискретизац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цифров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Частота дискретизации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количество «ступенек» на единицу длины оси абсцисс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высоту тона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900" spc="-1" strike="noStrike" u="sng">
                <a:solidFill>
                  <a:srgbClr val="996600"/>
                </a:solidFill>
                <a:uFillTx/>
                <a:latin typeface="Arial"/>
              </a:rPr>
              <a:t>Глубина дискретизации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на сколько частей может быть разбита одна «ступенька» на графике в высоту)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пределяет громкость звука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змеряется в бита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м больше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частот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луб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ем более близким к аналоговому сигналу будет приближаться цифровой звук, и тем выше будет качеств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85840" y="4125960"/>
            <a:ext cx="6700680" cy="2257200"/>
            <a:chOff x="1185840" y="4125960"/>
            <a:chExt cx="6700680" cy="2257200"/>
          </a:xfrm>
        </p:grpSpPr>
        <p:sp>
          <p:nvSpPr>
            <p:cNvPr id="131" name=""/>
            <p:cNvSpPr/>
            <p:nvPr/>
          </p:nvSpPr>
          <p:spPr>
            <a:xfrm flipH="1">
              <a:off x="1329840" y="63817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338120" y="63342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8120" y="62816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336680" y="62308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36680" y="6178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36680" y="61326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336680" y="6080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36680" y="6027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336680" y="5975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29840" y="592308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338120" y="58752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8120" y="5823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336680" y="57722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336680" y="57196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336680" y="567360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36680" y="56214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36680" y="55688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36680" y="55166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22280" y="546732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30200" y="54198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30200" y="53672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28400" y="53164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28400" y="526428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28400" y="521820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28400" y="516564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28400" y="511344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328400" y="506088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29840" y="4997520"/>
              <a:ext cx="6556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38120" y="495000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8120" y="48974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336680" y="48466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36680" y="47941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336680" y="474804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336680" y="469584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6680" y="464328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36680" y="459108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5840" y="4532400"/>
              <a:ext cx="6556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93760" y="4484520"/>
              <a:ext cx="65232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93760" y="4432320"/>
              <a:ext cx="6523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191960" y="43815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191960" y="432900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191960" y="428292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91960" y="423072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191960" y="4178160"/>
              <a:ext cx="65228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191960" y="4125960"/>
              <a:ext cx="6522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вокупная характеристика качества цифрового звука – профессиональный термин звукорежиссеров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в –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итрей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представляет собой произведение количества каналов на частоту и на глубину дискретизаци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меряется: бит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/сек = бит/се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низкое качество цифрового звука (качество телефонной связи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ин канал (мо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000 = 64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62,5 к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Качество оцифрованного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мое высокое качество цифрового звука (аудио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измерений в секунду (1/с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глубины зву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а канала (стере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рейт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2 = 1 536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≈ 1,5 Мбит/се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аудиосистемы кроме стерео поддерживают т.н.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квадрозву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4 ка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Информационный объем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ого файл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выше качество звука, тем больше требуется дискового пространства для его хранения и оперативной памяти для его об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бъем определяется как произведение глубины и частоты дискретизации на длительность воспроизведения и на количество кана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ли произведение битрейта на длительност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 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5-секундной стереозвуковой дорожки с глубиной кодирования 16 бит и частотой дискретизации 24 000 1/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4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/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канала)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 840 00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бит =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468,7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граммное обеспечение для работы со звуком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редства записи зв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Звуковые редак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лее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удиотреков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на аудио-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виде звуковых файл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udio Track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трек представляет собой формат записи звука в виде непрерывного цифрового поток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огично звуковым дорожкам на виниловых диск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 хранится без сжат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удиодорожка воспринимается компьютером, как файл с расширением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.cda (Compact Disk Audio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Он хорошо воспроизводится плеером, но его нельзя скоп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4000" y="2076480"/>
            <a:ext cx="7434360" cy="3355920"/>
          </a:xfrm>
          <a:custGeom>
            <a:avLst/>
            <a:gdLst/>
            <a:ahLst/>
            <a:rect l="l" t="t" r="r" b="b"/>
            <a:pathLst>
              <a:path w="4683" h="2114">
                <a:moveTo>
                  <a:pt x="0" y="1157"/>
                </a:moveTo>
                <a:cubicBezTo>
                  <a:pt x="54" y="989"/>
                  <a:pt x="201" y="0"/>
                  <a:pt x="322" y="158"/>
                </a:cubicBezTo>
                <a:cubicBezTo>
                  <a:pt x="473" y="183"/>
                  <a:pt x="526" y="2100"/>
                  <a:pt x="729" y="2107"/>
                </a:cubicBezTo>
                <a:cubicBezTo>
                  <a:pt x="932" y="2114"/>
                  <a:pt x="950" y="411"/>
                  <a:pt x="1076" y="418"/>
                </a:cubicBezTo>
                <a:cubicBezTo>
                  <a:pt x="1202" y="425"/>
                  <a:pt x="1185" y="1608"/>
                  <a:pt x="1271" y="1608"/>
                </a:cubicBezTo>
                <a:cubicBezTo>
                  <a:pt x="1357" y="1608"/>
                  <a:pt x="1372" y="896"/>
                  <a:pt x="1508" y="903"/>
                </a:cubicBezTo>
                <a:cubicBezTo>
                  <a:pt x="1644" y="910"/>
                  <a:pt x="1666" y="1526"/>
                  <a:pt x="1739" y="1548"/>
                </a:cubicBezTo>
                <a:cubicBezTo>
                  <a:pt x="1819" y="1571"/>
                  <a:pt x="1863" y="819"/>
                  <a:pt x="1961" y="831"/>
                </a:cubicBezTo>
                <a:cubicBezTo>
                  <a:pt x="2059" y="844"/>
                  <a:pt x="2123" y="1616"/>
                  <a:pt x="2219" y="1616"/>
                </a:cubicBezTo>
                <a:cubicBezTo>
                  <a:pt x="2315" y="1616"/>
                  <a:pt x="2413" y="480"/>
                  <a:pt x="2535" y="476"/>
                </a:cubicBezTo>
                <a:cubicBezTo>
                  <a:pt x="2657" y="471"/>
                  <a:pt x="2759" y="1915"/>
                  <a:pt x="2897" y="1914"/>
                </a:cubicBezTo>
                <a:cubicBezTo>
                  <a:pt x="3035" y="1913"/>
                  <a:pt x="3119" y="980"/>
                  <a:pt x="3231" y="976"/>
                </a:cubicBezTo>
                <a:cubicBezTo>
                  <a:pt x="3343" y="972"/>
                  <a:pt x="3346" y="1362"/>
                  <a:pt x="3413" y="1366"/>
                </a:cubicBezTo>
                <a:cubicBezTo>
                  <a:pt x="3480" y="1370"/>
                  <a:pt x="3494" y="1050"/>
                  <a:pt x="3555" y="1052"/>
                </a:cubicBezTo>
                <a:cubicBezTo>
                  <a:pt x="3616" y="1053"/>
                  <a:pt x="3640" y="1252"/>
                  <a:pt x="3685" y="1258"/>
                </a:cubicBezTo>
                <a:cubicBezTo>
                  <a:pt x="3730" y="1265"/>
                  <a:pt x="3807" y="1081"/>
                  <a:pt x="3867" y="1081"/>
                </a:cubicBezTo>
                <a:cubicBezTo>
                  <a:pt x="3927" y="1081"/>
                  <a:pt x="3945" y="1241"/>
                  <a:pt x="4048" y="1258"/>
                </a:cubicBezTo>
                <a:cubicBezTo>
                  <a:pt x="4151" y="1276"/>
                  <a:pt x="4305" y="1045"/>
                  <a:pt x="4411" y="1045"/>
                </a:cubicBezTo>
                <a:cubicBezTo>
                  <a:pt x="4517" y="1045"/>
                  <a:pt x="4626" y="1214"/>
                  <a:pt x="4683" y="12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921120"/>
            <a:ext cx="7777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46080" y="1700280"/>
            <a:ext cx="1800" cy="44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48000" y="2715840"/>
            <a:ext cx="180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067280" y="2715840"/>
            <a:ext cx="144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2887560"/>
            <a:ext cx="719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492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4760" y="3036960"/>
            <a:ext cx="6069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832120"/>
            <a:ext cx="360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8360" y="2832120"/>
            <a:ext cx="1440" cy="1071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Непрерывная звуковая волна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40920" y="1185840"/>
            <a:ext cx="3600360" cy="91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57" y="2667"/>
                </a:moveTo>
                <a:lnTo>
                  <a:pt x="24638" y="2667"/>
                </a:lnTo>
                <a:lnTo>
                  <a:pt x="24638" y="23415"/>
                </a:lnTo>
                <a:lnTo>
                  <a:pt x="13538" y="3876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вол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братная частоте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13080" y="5265720"/>
            <a:ext cx="4322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381" y="3793"/>
                </a:moveTo>
                <a:lnTo>
                  <a:pt x="-2214" y="3793"/>
                </a:lnTo>
                <a:lnTo>
                  <a:pt x="-2214" y="-18018"/>
                </a:lnTo>
                <a:lnTo>
                  <a:pt x="766" y="-6200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на больше, тем звук гром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Хранение цифрового звука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Звуковые файлы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форматы звуковых фай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 (wav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ma (Windows Media Aud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 (mid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них тольк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ранит несжатый звук, все остальные используют сжат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Сжатие звуковой информ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сохранении звука в форматах со сжатием происходит отбрасывание не воспринимаемых человеческим ухом частот с малой амплиту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жатие до десятков р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ря информации, что может привести к ухудшению качества зв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бота со сжатым звуко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работе со сжатым звуком файл сначала распаковывается и только потом поступает на обработку плеером или редакто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распаковки/сжатия аудио применяются специальные программы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удиокоде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o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/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De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1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вуковая плата производит кодирование аналогового звукового сигнала. Какое количество информации необходимо для кодирования каждого из 65 536 возможных уровней громкости сигна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400" spc="-1" strike="noStrike" baseline="30000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= 65 53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 = 1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2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информационный объем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0-секундной звуковой дорожки п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51"/>
              </a:spcBef>
              <a:buNone/>
              <a:tabLst>
                <a:tab algn="l" pos="0"/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8 000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640 000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78,1 (к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2800" indent="-44136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012680"/>
                <a:tab algn="l" pos="1927080"/>
                <a:tab algn="l" pos="2841480"/>
                <a:tab algn="l" pos="3755880"/>
                <a:tab algn="l" pos="4670280"/>
                <a:tab algn="l" pos="5584680"/>
                <a:tab algn="l" pos="6499080"/>
                <a:tab algn="l" pos="7413480"/>
                <a:tab algn="l" pos="8327880"/>
                <a:tab algn="l" pos="9242280"/>
                <a:tab algn="l" pos="1015668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48 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10 = 15 360 000 = 1,83 (М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ить длительность звукового файла, который может уместиться на дискет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5’’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сть, что для хранения данных на дискете доступно 2 847 секторов, объемом 512 байт кажд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о, 8 бит, 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0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eriod"/>
              <a:tabLst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ерео, 16 бит, 48 000 изме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*Задание 3. Решени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916280"/>
          <a:ext cx="8291520" cy="4065480"/>
        </p:xfrm>
        <a:graphic>
          <a:graphicData uri="http://schemas.openxmlformats.org/drawingml/2006/table">
            <a:tbl>
              <a:tblPr/>
              <a:tblGrid>
                <a:gridCol w="585720"/>
                <a:gridCol w="1069920"/>
                <a:gridCol w="398520"/>
                <a:gridCol w="1197000"/>
                <a:gridCol w="276120"/>
                <a:gridCol w="1379520"/>
                <a:gridCol w="1800360"/>
                <a:gridCol w="1584360"/>
              </a:tblGrid>
              <a:tr h="760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то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се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местимость дискеты, 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0680"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47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12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 = 11 661 3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8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лов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ре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т-ть,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36 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4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одна минута цифрового стереозвука с частотой 44.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6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* 44 1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84 672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0 584байт ≈ 10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5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две минуты цифрового стереозвука с частотой 11 кГц и разрядностью 16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60 = 1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000 Гц (11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20 * 11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2 24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5 280 000байт ≈ 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6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семь минут цифрового монозвука с частотой 2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7 * 60 = 42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2 000 Гц (2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420 * 2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73 92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 240 000 байт ≈ 8,8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dur="indefinite" fill="hold">
                      <p:stCondLst>
                        <p:cond delay="indefinite"/>
                      </p:stCondLst>
                      <p:childTnLst>
                        <p:par>
                          <p:cTn id="2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новные характеристики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а волны и част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1" i="1" lang="el-G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больше длина волны, тем меньше часто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ется в количестве колебаний в секунду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сек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мплитуда колеб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ует громкости звук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ромкость измеряется в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децибелах (д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Задание 7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считать, сколько места будет занимать три минуты цифрового стереозвука с частотой 32 кГц и разрядностью 8 би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24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* 60 = 180 с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2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2 000 Гц (32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8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180 * 32 000 * 8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92 1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11 520 000 байт ≈ 11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8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ой объем данных имеет моноаудиофайл, длительность звучания которого 1 секунда, при среднем качестве звука (16 бит, 24 кГц)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4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4 000 Гц (24 0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1 * 24 000 * 16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84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8 000 байт ≈ 47 к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9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ссчитайте объем стереоаудиофайла длительностью 20 секунд при 20-битном кодировании и частоте дискредитации 44.1 кГ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,1 * 1 00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0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20 * 44 100 * 20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5 28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4 410 000 байт ≈ 4,2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0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100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количество уровней звукового сигнала при использо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битных звуковы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Количество возможных уровней громкости сиг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DejaVu Sans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2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DejaVu Sans"/>
              </a:rPr>
              <a:t>Ответ: а. 256 уровн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1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объем файла с 10 минутной речью записанного с частотой дискретиз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 025 Гц и разрядностью кода 4 бита на 1 изм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176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чь принято записывать в режиме моно (1 кана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 * 60 = 60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 025 Гц (11 025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4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600 * 11 025 * 4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26 460 000 бит =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= 3 307 500 байт ≈ 3,15 М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dur="indefinite" fill="hold">
                      <p:stCondLst>
                        <p:cond delay="indefinite"/>
                      </p:stCondLst>
                      <p:childTnLst>
                        <p:par>
                          <p:cTn id="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37"/>
              </a:spcBef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итать время звучания звукового файла объем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5 Мбайт, содержащего стереозапись с частотой дискретизации 44 100 Гц и разрядностью кода 16 бит на 1 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498920" y="1484280"/>
            <a:ext cx="450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44 100 Гц (44 100 1/се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 * Х * 44 100 * 16 = 3,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411 200*Х = 29 360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575"/>
              </a:spcAft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20,8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Задание 13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168200"/>
            <a:ext cx="40338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поряжении пользователя имеется память объемом 2,6 Мб. Необходимо записать цифровой аудиофайл с длительностью звучания 1 минута. Какой должна быть частота дискретизации и разряд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98560" y="1160640"/>
            <a:ext cx="464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8 или 1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2,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Мб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 би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8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3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Y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36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506,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501336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4543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45,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44,1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=22719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ц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≈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Гц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dur="indefinite" fill="hold">
                      <p:stCondLst>
                        <p:cond delay="indefinite"/>
                      </p:stCondLst>
                      <p:childTnLst>
                        <p:par>
                          <p:cTn id="3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dur="indefinite" fill="hold">
                      <p:stCondLst>
                        <p:cond delay="indefinite"/>
                      </p:stCondLst>
                      <p:childTnLst>
                        <p:par>
                          <p:cTn id="3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14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свободной памяти на ди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,25 Мб, разрядность звуковой платы 16. Какова длительность звучания цифрового аудиофайла, записанного с частотой дискрет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2,05 кГ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2200" y="1484280"/>
            <a:ext cx="4500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неизвестно, принимаем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22,05 * 1 000 = 22 500 Гц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16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5,25 Мб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44 040 192 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 * Х * 22500 * 16 = 5,25 (Мб) </a:t>
            </a:r>
            <a:br>
              <a:rPr sz="2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360 000*Х = 44 040 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= 122,3 (с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Задание 12</a:t>
            </a:r>
            <a:endParaRPr b="1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на минута записи цифрового аудиофайла занимает на диске 1,3 Мб, разрядность звуковой платы 8. С какой частотой дискретизации записан зву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62200" y="1483920"/>
            <a:ext cx="453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исло каналов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. Пусть Х=1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 Длительность звучания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 се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Частота дискретизации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азрядность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б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Информационный объем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6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*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1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3 (Мб) </a:t>
            </a:r>
            <a:br>
              <a:rPr sz="2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480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9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1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DejaVu Sans"/>
              </a:rPr>
              <a:t>(би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 719 (бит/сек)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22,05 кБит/се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t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ромкость звук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275000"/>
        </p:xfrm>
        <a:graphic>
          <a:graphicData uri="http://schemas.openxmlformats.org/drawingml/2006/table">
            <a:tbl>
              <a:tblPr/>
              <a:tblGrid>
                <a:gridCol w="6130800"/>
                <a:gridCol w="2098800"/>
              </a:tblGrid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омк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жний предел чувствительности человеческого ух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рох листье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гов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док автомобил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ый двигат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69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вой поро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д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6832" t="17537" r="40045" b="48029"/>
          <a:stretch/>
        </p:blipFill>
        <p:spPr>
          <a:xfrm>
            <a:off x="1190520" y="4005360"/>
            <a:ext cx="6912000" cy="251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Временная дискретизация звука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3480" y="134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разбиения непрерывной звуковой волны на отдельные (дискретные) временные участки, для которых может быть установлены различные уровни громк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5240" y="6370560"/>
            <a:ext cx="676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3552840"/>
            <a:ext cx="1440" cy="281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876840"/>
            <a:ext cx="6535800" cy="2504880"/>
          </a:xfrm>
          <a:custGeom>
            <a:avLst/>
            <a:gdLst/>
            <a:ahLst/>
            <a:rect l="l" t="t" r="r" b="b"/>
            <a:pathLst>
              <a:path w="4117" h="1578">
                <a:moveTo>
                  <a:pt x="2" y="1571"/>
                </a:moveTo>
                <a:cubicBezTo>
                  <a:pt x="0" y="607"/>
                  <a:pt x="4" y="868"/>
                  <a:pt x="1" y="607"/>
                </a:cubicBezTo>
                <a:cubicBezTo>
                  <a:pt x="1" y="593"/>
                  <a:pt x="2" y="588"/>
                  <a:pt x="20" y="569"/>
                </a:cubicBezTo>
                <a:cubicBezTo>
                  <a:pt x="29" y="547"/>
                  <a:pt x="47" y="543"/>
                  <a:pt x="61" y="531"/>
                </a:cubicBezTo>
                <a:cubicBezTo>
                  <a:pt x="75" y="519"/>
                  <a:pt x="89" y="501"/>
                  <a:pt x="104" y="495"/>
                </a:cubicBezTo>
                <a:cubicBezTo>
                  <a:pt x="119" y="489"/>
                  <a:pt x="134" y="500"/>
                  <a:pt x="148" y="494"/>
                </a:cubicBezTo>
                <a:cubicBezTo>
                  <a:pt x="162" y="488"/>
                  <a:pt x="174" y="468"/>
                  <a:pt x="188" y="456"/>
                </a:cubicBezTo>
                <a:cubicBezTo>
                  <a:pt x="223" y="432"/>
                  <a:pt x="216" y="440"/>
                  <a:pt x="230" y="422"/>
                </a:cubicBezTo>
                <a:cubicBezTo>
                  <a:pt x="244" y="404"/>
                  <a:pt x="260" y="366"/>
                  <a:pt x="275" y="348"/>
                </a:cubicBezTo>
                <a:cubicBezTo>
                  <a:pt x="290" y="330"/>
                  <a:pt x="306" y="318"/>
                  <a:pt x="319" y="312"/>
                </a:cubicBezTo>
                <a:cubicBezTo>
                  <a:pt x="332" y="306"/>
                  <a:pt x="342" y="305"/>
                  <a:pt x="355" y="311"/>
                </a:cubicBezTo>
                <a:cubicBezTo>
                  <a:pt x="368" y="317"/>
                  <a:pt x="383" y="336"/>
                  <a:pt x="397" y="348"/>
                </a:cubicBezTo>
                <a:cubicBezTo>
                  <a:pt x="411" y="360"/>
                  <a:pt x="426" y="381"/>
                  <a:pt x="440" y="381"/>
                </a:cubicBezTo>
                <a:cubicBezTo>
                  <a:pt x="454" y="381"/>
                  <a:pt x="465" y="359"/>
                  <a:pt x="479" y="347"/>
                </a:cubicBezTo>
                <a:cubicBezTo>
                  <a:pt x="493" y="335"/>
                  <a:pt x="510" y="322"/>
                  <a:pt x="524" y="309"/>
                </a:cubicBezTo>
                <a:cubicBezTo>
                  <a:pt x="538" y="296"/>
                  <a:pt x="551" y="272"/>
                  <a:pt x="565" y="272"/>
                </a:cubicBezTo>
                <a:cubicBezTo>
                  <a:pt x="579" y="272"/>
                  <a:pt x="596" y="287"/>
                  <a:pt x="610" y="311"/>
                </a:cubicBezTo>
                <a:cubicBezTo>
                  <a:pt x="624" y="335"/>
                  <a:pt x="635" y="371"/>
                  <a:pt x="649" y="419"/>
                </a:cubicBezTo>
                <a:cubicBezTo>
                  <a:pt x="663" y="467"/>
                  <a:pt x="680" y="533"/>
                  <a:pt x="695" y="599"/>
                </a:cubicBezTo>
                <a:cubicBezTo>
                  <a:pt x="710" y="665"/>
                  <a:pt x="723" y="773"/>
                  <a:pt x="737" y="815"/>
                </a:cubicBezTo>
                <a:cubicBezTo>
                  <a:pt x="751" y="857"/>
                  <a:pt x="765" y="858"/>
                  <a:pt x="778" y="852"/>
                </a:cubicBezTo>
                <a:cubicBezTo>
                  <a:pt x="791" y="846"/>
                  <a:pt x="803" y="798"/>
                  <a:pt x="817" y="779"/>
                </a:cubicBezTo>
                <a:cubicBezTo>
                  <a:pt x="831" y="760"/>
                  <a:pt x="848" y="693"/>
                  <a:pt x="862" y="741"/>
                </a:cubicBezTo>
                <a:cubicBezTo>
                  <a:pt x="876" y="789"/>
                  <a:pt x="890" y="970"/>
                  <a:pt x="904" y="1067"/>
                </a:cubicBezTo>
                <a:cubicBezTo>
                  <a:pt x="918" y="1164"/>
                  <a:pt x="932" y="1321"/>
                  <a:pt x="946" y="1322"/>
                </a:cubicBezTo>
                <a:cubicBezTo>
                  <a:pt x="960" y="1323"/>
                  <a:pt x="973" y="1131"/>
                  <a:pt x="986" y="1070"/>
                </a:cubicBezTo>
                <a:cubicBezTo>
                  <a:pt x="999" y="1009"/>
                  <a:pt x="1010" y="963"/>
                  <a:pt x="1024" y="957"/>
                </a:cubicBezTo>
                <a:cubicBezTo>
                  <a:pt x="1038" y="951"/>
                  <a:pt x="1057" y="1013"/>
                  <a:pt x="1072" y="1031"/>
                </a:cubicBezTo>
                <a:cubicBezTo>
                  <a:pt x="1087" y="1049"/>
                  <a:pt x="1099" y="1070"/>
                  <a:pt x="1112" y="1064"/>
                </a:cubicBezTo>
                <a:cubicBezTo>
                  <a:pt x="1125" y="1058"/>
                  <a:pt x="1140" y="1031"/>
                  <a:pt x="1153" y="996"/>
                </a:cubicBezTo>
                <a:cubicBezTo>
                  <a:pt x="1166" y="961"/>
                  <a:pt x="1179" y="902"/>
                  <a:pt x="1193" y="854"/>
                </a:cubicBezTo>
                <a:cubicBezTo>
                  <a:pt x="1207" y="806"/>
                  <a:pt x="1221" y="755"/>
                  <a:pt x="1235" y="707"/>
                </a:cubicBezTo>
                <a:cubicBezTo>
                  <a:pt x="1249" y="659"/>
                  <a:pt x="1265" y="576"/>
                  <a:pt x="1280" y="564"/>
                </a:cubicBezTo>
                <a:cubicBezTo>
                  <a:pt x="1295" y="552"/>
                  <a:pt x="1310" y="618"/>
                  <a:pt x="1324" y="636"/>
                </a:cubicBezTo>
                <a:cubicBezTo>
                  <a:pt x="1338" y="654"/>
                  <a:pt x="1351" y="680"/>
                  <a:pt x="1364" y="674"/>
                </a:cubicBezTo>
                <a:cubicBezTo>
                  <a:pt x="1377" y="668"/>
                  <a:pt x="1391" y="618"/>
                  <a:pt x="1405" y="600"/>
                </a:cubicBezTo>
                <a:cubicBezTo>
                  <a:pt x="1419" y="582"/>
                  <a:pt x="1433" y="548"/>
                  <a:pt x="1447" y="566"/>
                </a:cubicBezTo>
                <a:cubicBezTo>
                  <a:pt x="1461" y="584"/>
                  <a:pt x="1475" y="624"/>
                  <a:pt x="1489" y="707"/>
                </a:cubicBezTo>
                <a:cubicBezTo>
                  <a:pt x="1503" y="790"/>
                  <a:pt x="1516" y="972"/>
                  <a:pt x="1531" y="1067"/>
                </a:cubicBezTo>
                <a:cubicBezTo>
                  <a:pt x="1546" y="1162"/>
                  <a:pt x="1565" y="1433"/>
                  <a:pt x="1579" y="1278"/>
                </a:cubicBezTo>
                <a:cubicBezTo>
                  <a:pt x="1593" y="1123"/>
                  <a:pt x="1603" y="260"/>
                  <a:pt x="1616" y="135"/>
                </a:cubicBezTo>
                <a:cubicBezTo>
                  <a:pt x="1629" y="10"/>
                  <a:pt x="1646" y="361"/>
                  <a:pt x="1660" y="528"/>
                </a:cubicBezTo>
                <a:cubicBezTo>
                  <a:pt x="1674" y="695"/>
                  <a:pt x="1687" y="1146"/>
                  <a:pt x="1700" y="1140"/>
                </a:cubicBezTo>
                <a:cubicBezTo>
                  <a:pt x="1713" y="1134"/>
                  <a:pt x="1727" y="528"/>
                  <a:pt x="1741" y="492"/>
                </a:cubicBezTo>
                <a:cubicBezTo>
                  <a:pt x="1755" y="456"/>
                  <a:pt x="1771" y="900"/>
                  <a:pt x="1786" y="924"/>
                </a:cubicBezTo>
                <a:cubicBezTo>
                  <a:pt x="1801" y="948"/>
                  <a:pt x="1815" y="710"/>
                  <a:pt x="1828" y="638"/>
                </a:cubicBezTo>
                <a:cubicBezTo>
                  <a:pt x="1841" y="566"/>
                  <a:pt x="1853" y="553"/>
                  <a:pt x="1867" y="492"/>
                </a:cubicBezTo>
                <a:cubicBezTo>
                  <a:pt x="1881" y="431"/>
                  <a:pt x="1895" y="278"/>
                  <a:pt x="1910" y="272"/>
                </a:cubicBezTo>
                <a:cubicBezTo>
                  <a:pt x="1925" y="266"/>
                  <a:pt x="1941" y="410"/>
                  <a:pt x="1955" y="459"/>
                </a:cubicBezTo>
                <a:cubicBezTo>
                  <a:pt x="1969" y="508"/>
                  <a:pt x="1982" y="540"/>
                  <a:pt x="1996" y="564"/>
                </a:cubicBezTo>
                <a:cubicBezTo>
                  <a:pt x="2010" y="588"/>
                  <a:pt x="2023" y="560"/>
                  <a:pt x="2038" y="602"/>
                </a:cubicBezTo>
                <a:cubicBezTo>
                  <a:pt x="2053" y="644"/>
                  <a:pt x="2070" y="776"/>
                  <a:pt x="2084" y="818"/>
                </a:cubicBezTo>
                <a:cubicBezTo>
                  <a:pt x="2098" y="860"/>
                  <a:pt x="2107" y="863"/>
                  <a:pt x="2120" y="857"/>
                </a:cubicBezTo>
                <a:cubicBezTo>
                  <a:pt x="2133" y="851"/>
                  <a:pt x="2147" y="801"/>
                  <a:pt x="2162" y="782"/>
                </a:cubicBezTo>
                <a:cubicBezTo>
                  <a:pt x="2177" y="763"/>
                  <a:pt x="2193" y="698"/>
                  <a:pt x="2207" y="746"/>
                </a:cubicBezTo>
                <a:cubicBezTo>
                  <a:pt x="2221" y="794"/>
                  <a:pt x="2231" y="974"/>
                  <a:pt x="2245" y="1070"/>
                </a:cubicBezTo>
                <a:cubicBezTo>
                  <a:pt x="2259" y="1166"/>
                  <a:pt x="2280" y="1323"/>
                  <a:pt x="2294" y="1323"/>
                </a:cubicBezTo>
                <a:cubicBezTo>
                  <a:pt x="2308" y="1323"/>
                  <a:pt x="2317" y="1128"/>
                  <a:pt x="2330" y="1068"/>
                </a:cubicBezTo>
                <a:cubicBezTo>
                  <a:pt x="2343" y="1008"/>
                  <a:pt x="2357" y="966"/>
                  <a:pt x="2371" y="960"/>
                </a:cubicBezTo>
                <a:cubicBezTo>
                  <a:pt x="2385" y="954"/>
                  <a:pt x="2399" y="1013"/>
                  <a:pt x="2413" y="1031"/>
                </a:cubicBezTo>
                <a:cubicBezTo>
                  <a:pt x="2427" y="1049"/>
                  <a:pt x="2444" y="1145"/>
                  <a:pt x="2458" y="1067"/>
                </a:cubicBezTo>
                <a:cubicBezTo>
                  <a:pt x="2472" y="989"/>
                  <a:pt x="2482" y="683"/>
                  <a:pt x="2495" y="564"/>
                </a:cubicBezTo>
                <a:cubicBezTo>
                  <a:pt x="2508" y="445"/>
                  <a:pt x="2525" y="393"/>
                  <a:pt x="2539" y="350"/>
                </a:cubicBezTo>
                <a:cubicBezTo>
                  <a:pt x="2553" y="307"/>
                  <a:pt x="2568" y="316"/>
                  <a:pt x="2582" y="309"/>
                </a:cubicBezTo>
                <a:cubicBezTo>
                  <a:pt x="2596" y="302"/>
                  <a:pt x="2609" y="302"/>
                  <a:pt x="2623" y="309"/>
                </a:cubicBezTo>
                <a:cubicBezTo>
                  <a:pt x="2637" y="316"/>
                  <a:pt x="2651" y="337"/>
                  <a:pt x="2665" y="350"/>
                </a:cubicBezTo>
                <a:cubicBezTo>
                  <a:pt x="2679" y="363"/>
                  <a:pt x="2694" y="387"/>
                  <a:pt x="2708" y="386"/>
                </a:cubicBezTo>
                <a:cubicBezTo>
                  <a:pt x="2722" y="385"/>
                  <a:pt x="2736" y="357"/>
                  <a:pt x="2750" y="345"/>
                </a:cubicBezTo>
                <a:cubicBezTo>
                  <a:pt x="2764" y="333"/>
                  <a:pt x="2778" y="326"/>
                  <a:pt x="2792" y="314"/>
                </a:cubicBezTo>
                <a:cubicBezTo>
                  <a:pt x="2806" y="302"/>
                  <a:pt x="2822" y="275"/>
                  <a:pt x="2836" y="275"/>
                </a:cubicBezTo>
                <a:cubicBezTo>
                  <a:pt x="2850" y="275"/>
                  <a:pt x="2861" y="288"/>
                  <a:pt x="2875" y="312"/>
                </a:cubicBezTo>
                <a:cubicBezTo>
                  <a:pt x="2889" y="336"/>
                  <a:pt x="2907" y="372"/>
                  <a:pt x="2921" y="420"/>
                </a:cubicBezTo>
                <a:cubicBezTo>
                  <a:pt x="2935" y="468"/>
                  <a:pt x="2947" y="534"/>
                  <a:pt x="2960" y="600"/>
                </a:cubicBezTo>
                <a:cubicBezTo>
                  <a:pt x="2973" y="666"/>
                  <a:pt x="2988" y="773"/>
                  <a:pt x="3002" y="815"/>
                </a:cubicBezTo>
                <a:cubicBezTo>
                  <a:pt x="3016" y="857"/>
                  <a:pt x="3030" y="894"/>
                  <a:pt x="3044" y="851"/>
                </a:cubicBezTo>
                <a:cubicBezTo>
                  <a:pt x="3058" y="808"/>
                  <a:pt x="3072" y="582"/>
                  <a:pt x="3086" y="558"/>
                </a:cubicBezTo>
                <a:cubicBezTo>
                  <a:pt x="3100" y="534"/>
                  <a:pt x="3116" y="623"/>
                  <a:pt x="3130" y="708"/>
                </a:cubicBezTo>
                <a:cubicBezTo>
                  <a:pt x="3144" y="793"/>
                  <a:pt x="3157" y="965"/>
                  <a:pt x="3170" y="1067"/>
                </a:cubicBezTo>
                <a:cubicBezTo>
                  <a:pt x="3183" y="1169"/>
                  <a:pt x="3197" y="1474"/>
                  <a:pt x="3211" y="1319"/>
                </a:cubicBezTo>
                <a:cubicBezTo>
                  <a:pt x="3225" y="1164"/>
                  <a:pt x="3238" y="265"/>
                  <a:pt x="3253" y="134"/>
                </a:cubicBezTo>
                <a:cubicBezTo>
                  <a:pt x="3268" y="3"/>
                  <a:pt x="3285" y="457"/>
                  <a:pt x="3299" y="530"/>
                </a:cubicBezTo>
                <a:cubicBezTo>
                  <a:pt x="3313" y="603"/>
                  <a:pt x="3327" y="541"/>
                  <a:pt x="3340" y="570"/>
                </a:cubicBezTo>
                <a:cubicBezTo>
                  <a:pt x="3353" y="599"/>
                  <a:pt x="3366" y="624"/>
                  <a:pt x="3380" y="707"/>
                </a:cubicBezTo>
                <a:cubicBezTo>
                  <a:pt x="3394" y="790"/>
                  <a:pt x="3408" y="969"/>
                  <a:pt x="3422" y="1071"/>
                </a:cubicBezTo>
                <a:cubicBezTo>
                  <a:pt x="3436" y="1173"/>
                  <a:pt x="3449" y="1319"/>
                  <a:pt x="3467" y="1322"/>
                </a:cubicBezTo>
                <a:cubicBezTo>
                  <a:pt x="3485" y="1325"/>
                  <a:pt x="3492" y="264"/>
                  <a:pt x="3505" y="132"/>
                </a:cubicBezTo>
                <a:cubicBezTo>
                  <a:pt x="3518" y="0"/>
                  <a:pt x="3534" y="501"/>
                  <a:pt x="3548" y="531"/>
                </a:cubicBezTo>
                <a:cubicBezTo>
                  <a:pt x="3562" y="561"/>
                  <a:pt x="3575" y="351"/>
                  <a:pt x="3589" y="315"/>
                </a:cubicBezTo>
                <a:cubicBezTo>
                  <a:pt x="3603" y="279"/>
                  <a:pt x="3617" y="281"/>
                  <a:pt x="3634" y="312"/>
                </a:cubicBezTo>
                <a:cubicBezTo>
                  <a:pt x="3651" y="343"/>
                  <a:pt x="3662" y="336"/>
                  <a:pt x="3676" y="348"/>
                </a:cubicBezTo>
                <a:cubicBezTo>
                  <a:pt x="3690" y="360"/>
                  <a:pt x="3704" y="384"/>
                  <a:pt x="3718" y="384"/>
                </a:cubicBezTo>
                <a:cubicBezTo>
                  <a:pt x="3732" y="384"/>
                  <a:pt x="3749" y="338"/>
                  <a:pt x="3763" y="350"/>
                </a:cubicBezTo>
                <a:cubicBezTo>
                  <a:pt x="3777" y="362"/>
                  <a:pt x="3786" y="423"/>
                  <a:pt x="3799" y="458"/>
                </a:cubicBezTo>
                <a:cubicBezTo>
                  <a:pt x="3812" y="493"/>
                  <a:pt x="3828" y="539"/>
                  <a:pt x="3842" y="563"/>
                </a:cubicBezTo>
                <a:cubicBezTo>
                  <a:pt x="3856" y="587"/>
                  <a:pt x="3870" y="561"/>
                  <a:pt x="3884" y="603"/>
                </a:cubicBezTo>
                <a:cubicBezTo>
                  <a:pt x="3898" y="645"/>
                  <a:pt x="3914" y="775"/>
                  <a:pt x="3928" y="816"/>
                </a:cubicBezTo>
                <a:cubicBezTo>
                  <a:pt x="3942" y="857"/>
                  <a:pt x="3953" y="852"/>
                  <a:pt x="3968" y="852"/>
                </a:cubicBezTo>
                <a:cubicBezTo>
                  <a:pt x="3983" y="852"/>
                  <a:pt x="4000" y="745"/>
                  <a:pt x="4012" y="744"/>
                </a:cubicBezTo>
                <a:cubicBezTo>
                  <a:pt x="4024" y="743"/>
                  <a:pt x="4040" y="975"/>
                  <a:pt x="4054" y="1071"/>
                </a:cubicBezTo>
                <a:cubicBezTo>
                  <a:pt x="4068" y="1167"/>
                  <a:pt x="4084" y="1271"/>
                  <a:pt x="4094" y="1323"/>
                </a:cubicBezTo>
                <a:cubicBezTo>
                  <a:pt x="4104" y="1375"/>
                  <a:pt x="4117" y="1345"/>
                  <a:pt x="4116" y="1381"/>
                </a:cubicBezTo>
                <a:cubicBezTo>
                  <a:pt x="4113" y="1560"/>
                  <a:pt x="4117" y="1422"/>
                  <a:pt x="4112" y="1572"/>
                </a:cubicBezTo>
                <a:cubicBezTo>
                  <a:pt x="2801" y="1578"/>
                  <a:pt x="125" y="1572"/>
                  <a:pt x="2" y="1571"/>
                </a:cubicBezTo>
                <a:close/>
              </a:path>
            </a:pathLst>
          </a:custGeom>
          <a:solidFill>
            <a:srgbClr val="ccffff">
              <a:alpha val="6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8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Частот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писи аналогового сигнала и его преобразования в цифровую форму используется микрофон, подключенный к звуковой кар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чество звука зависит от количества измерений уровня звука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Количество измерений уровня звука в единицу времени называется </a:t>
            </a: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частотой дискрет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та дискретизации лежит в диапазоне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 8 000 до 48 000 измерен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Глубина дискретизаци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дискретному временному отрезку – каждой «ступеньке» – присваивается определенный уровень громкост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для кодирования которых требуется определенный объем информации (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996600"/>
                </a:solidFill>
                <a:latin typeface="Arial"/>
              </a:rPr>
              <a:t>Глубина кодирования звука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– количество информации, необходимое для кодирования дискретных уровней громкости цифрового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i="1" lang="en-US" sz="34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м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вестна глубина кодирования – 16 би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Рассчитать количество возможных уровней громкости внутри одного измерения звук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формул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ход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65 53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му уровню громкости присваивается одно из 65 536 значений, которое кодируется двоичными числами от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0000 0000 0000 0000 (минимальный уровень) до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11 1111 1111 1111 (максимальный уровень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Вопрос: назовите основные характеристики аналогового звука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Частот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количество вершин на единицу длины оси абсцисс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высота тона звука.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1/се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300" spc="-1" strike="noStrike" u="sng">
                <a:solidFill>
                  <a:srgbClr val="996600"/>
                </a:solidFill>
                <a:uFillTx/>
                <a:latin typeface="Arial"/>
              </a:rPr>
              <a:t>Амплитуд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высота вершин на графике – координаты по оси ординат)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От нее зависит громкость звука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Измеряется в децибел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2:15:17Z</dcterms:created>
  <dc:creator>Сергеев Евгений</dc:creator>
  <dc:description/>
  <dc:language>en-US</dc:language>
  <cp:lastModifiedBy>Сергеев Евгений</cp:lastModifiedBy>
  <dcterms:modified xsi:type="dcterms:W3CDTF">2010-10-08T12:17:10Z</dcterms:modified>
  <cp:revision>22</cp:revision>
  <dc:subject/>
  <dc:title>Слайд 1</dc:title>
</cp:coreProperties>
</file>