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whoosh.wav" ContentType="audio/x-wav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46.gif" ContentType="image/gif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%D0%9F%D1%83%D1%82%D0%B5%D1%88%D0%B5%D1%81%D1%82%D0%B2%D0%B8%D1%8F%20-%20%D0%B2%D0%BE%D0%BF%D1%80%D0%BE%D1%81.wav" ContentType="audio/x-wav"/>
  <Override PartName="/ppt/media/image15.jpeg" ContentType="image/jpeg"/>
  <Override PartName="/ppt/media/image13.jpeg" ContentType="image/jpeg"/>
  <Override PartName="/ppt/media/image40.jpeg" ContentType="image/jpeg"/>
  <Override PartName="/ppt/media/%D0%91%D0%B5%D0%B9%D1%81%D0%B1%D0%BE%D0%BB%20-%20%D0%B2%D1%8B%D1%85%D0%BE%D0%B4%20%D0%B8%D0%B7%20Windows.wav" ContentType="audio/x-wav"/>
  <Override PartName="/ppt/media/image1.png" ContentType="image/png"/>
  <Override PartName="/ppt/media/image12.jpeg" ContentType="image/jpeg"/>
  <Override PartName="/ppt/media/image3.gif" ContentType="image/gif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47.jpeg" ContentType="image/jpeg"/>
  <Override PartName="/ppt/media/image32.jpeg" ContentType="image/jpeg"/>
  <Override PartName="/ppt/media/image29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49.jpeg" ContentType="image/jpeg"/>
  <Override PartName="/ppt/media/image51.png" ContentType="image/png"/>
  <Override PartName="/ppt/media/camera.wav" ContentType="audio/x-wav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50.jpeg" ContentType="image/jpeg"/>
  <Override PartName="/ppt/media/image38.png" ContentType="image/png"/>
  <Override PartName="/ppt/media/image45.gif" ContentType="image/gif"/>
  <Override PartName="/ppt/media/image8.png" ContentType="image/png"/>
  <Override PartName="/ppt/media/image14.jpeg" ContentType="image/jpeg"/>
  <Override PartName="/ppt/media/image4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79CC-68E8-4E1B-B983-BBB206DE68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ятое поколение (машины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90720" y="0"/>
            <a:ext cx="8153280" cy="533520"/>
          </a:xfrm>
          <a:prstGeom prst="rect">
            <a:avLst/>
          </a:prstGeom>
          <a:solidFill>
            <a:srgbClr val="367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9880" y="103320"/>
            <a:ext cx="175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34d"/>
                </a:solidFill>
                <a:latin typeface="Arial"/>
              </a:rPr>
              <a:t>ПОКОЛЕНИЯ ЭВ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8120" y="542880"/>
            <a:ext cx="6105240" cy="343080"/>
          </a:xfrm>
          <a:prstGeom prst="rect">
            <a:avLst/>
          </a:prstGeom>
          <a:solidFill>
            <a:srgbClr val="367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371600" y="542880"/>
            <a:ext cx="1676520" cy="343080"/>
          </a:xfrm>
          <a:prstGeom prst="rect">
            <a:avLst/>
          </a:prstGeom>
          <a:gradFill rotWithShape="0">
            <a:gsLst>
              <a:gs pos="0">
                <a:srgbClr val="3675b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23840" cy="2057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3.xml"/><Relationship Id="rId3" Type="http://schemas.openxmlformats.org/officeDocument/2006/relationships/image" Target="../media/image3.gif"/><Relationship Id="rId4" Type="http://schemas.openxmlformats.org/officeDocument/2006/relationships/slide" Target="slide13.xml"/><Relationship Id="rId5" Type="http://schemas.openxmlformats.org/officeDocument/2006/relationships/image" Target="../media/image3.gif"/><Relationship Id="rId6" Type="http://schemas.openxmlformats.org/officeDocument/2006/relationships/slide" Target="slide10.xml"/><Relationship Id="rId7" Type="http://schemas.openxmlformats.org/officeDocument/2006/relationships/image" Target="../media/image3.gif"/><Relationship Id="rId8" Type="http://schemas.openxmlformats.org/officeDocument/2006/relationships/slide" Target="slide15.xml"/><Relationship Id="rId9" Type="http://schemas.openxmlformats.org/officeDocument/2006/relationships/image" Target="../media/image3.gif"/><Relationship Id="rId10" Type="http://schemas.openxmlformats.org/officeDocument/2006/relationships/slide" Target="slide16.xml"/><Relationship Id="rId11" Type="http://schemas.openxmlformats.org/officeDocument/2006/relationships/image" Target="../media/image3.gif"/><Relationship Id="rId12" Type="http://schemas.openxmlformats.org/officeDocument/2006/relationships/slide" Target="slide17.xml"/><Relationship Id="rId13" Type="http://schemas.openxmlformats.org/officeDocument/2006/relationships/image" Target="../media/image3.gif"/><Relationship Id="rId14" Type="http://schemas.openxmlformats.org/officeDocument/2006/relationships/slide" Target="slide2.xml"/><Relationship Id="rId15" Type="http://schemas.openxmlformats.org/officeDocument/2006/relationships/image" Target="../media/image3.gif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7.gif"/><Relationship Id="rId6" Type="http://schemas.openxmlformats.org/officeDocument/2006/relationships/image" Target="../media/image27.jpeg"/><Relationship Id="rId7" Type="http://schemas.openxmlformats.org/officeDocument/2006/relationships/image" Target="../media/image4.jpeg"/><Relationship Id="rId8" Type="http://schemas.openxmlformats.org/officeDocument/2006/relationships/slide" Target="slide1.xm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4.jpeg"/><Relationship Id="rId9" Type="http://schemas.openxmlformats.org/officeDocument/2006/relationships/slide" Target="slide1.xml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gif"/><Relationship Id="rId4" Type="http://schemas.openxmlformats.org/officeDocument/2006/relationships/image" Target="../media/image7.gif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.jpeg"/><Relationship Id="rId5" Type="http://schemas.openxmlformats.org/officeDocument/2006/relationships/slide" Target="slide1.xml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7.gif"/><Relationship Id="rId4" Type="http://schemas.openxmlformats.org/officeDocument/2006/relationships/image" Target="../media/image45.gif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9.jpe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audio" Target="../media/whoosh.wav"/><Relationship Id="rId8" Type="http://schemas.openxmlformats.org/officeDocument/2006/relationships/audio" Target="../media/&#1041;&#1077;&#1081;&#1089;&#1073;&#1086;&#1083;%20-%20&#1074;&#1099;&#1093;&#1086;&#1076;%20&#1080;&#1079;%20Windows.wav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audio" Target="../media/camera.wav"/><Relationship Id="rId7" Type="http://schemas.openxmlformats.org/officeDocument/2006/relationships/audio" Target="../media/&#1055;&#1091;&#1090;&#1077;&#1096;&#1077;&#1089;&#1090;&#1074;&#1080;&#1103;%20-%20&#1074;&#1086;&#1087;&#1088;&#1086;&#1089;.wav"/><Relationship Id="rId8" Type="http://schemas.openxmlformats.org/officeDocument/2006/relationships/audio" Target="../media/&#1055;&#1091;&#1090;&#1077;&#1096;&#1077;&#1089;&#1090;&#1074;&#1080;&#1103;%20-%20&#1074;&#1086;&#1087;&#1088;&#1086;&#1089;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bdxc.ru/konkurs/tarhov/images/pc_021.jpg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4.jpeg"/><Relationship Id="rId7" Type="http://schemas.openxmlformats.org/officeDocument/2006/relationships/slide" Target="slide1.xml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1447920"/>
            <a:ext cx="6095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КОЛЕНИЯ ЭВ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91520" y="1371600"/>
            <a:ext cx="1523880" cy="1397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66680" y="365760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Первое поколение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Четвертое 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Второе поколение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Пятое 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Третье поколение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Из ист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38098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3520" y="533412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3520" y="44956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343400" y="38098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343400" y="44956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343400" y="5257800"/>
            <a:ext cx="212760" cy="212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1680" y="29718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NI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514600" y="3124080"/>
            <a:ext cx="212760" cy="21276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5805360"/>
            <a:ext cx="43210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втор: Герасимова О.Б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читель информа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ГОУ Гимназии №1569 «Созвезди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765440"/>
            <a:ext cx="754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–полупроводник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до сотен тысяч операций 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669960" cy="838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791320" y="1600200"/>
            <a:ext cx="1066680" cy="647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705720" y="3962520"/>
            <a:ext cx="1689120" cy="2590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572000" y="2133720"/>
            <a:ext cx="1143000" cy="514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581280" y="53341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Появилась память на магнитных носител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7620120" y="3048120"/>
            <a:ext cx="1371600" cy="304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7238880" y="1295280"/>
            <a:ext cx="1447920" cy="1003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85800" y="3657600"/>
            <a:ext cx="405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Использование транзистора в качестве переключательного элемента вместо вакуумной лам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52280" y="990720"/>
            <a:ext cx="60962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ТОРОЕ ПОКОЛЕНИЕ 1960-1964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8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ТОРОЕ ПОКОЛЕНИЕ (1960-196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0666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Лентопротяжный механизм и магнитная лен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1019160" cy="2057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1447920" cy="833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828800" y="2971800"/>
            <a:ext cx="1295280" cy="870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76320" y="3962520"/>
            <a:ext cx="3962160" cy="274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495680" y="13716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4724280" y="5410080"/>
            <a:ext cx="1676520" cy="1046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5751360" y="1774800"/>
            <a:ext cx="2401920" cy="27972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6705720" y="5257800"/>
            <a:ext cx="2286000" cy="11667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495680" y="11430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Магнитные диск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9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066680"/>
            <a:ext cx="7010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Машина  БЭСМ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амая быстродействующая в мире на том этап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ее быстродействие достигало 1 миллиона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086600" y="2362320"/>
            <a:ext cx="1828800" cy="12729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2951280"/>
            <a:ext cx="6553080" cy="390672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828800"/>
            <a:ext cx="6400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интегральные схемы, а вместо памяти на магнитных сердечниках - полупроводник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миллионы тысяч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Программное обеспечение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была создана первая операционная сист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Интегральные схемы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содержат до  несколько десятков тысяч элементов на кристалл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781680" y="3962520"/>
            <a:ext cx="2362320" cy="19778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781680" y="1905120"/>
            <a:ext cx="1866960" cy="12096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7772400" y="1066680"/>
            <a:ext cx="990720" cy="7462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2057400" y="3505320"/>
            <a:ext cx="1371600" cy="3045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ЕТЬЕ ПОКОЛЕНИЕ 1964-1970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137160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Появляются семейства маш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ЕС ЭВ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057400" cy="1327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429000" y="3117960"/>
            <a:ext cx="5715000" cy="37400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2587680" cy="373392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5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ТВЕРТОЕ ПОКОЛЕНИЕ (1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905120"/>
            <a:ext cx="7620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-  БИС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несколько десятков и сотен миллионов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Программное обеспечение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– языки высокого уров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Машины этого поколения классифицируются на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В нашей стране БК0010, АГАТ, ЯМАХ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867280" y="4848120"/>
            <a:ext cx="3276720" cy="2009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505320" y="4648320"/>
            <a:ext cx="1676160" cy="11620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838080" y="4495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сверхбольш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больш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мини-эв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микро-эв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297180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7238880" y="2590920"/>
            <a:ext cx="1371600" cy="304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495680" y="1752480"/>
            <a:ext cx="1005120" cy="8384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53352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ТВЕРТОЕ ПОКОЛЕНИЕ 1970 -...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ЯТОЕ ПОКОЛЕНИЕ (1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198108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Это машины будущего, они находятся в стадии разработок  и  отличительной чертой этого поколения будут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949320" cy="1657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ЯТОЕ ПОКОЛЕНИЕ 1980-...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/>
          <p:nvPr/>
        </p:nvSpPr>
        <p:spPr>
          <a:xfrm>
            <a:off x="2129040" y="3505320"/>
            <a:ext cx="6261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овая технология производст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превращение в многопроцессорную систем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овые способы ввода информа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искусственный  интеллек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З ИСТОРИИ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8120" y="1219320"/>
            <a:ext cx="55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502920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Килби придумал и построил первую электронную схему, в которой все компоненты, как активные, так и пассивные, были собраны на одной полупроводниковой основ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715000" y="4307040"/>
            <a:ext cx="3429000" cy="2550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066680" y="1905120"/>
            <a:ext cx="2116080" cy="266688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95400" y="1143000"/>
          <a:ext cx="8953200" cy="5349960"/>
        </p:xfrm>
        <a:graphic>
          <a:graphicData uri="http://schemas.openxmlformats.org/drawingml/2006/table">
            <a:tbl>
              <a:tblPr/>
              <a:tblGrid>
                <a:gridCol w="1595160"/>
                <a:gridCol w="1363680"/>
                <a:gridCol w="1479600"/>
                <a:gridCol w="1478160"/>
                <a:gridCol w="1401480"/>
                <a:gridCol w="1635120"/>
              </a:tblGrid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5-6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5-7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5 –8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5 –9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ментная б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ктронные ламп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зис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гральные схемы и большие интегральные сх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рхбольшие интегральные схемы; микропроцесс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тоэлектроника; криоэлектрон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ое быстродействие процессора (опер/се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20 тыс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тыс.-1мл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мл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многроцессор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многопроцессор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емкость ОЗ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иферийные устройства и носитель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фокарты и перфоленты; цифровая печ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гнитные барабаны и ленты; алфавитно-цифровая печ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оли; магнитные диски и ленты; дисплеи; графопостроите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ной графический дисплей; клавиатура; манипуляторы; принтеры; мод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ройства ввода с голосового устройства; чтение рукописного текста и п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ное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блиотеки стандартных программ; авток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зыки программирования высокого уровня и трансля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ционные системы; СУБД; пакеты прикладных програм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кладное ПО общего назначения; сетевое ПО; мультимеди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ллектуальные программные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ры ЭВ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ЭСМ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2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-22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3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ал-14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M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360/37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С ЭВМ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 ЭВ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сональные компьютеры: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M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РС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into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NT 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laN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g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 txBox="1"/>
          <p:nvPr/>
        </p:nvSpPr>
        <p:spPr>
          <a:xfrm>
            <a:off x="0" y="304920"/>
            <a:ext cx="9144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Характеристики поколений ЭВ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91%D0%B5%D0%B9%D1%81%D0%B1%D0%BE%D0%BB%20-%20%D0%B2%D1%8B%D1%85%D0%BE%D0%B4%20%D0%B8%D0%B7%20Window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ЫЙ СУММАТО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121932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6248520" cy="4132080"/>
          </a:xfrm>
          <a:prstGeom prst="rect">
            <a:avLst/>
          </a:prstGeom>
          <a:ln w="0">
            <a:noFill/>
          </a:ln>
        </p:spPr>
      </p:pic>
      <p:sp>
        <p:nvSpPr>
          <p:cNvPr id="24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I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220968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В 40-х годах произошел коренной переворот  в вычислительной технике. В 40-х годах 20 века в университете США в городе Пенсильвания  была построена полностью электронно –цифровая маш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441972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Эта машина весила 30 тон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0292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Занимала площадь 200 м</a:t>
            </a:r>
            <a:r>
              <a:rPr b="1" i="1" lang="en-US" sz="20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6386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В ней было более 18000 радиолам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029200" y="4038480"/>
            <a:ext cx="3124080" cy="2346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685800" y="914400"/>
            <a:ext cx="7753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электронная машин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ENIAK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33520" y="1295280"/>
            <a:ext cx="678168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45г. – Джон Моучли и Джон Экер разработали первую  электронную машину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IA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51г. – Сергей Александрович Лебедев разработал первую отечественную машину МЭС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68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roughs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пустила первый компьютер на интегральных схема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1г. – появился первый микропроцессо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l-400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4г. – компан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первый коммерчески распространяемый персональный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tair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базе процессор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Intel-808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Объем памяти 256 байт, клавиатура и дисплей отсутствовали. Носители информации – перфолент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7543800" y="3886200"/>
            <a:ext cx="1096920" cy="7509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33520" y="5029200"/>
            <a:ext cx="569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6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-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представляющий собой деревянный ящик с электронными компонента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6172200" y="4952880"/>
            <a:ext cx="1066680" cy="7714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85800" y="609588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81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M P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основанный на принципе открытой архитектур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8080" y="838080"/>
            <a:ext cx="6386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сводная таблиц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9F%D1%83%D1%82%D0%B5%D1%88%D0%B5%D1%81%D1%82%D0%B2%D0%B8%D1%8F%20-%20%D0%B2%D0%BE%D0%BF%D1%80%D0%BE%D1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9F%D1%83%D1%82%D0%B5%D1%88%D0%B5%D1%81%D1%82%D0%B2%D0%B8%D1%8F%20-%20%D0%B2%D0%BE%D0%BF%D1%80%D0%BE%D1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981080"/>
            <a:ext cx="7925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 на электронных ламп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10-20 ты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Программные средств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 были представлены машинным язы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715000" y="4724280"/>
            <a:ext cx="170964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172200" y="320040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848720" y="1676520"/>
            <a:ext cx="415800" cy="842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8305920" y="2057400"/>
            <a:ext cx="380880" cy="619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ВОЕ ПОКОЛЕНИЕ 1946-1960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47640" y="2666880"/>
            <a:ext cx="7848720" cy="3505320"/>
            <a:chOff x="647640" y="2666880"/>
            <a:chExt cx="7848720" cy="3505320"/>
          </a:xfrm>
        </p:grpSpPr>
        <p:sp>
          <p:nvSpPr>
            <p:cNvPr id="85" name=""/>
            <p:cNvSpPr/>
            <p:nvPr/>
          </p:nvSpPr>
          <p:spPr>
            <a:xfrm>
              <a:off x="1371600" y="4114800"/>
              <a:ext cx="1427040" cy="6904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УВ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7640" y="4386240"/>
              <a:ext cx="71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89280" y="438624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82920" y="3706920"/>
              <a:ext cx="2854440" cy="142704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З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Результат       Программ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Дан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82920" y="5392800"/>
              <a:ext cx="2854440" cy="77940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АЛ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978360" y="516528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03960" y="516564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37360" y="4484520"/>
              <a:ext cx="47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13640" y="4095720"/>
              <a:ext cx="1189080" cy="6904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вы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02720" y="448452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978360" y="344628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03960" y="344664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99040" y="3219480"/>
              <a:ext cx="476280" cy="2336760"/>
            </a:xfrm>
            <a:custGeom>
              <a:avLst/>
              <a:gdLst/>
              <a:ahLst/>
              <a:rect l="l" t="t" r="r" b="b"/>
              <a:pathLst>
                <a:path w="312" h="1296">
                  <a:moveTo>
                    <a:pt x="0" y="0"/>
                  </a:moveTo>
                  <a:cubicBezTo>
                    <a:pt x="48" y="36"/>
                    <a:pt x="96" y="72"/>
                    <a:pt x="144" y="144"/>
                  </a:cubicBezTo>
                  <a:cubicBezTo>
                    <a:pt x="192" y="216"/>
                    <a:pt x="264" y="288"/>
                    <a:pt x="288" y="432"/>
                  </a:cubicBezTo>
                  <a:cubicBezTo>
                    <a:pt x="312" y="576"/>
                    <a:pt x="312" y="864"/>
                    <a:pt x="288" y="1008"/>
                  </a:cubicBezTo>
                  <a:cubicBezTo>
                    <a:pt x="264" y="1152"/>
                    <a:pt x="168" y="1248"/>
                    <a:pt x="144" y="12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80240" y="2828880"/>
              <a:ext cx="833400" cy="2857680"/>
            </a:xfrm>
            <a:custGeom>
              <a:avLst/>
              <a:gdLst/>
              <a:ahLst/>
              <a:rect l="l" t="t" r="r" b="b"/>
              <a:pathLst>
                <a:path w="312" h="1296">
                  <a:moveTo>
                    <a:pt x="0" y="0"/>
                  </a:moveTo>
                  <a:cubicBezTo>
                    <a:pt x="48" y="36"/>
                    <a:pt x="96" y="72"/>
                    <a:pt x="144" y="144"/>
                  </a:cubicBezTo>
                  <a:cubicBezTo>
                    <a:pt x="192" y="216"/>
                    <a:pt x="264" y="288"/>
                    <a:pt x="288" y="432"/>
                  </a:cubicBezTo>
                  <a:cubicBezTo>
                    <a:pt x="312" y="576"/>
                    <a:pt x="312" y="864"/>
                    <a:pt x="288" y="1008"/>
                  </a:cubicBezTo>
                  <a:cubicBezTo>
                    <a:pt x="264" y="1152"/>
                    <a:pt x="168" y="1248"/>
                    <a:pt x="144" y="129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22760" y="2927520"/>
              <a:ext cx="3574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761080" y="2796840"/>
              <a:ext cx="0" cy="258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61080" y="3186000"/>
              <a:ext cx="119160" cy="130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80240" y="3316320"/>
              <a:ext cx="0" cy="26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61080" y="3186000"/>
              <a:ext cx="237960" cy="260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880240" y="3186000"/>
              <a:ext cx="1188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80240" y="2927520"/>
              <a:ext cx="0" cy="258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41920" y="3056040"/>
              <a:ext cx="238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82920" y="2666880"/>
              <a:ext cx="2854440" cy="77976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У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237360" y="5554800"/>
              <a:ext cx="117360" cy="12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6237360" y="3477960"/>
              <a:ext cx="11736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09480" y="13716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Машины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1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поколени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</a:rPr>
              <a:t>я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мели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у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азванную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классической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ли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ой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фон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еймана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23880" y="990720"/>
            <a:ext cx="5173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77777"/>
                    </a:gs>
                    <a:gs pos="100000">
                      <a:srgbClr val="333333"/>
                    </a:gs>
                  </a:gsLst>
                  <a:lin ang="5400000"/>
                </a:gradFill>
                <a:latin typeface="Arial"/>
              </a:rPr>
              <a:t>Структура фон Нейман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77777"/>
                  </a:gs>
                  <a:gs pos="100000">
                    <a:srgbClr val="3333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23960" y="1371600"/>
            <a:ext cx="769608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В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ойство ввода. Вводит и кодирует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А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рифметико-логическое устройство. Обрабатывает арифметическую и логическую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З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оминающее устройство. Хранит данные, программу и результа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ойство управления. Управляет работой всех устройств и ходом обработки информ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вы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о вывода. Выводит информацию, раскодирует е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600200" y="914400"/>
            <a:ext cx="55627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ccecff"/>
                    </a:gs>
                  </a:gsLst>
                  <a:lin ang="5400000"/>
                </a:gradFill>
                <a:latin typeface="Arial"/>
              </a:rPr>
              <a:t>Устройства 1го поколен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cce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7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198108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Первая отечественная машина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МЭС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создана в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951г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  в Киеве под руководством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С. А. Лебеде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34120" y="4191120"/>
            <a:ext cx="3276360" cy="2271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МЭСМ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4191120"/>
            <a:ext cx="3276720" cy="2270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914400" y="1447920"/>
            <a:ext cx="1650960" cy="230796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1371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Первые вычислительные машины были очень громоздкими и занимал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целые за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1600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АШИНА М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2743200" cy="2055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6320" y="32004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038480" y="320040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6629400" y="3200400"/>
            <a:ext cx="2409840" cy="365760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37160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ывод данных осуществлялся на АЦПУ (алфавитно-цифровые печатающие устройства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137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од данных осуществлялся 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с помощью перфокарт и перфоле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13716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3353040" cy="2666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238880" y="4419720"/>
            <a:ext cx="1752840" cy="901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553080" y="5486400"/>
            <a:ext cx="1447920" cy="1268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4572000" y="2362320"/>
            <a:ext cx="2666880" cy="1850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4572000" y="4572000"/>
            <a:ext cx="1828800" cy="118440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7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20:14:12Z</dcterms:created>
  <dc:creator>CoBRA</dc:creator>
  <dc:description/>
  <dc:language>en-US</dc:language>
  <cp:lastModifiedBy>КарМаН</cp:lastModifiedBy>
  <dcterms:modified xsi:type="dcterms:W3CDTF">2011-10-19T06:39:30Z</dcterms:modified>
  <cp:revision>51</cp:revision>
  <dc:subject/>
  <dc:title>Презентация PowerPoint</dc:title>
</cp:coreProperties>
</file>