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28.jpeg" ContentType="image/jpeg"/>
  <Override PartName="/ppt/media/whoosh.wav" ContentType="audio/x-wav"/>
  <Override PartName="/ppt/media/image24.jpeg" ContentType="image/jpeg"/>
  <Override PartName="/ppt/media/image23.jpeg" ContentType="image/jpeg"/>
  <Override PartName="/ppt/media/image22.jpeg" ContentType="image/jpeg"/>
  <Override PartName="/ppt/media/image9.png" ContentType="image/png"/>
  <Override PartName="/ppt/media/image46.gif" ContentType="image/gif"/>
  <Override PartName="/ppt/media/image21.jpeg" ContentType="image/jpeg"/>
  <Override PartName="/ppt/media/image20.jpeg" ContentType="image/jpeg"/>
  <Override PartName="/ppt/media/image19.jpeg" ContentType="image/jpeg"/>
  <Override PartName="/ppt/media/image2.gif" ContentType="image/gif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39.gif" ContentType="image/gif"/>
  <Override PartName="/ppt/media/%D0%9F%D1%83%D1%82%D0%B5%D1%88%D0%B5%D1%81%D1%82%D0%B2%D0%B8%D1%8F%20-%20%D0%B2%D0%BE%D0%BF%D1%80%D0%BE%D1%81.wav" ContentType="audio/x-wav"/>
  <Override PartName="/ppt/media/image15.jpeg" ContentType="image/jpeg"/>
  <Override PartName="/ppt/media/image13.jpeg" ContentType="image/jpeg"/>
  <Override PartName="/ppt/media/image40.jpeg" ContentType="image/jpeg"/>
  <Override PartName="/ppt/media/%D0%91%D0%B5%D0%B9%D1%81%D0%B1%D0%BE%D0%BB%20-%20%D0%B2%D1%8B%D1%85%D0%BE%D0%B4%20%D0%B8%D0%B7%20Windows.wav" ContentType="audio/x-wav"/>
  <Override PartName="/ppt/media/image1.png" ContentType="image/png"/>
  <Override PartName="/ppt/media/image12.jpeg" ContentType="image/jpeg"/>
  <Override PartName="/ppt/media/image3.gif" ContentType="image/gif"/>
  <Override PartName="/ppt/media/image25.jpeg" ContentType="image/jpeg"/>
  <Override PartName="/ppt/media/image4.jpeg" ContentType="image/jpeg"/>
  <Override PartName="/ppt/media/image33.jpeg" ContentType="image/jpeg"/>
  <Override PartName="/ppt/media/image6.jpeg" ContentType="image/jpeg"/>
  <Override PartName="/ppt/media/image35.jpeg" ContentType="image/jpeg"/>
  <Override PartName="/ppt/media/image10.jpeg" ContentType="image/jpeg"/>
  <Override PartName="/ppt/media/image36.jpeg" ContentType="image/jpeg"/>
  <Override PartName="/ppt/media/image11.jpeg" ContentType="image/jpeg"/>
  <Override PartName="/ppt/media/image43.jpeg" ContentType="image/jpeg"/>
  <Override PartName="/ppt/media/image34.jpeg" ContentType="image/jpeg"/>
  <Override PartName="/ppt/media/image37.png" ContentType="image/png"/>
  <Override PartName="/ppt/media/image48.jpeg" ContentType="image/jpeg"/>
  <Override PartName="/ppt/media/image44.jpeg" ContentType="image/jpeg"/>
  <Override PartName="/ppt/media/image47.jpeg" ContentType="image/jpeg"/>
  <Override PartName="/ppt/media/image32.jpeg" ContentType="image/jpeg"/>
  <Override PartName="/ppt/media/image29.jpeg" ContentType="image/jpeg"/>
  <Override PartName="/ppt/media/image7.gif" ContentType="image/gif"/>
  <Override PartName="/ppt/media/image5.jpeg" ContentType="image/jpeg"/>
  <Override PartName="/ppt/media/image26.jpeg" ContentType="image/jpeg"/>
  <Override PartName="/ppt/media/image49.jpeg" ContentType="image/jpeg"/>
  <Override PartName="/ppt/media/image51.png" ContentType="image/png"/>
  <Override PartName="/ppt/media/camera.wav" ContentType="audio/x-wav"/>
  <Override PartName="/ppt/media/image31.jpeg" ContentType="image/jpeg"/>
  <Override PartName="/ppt/media/image30.jpeg" ContentType="image/jpeg"/>
  <Override PartName="/ppt/media/image27.jpeg" ContentType="image/jpeg"/>
  <Override PartName="/ppt/media/image52.png" ContentType="image/png"/>
  <Override PartName="/ppt/media/image50.jpeg" ContentType="image/jpeg"/>
  <Override PartName="/ppt/media/image38.png" ContentType="image/png"/>
  <Override PartName="/ppt/media/image45.gif" ContentType="image/gif"/>
  <Override PartName="/ppt/media/image8.png" ContentType="image/png"/>
  <Override PartName="/ppt/media/image14.jpeg" ContentType="image/jpeg"/>
  <Override PartName="/ppt/media/image4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4515F-35CB-4C43-9124-5C508902638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ятое поколение (машины)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990720" y="0"/>
            <a:ext cx="8153280" cy="533520"/>
          </a:xfrm>
          <a:prstGeom prst="rect">
            <a:avLst/>
          </a:prstGeom>
          <a:solidFill>
            <a:srgbClr val="3675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 flipH="1">
            <a:off x="0" y="5335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839880" y="103320"/>
            <a:ext cx="175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34d"/>
                </a:solidFill>
                <a:latin typeface="Arial"/>
              </a:rPr>
              <a:t>ПОКОЛЕНИЯ ЭВМ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048120" y="542880"/>
            <a:ext cx="6105240" cy="343080"/>
          </a:xfrm>
          <a:prstGeom prst="rect">
            <a:avLst/>
          </a:prstGeom>
          <a:solidFill>
            <a:srgbClr val="3675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371600" y="542880"/>
            <a:ext cx="1676520" cy="343080"/>
          </a:xfrm>
          <a:prstGeom prst="rect">
            <a:avLst/>
          </a:prstGeom>
          <a:gradFill rotWithShape="0">
            <a:gsLst>
              <a:gs pos="0">
                <a:srgbClr val="3675b2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23840" cy="205740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" Target="slide3.xml"/><Relationship Id="rId3" Type="http://schemas.openxmlformats.org/officeDocument/2006/relationships/image" Target="../media/image3.gif"/><Relationship Id="rId4" Type="http://schemas.openxmlformats.org/officeDocument/2006/relationships/slide" Target="slide13.xml"/><Relationship Id="rId5" Type="http://schemas.openxmlformats.org/officeDocument/2006/relationships/image" Target="../media/image3.gif"/><Relationship Id="rId6" Type="http://schemas.openxmlformats.org/officeDocument/2006/relationships/slide" Target="slide10.xml"/><Relationship Id="rId7" Type="http://schemas.openxmlformats.org/officeDocument/2006/relationships/image" Target="../media/image3.gif"/><Relationship Id="rId8" Type="http://schemas.openxmlformats.org/officeDocument/2006/relationships/slide" Target="slide15.xml"/><Relationship Id="rId9" Type="http://schemas.openxmlformats.org/officeDocument/2006/relationships/image" Target="../media/image3.gif"/><Relationship Id="rId10" Type="http://schemas.openxmlformats.org/officeDocument/2006/relationships/slide" Target="slide16.xml"/><Relationship Id="rId11" Type="http://schemas.openxmlformats.org/officeDocument/2006/relationships/image" Target="../media/image3.gif"/><Relationship Id="rId12" Type="http://schemas.openxmlformats.org/officeDocument/2006/relationships/slide" Target="slide17.xml"/><Relationship Id="rId13" Type="http://schemas.openxmlformats.org/officeDocument/2006/relationships/image" Target="../media/image3.gif"/><Relationship Id="rId14" Type="http://schemas.openxmlformats.org/officeDocument/2006/relationships/slide" Target="slide2.xml"/><Relationship Id="rId15" Type="http://schemas.openxmlformats.org/officeDocument/2006/relationships/image" Target="../media/image3.gif"/><Relationship Id="rId16" Type="http://schemas.openxmlformats.org/officeDocument/2006/relationships/image" Target="../media/image4.jpeg"/><Relationship Id="rId1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7.gif"/><Relationship Id="rId6" Type="http://schemas.openxmlformats.org/officeDocument/2006/relationships/image" Target="../media/image27.jpeg"/><Relationship Id="rId7" Type="http://schemas.openxmlformats.org/officeDocument/2006/relationships/image" Target="../media/image4.jpeg"/><Relationship Id="rId8" Type="http://schemas.openxmlformats.org/officeDocument/2006/relationships/slide" Target="slide1.xml"/><Relationship Id="rId9" Type="http://schemas.openxmlformats.org/officeDocument/2006/relationships/image" Target="../media/image4.jpeg"/><Relationship Id="rId1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image" Target="../media/image33.jpeg"/><Relationship Id="rId7" Type="http://schemas.openxmlformats.org/officeDocument/2006/relationships/image" Target="../media/image34.jpeg"/><Relationship Id="rId8" Type="http://schemas.openxmlformats.org/officeDocument/2006/relationships/image" Target="../media/image4.jpeg"/><Relationship Id="rId9" Type="http://schemas.openxmlformats.org/officeDocument/2006/relationships/slide" Target="slide1.xml"/><Relationship Id="rId10" Type="http://schemas.openxmlformats.org/officeDocument/2006/relationships/image" Target="../media/image4.jpeg"/><Relationship Id="rId1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4.jpeg"/><Relationship Id="rId4" Type="http://schemas.openxmlformats.org/officeDocument/2006/relationships/slide" Target="slide1.xml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gif"/><Relationship Id="rId4" Type="http://schemas.openxmlformats.org/officeDocument/2006/relationships/image" Target="../media/image7.gif"/><Relationship Id="rId5" Type="http://schemas.openxmlformats.org/officeDocument/2006/relationships/image" Target="../media/image4.jpeg"/><Relationship Id="rId6" Type="http://schemas.openxmlformats.org/officeDocument/2006/relationships/slide" Target="slide1.xml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image" Target="../media/image4.jpeg"/><Relationship Id="rId5" Type="http://schemas.openxmlformats.org/officeDocument/2006/relationships/slide" Target="slide1.xml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image" Target="../media/image7.gif"/><Relationship Id="rId4" Type="http://schemas.openxmlformats.org/officeDocument/2006/relationships/image" Target="../media/image45.gif"/><Relationship Id="rId5" Type="http://schemas.openxmlformats.org/officeDocument/2006/relationships/image" Target="../media/image4.jpeg"/><Relationship Id="rId6" Type="http://schemas.openxmlformats.org/officeDocument/2006/relationships/slide" Target="slide1.xml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6.gif"/><Relationship Id="rId2" Type="http://schemas.openxmlformats.org/officeDocument/2006/relationships/image" Target="../media/image4.jpeg"/><Relationship Id="rId3" Type="http://schemas.openxmlformats.org/officeDocument/2006/relationships/slide" Target="slide1.xml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image" Target="../media/image4.jpeg"/><Relationship Id="rId4" Type="http://schemas.openxmlformats.org/officeDocument/2006/relationships/slide" Target="slide1.xml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49.jpeg"/><Relationship Id="rId3" Type="http://schemas.openxmlformats.org/officeDocument/2006/relationships/image" Target="../media/image4.jpeg"/><Relationship Id="rId4" Type="http://schemas.openxmlformats.org/officeDocument/2006/relationships/slide" Target="slide1.xml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audio" Target="../media/whoosh.wav"/><Relationship Id="rId8" Type="http://schemas.openxmlformats.org/officeDocument/2006/relationships/audio" Target="../media/&#1041;&#1077;&#1081;&#1089;&#1073;&#1086;&#1083;%20-%20&#1074;&#1099;&#1093;&#1086;&#1076;%20&#1080;&#1079;%20Windows.wav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4.jpeg"/><Relationship Id="rId3" Type="http://schemas.openxmlformats.org/officeDocument/2006/relationships/slide" Target="slide1.xml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slide1.xml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png"/><Relationship Id="rId3" Type="http://schemas.openxmlformats.org/officeDocument/2006/relationships/image" Target="../media/image4.jpeg"/><Relationship Id="rId4" Type="http://schemas.openxmlformats.org/officeDocument/2006/relationships/slide" Target="slide1.xml"/><Relationship Id="rId5" Type="http://schemas.openxmlformats.org/officeDocument/2006/relationships/image" Target="../media/image4.jpeg"/><Relationship Id="rId6" Type="http://schemas.openxmlformats.org/officeDocument/2006/relationships/audio" Target="../media/camera.wav"/><Relationship Id="rId7" Type="http://schemas.openxmlformats.org/officeDocument/2006/relationships/audio" Target="../media/&#1055;&#1091;&#1090;&#1077;&#1096;&#1077;&#1089;&#1090;&#1074;&#1080;&#1103;%20-%20&#1074;&#1086;&#1087;&#1088;&#1086;&#1089;.wav"/><Relationship Id="rId8" Type="http://schemas.openxmlformats.org/officeDocument/2006/relationships/audio" Target="../media/&#1055;&#1091;&#1090;&#1077;&#1096;&#1077;&#1089;&#1090;&#1074;&#1080;&#1103;%20-%20&#1074;&#1086;&#1087;&#1088;&#1086;&#1089;.wav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gif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4.jpeg"/><Relationship Id="rId6" Type="http://schemas.openxmlformats.org/officeDocument/2006/relationships/slide" Target="slide1.xml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1.xml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1.xml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bdxc.ru/konkurs/tarhov/images/pc_021.jpg" TargetMode="External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4.jpeg"/><Relationship Id="rId6" Type="http://schemas.openxmlformats.org/officeDocument/2006/relationships/slide" Target="slide1.xml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4.jpeg"/><Relationship Id="rId3" Type="http://schemas.openxmlformats.org/officeDocument/2006/relationships/slide" Target="slide1.xml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4.jpeg"/><Relationship Id="rId6" Type="http://schemas.openxmlformats.org/officeDocument/2006/relationships/slide" Target="slide1.xml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4.jpeg"/><Relationship Id="rId7" Type="http://schemas.openxmlformats.org/officeDocument/2006/relationships/slide" Target="slide1.xml"/><Relationship Id="rId8" Type="http://schemas.openxmlformats.org/officeDocument/2006/relationships/image" Target="../media/image4.jpeg"/><Relationship Id="rId9" Type="http://schemas.openxmlformats.org/officeDocument/2006/relationships/image" Target="../media/image4.jpe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990720" y="1447920"/>
            <a:ext cx="60958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ОКОЛЕНИЯ ЭВМ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7391520" y="1371600"/>
            <a:ext cx="1523880" cy="13971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066680" y="3657600"/>
            <a:ext cx="8382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Первое поколение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Четвертое поколе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Второе поколение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Пятое поколе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Третье поколение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Из истори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33520" y="3809880"/>
            <a:ext cx="212760" cy="2127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533520" y="5334120"/>
            <a:ext cx="212760" cy="2127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533520" y="4495680"/>
            <a:ext cx="212760" cy="2127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4343400" y="3809880"/>
            <a:ext cx="212760" cy="2127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4343400" y="4495680"/>
            <a:ext cx="212760" cy="2127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>
            <a:hlinkClick r:id="rId12" action="ppaction://hlinksldjump"/>
          </p:cNvPr>
          <p:cNvPicPr/>
          <p:nvPr/>
        </p:nvPicPr>
        <p:blipFill>
          <a:blip r:embed="rId13"/>
          <a:stretch/>
        </p:blipFill>
        <p:spPr>
          <a:xfrm>
            <a:off x="4343400" y="5257800"/>
            <a:ext cx="212760" cy="2127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821680" y="2971800"/>
            <a:ext cx="112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NIA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>
            <a:hlinkClick r:id="rId14" action="ppaction://hlinksldjump"/>
          </p:cNvPr>
          <p:cNvPicPr/>
          <p:nvPr/>
        </p:nvPicPr>
        <p:blipFill>
          <a:blip r:embed="rId15"/>
          <a:stretch/>
        </p:blipFill>
        <p:spPr>
          <a:xfrm>
            <a:off x="2514600" y="3124080"/>
            <a:ext cx="212760" cy="212760"/>
          </a:xfrm>
          <a:prstGeom prst="rect">
            <a:avLst/>
          </a:prstGeom>
          <a:ln w="0">
            <a:noFill/>
          </a:ln>
        </p:spPr>
      </p:pic>
      <p:sp>
        <p:nvSpPr>
          <p:cNvPr id="62" name="">
            <a:hlinkClick r:id="" action="ppaction://hlinkshowjump?jump=nextslide"/>
          </p:cNvPr>
          <p:cNvSpPr/>
          <p:nvPr/>
        </p:nvSpPr>
        <p:spPr>
          <a:xfrm>
            <a:off x="876312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067280" y="5805360"/>
            <a:ext cx="432108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Автор: Герасимова О.Б.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учитель информати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ГОУ Гимназии №1569 «Созвездие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371600" y="350640"/>
            <a:ext cx="7772400" cy="30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80880" y="1765440"/>
            <a:ext cx="75438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Элементная база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 –полупроводниковы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Быстродействие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-до сотен тысяч операций  в секунд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4952880" y="3733920"/>
            <a:ext cx="669960" cy="83808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5791320" y="1600200"/>
            <a:ext cx="1066680" cy="64764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3"/>
          <a:stretch/>
        </p:blipFill>
        <p:spPr>
          <a:xfrm>
            <a:off x="6705720" y="3962520"/>
            <a:ext cx="1689120" cy="259056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4"/>
          <a:stretch/>
        </p:blipFill>
        <p:spPr>
          <a:xfrm>
            <a:off x="4572000" y="2133720"/>
            <a:ext cx="1143000" cy="51408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3581280" y="5334120"/>
            <a:ext cx="304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Появилась память на магнитных носителя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5"/>
          <a:stretch/>
        </p:blipFill>
        <p:spPr>
          <a:xfrm>
            <a:off x="7620120" y="3048120"/>
            <a:ext cx="1371600" cy="3045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6"/>
          <a:stretch/>
        </p:blipFill>
        <p:spPr>
          <a:xfrm>
            <a:off x="7238880" y="1295280"/>
            <a:ext cx="1447920" cy="100332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685800" y="3657600"/>
            <a:ext cx="4054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Использование транзистора в качестве переключательного элемента вместо вакуумной ламп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152280" y="990720"/>
            <a:ext cx="609624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ТОРОЕ ПОКОЛЕНИЕ 1960-1964 гг.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66" name="">
            <a:hlinkClick r:id="" action="ppaction://hlinkshowjump?jump=previousslide"/>
          </p:cNvPr>
          <p:cNvSpPr/>
          <p:nvPr/>
        </p:nvSpPr>
        <p:spPr>
          <a:xfrm flipH="1">
            <a:off x="800100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>
            <a:hlinkClick r:id="rId8" action="ppaction://hlinksldjump"/>
          </p:cNvPr>
          <p:cNvSpPr/>
          <p:nvPr/>
        </p:nvSpPr>
        <p:spPr>
          <a:xfrm>
            <a:off x="8381880" y="64771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10810" y="3837"/>
                </a:moveTo>
                <a:lnTo>
                  <a:pt x="13386" y="6448"/>
                </a:ln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lnTo>
                  <a:pt x="17773" y="10800"/>
                </a:lnTo>
                <a:lnTo>
                  <a:pt x="16119" y="10800"/>
                </a:lnTo>
                <a:lnTo>
                  <a:pt x="16119" y="17989"/>
                </a:lnTo>
                <a:lnTo>
                  <a:pt x="5501" y="17989"/>
                </a:lnTo>
                <a:lnTo>
                  <a:pt x="5501" y="10800"/>
                </a:lnTo>
                <a:lnTo>
                  <a:pt x="3847" y="10800"/>
                </a:lnTo>
                <a:close/>
              </a:path>
              <a:path fill="darkenLess" w="21620" h="21600">
                <a:moveTo>
                  <a:pt x="13386" y="6448"/>
                </a:move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close/>
              </a:path>
              <a:path fill="darkenLess" w="21620" h="21600">
                <a:moveTo>
                  <a:pt x="9888" y="14299"/>
                </a:moveTo>
                <a:lnTo>
                  <a:pt x="11733" y="14299"/>
                </a:lnTo>
                <a:lnTo>
                  <a:pt x="11733" y="17989"/>
                </a:lnTo>
                <a:lnTo>
                  <a:pt x="16119" y="17989"/>
                </a:lnTo>
                <a:lnTo>
                  <a:pt x="16119" y="10800"/>
                </a:lnTo>
                <a:lnTo>
                  <a:pt x="5501" y="10800"/>
                </a:lnTo>
                <a:lnTo>
                  <a:pt x="5501" y="17989"/>
                </a:lnTo>
                <a:lnTo>
                  <a:pt x="9888" y="17989"/>
                </a:lnTo>
                <a:close/>
              </a:path>
            </a:pathLst>
          </a:cu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7724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ВТОРОЕ ПОКОЛЕНИЕ (1960-1964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" y="1066680"/>
            <a:ext cx="380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d4d4d"/>
                </a:solidFill>
                <a:latin typeface="Arial"/>
              </a:rPr>
              <a:t>Лентопротяжный механизм и магнитная лент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152280" y="1828800"/>
            <a:ext cx="1019160" cy="20574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1752480" y="1981080"/>
            <a:ext cx="1447920" cy="83340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1828800" y="2971800"/>
            <a:ext cx="1295280" cy="87012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4"/>
          <a:stretch/>
        </p:blipFill>
        <p:spPr>
          <a:xfrm>
            <a:off x="76320" y="3962520"/>
            <a:ext cx="3962160" cy="27432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4495680" y="1371600"/>
            <a:ext cx="0" cy="5181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5"/>
          <a:stretch/>
        </p:blipFill>
        <p:spPr>
          <a:xfrm>
            <a:off x="4724280" y="5410080"/>
            <a:ext cx="1676520" cy="104616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6"/>
          <a:stretch/>
        </p:blipFill>
        <p:spPr>
          <a:xfrm>
            <a:off x="5751360" y="1774800"/>
            <a:ext cx="2401920" cy="279720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7"/>
          <a:stretch/>
        </p:blipFill>
        <p:spPr>
          <a:xfrm>
            <a:off x="6705720" y="5257800"/>
            <a:ext cx="2286000" cy="116676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4495680" y="1143000"/>
            <a:ext cx="464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Магнитные диски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>
            <a:hlinkClick r:id="" action="ppaction://hlinkshowjump?jump=previousslide"/>
          </p:cNvPr>
          <p:cNvSpPr/>
          <p:nvPr/>
        </p:nvSpPr>
        <p:spPr>
          <a:xfrm flipH="1">
            <a:off x="800100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>
            <a:hlinkClick r:id="rId9" action="ppaction://hlinksldjump"/>
          </p:cNvPr>
          <p:cNvSpPr/>
          <p:nvPr/>
        </p:nvSpPr>
        <p:spPr>
          <a:xfrm>
            <a:off x="8381880" y="64771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10810" y="3837"/>
                </a:moveTo>
                <a:lnTo>
                  <a:pt x="13386" y="6448"/>
                </a:ln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lnTo>
                  <a:pt x="17773" y="10800"/>
                </a:lnTo>
                <a:lnTo>
                  <a:pt x="16119" y="10800"/>
                </a:lnTo>
                <a:lnTo>
                  <a:pt x="16119" y="17989"/>
                </a:lnTo>
                <a:lnTo>
                  <a:pt x="5501" y="17989"/>
                </a:lnTo>
                <a:lnTo>
                  <a:pt x="5501" y="10800"/>
                </a:lnTo>
                <a:lnTo>
                  <a:pt x="3847" y="10800"/>
                </a:lnTo>
                <a:close/>
              </a:path>
              <a:path fill="darkenLess" w="21620" h="21600">
                <a:moveTo>
                  <a:pt x="13386" y="6448"/>
                </a:move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close/>
              </a:path>
              <a:path fill="darkenLess" w="21620" h="21600">
                <a:moveTo>
                  <a:pt x="9888" y="14299"/>
                </a:moveTo>
                <a:lnTo>
                  <a:pt x="11733" y="14299"/>
                </a:lnTo>
                <a:lnTo>
                  <a:pt x="11733" y="17989"/>
                </a:lnTo>
                <a:lnTo>
                  <a:pt x="16119" y="17989"/>
                </a:lnTo>
                <a:lnTo>
                  <a:pt x="16119" y="10800"/>
                </a:lnTo>
                <a:lnTo>
                  <a:pt x="5501" y="10800"/>
                </a:lnTo>
                <a:lnTo>
                  <a:pt x="5501" y="17989"/>
                </a:lnTo>
                <a:lnTo>
                  <a:pt x="9888" y="17989"/>
                </a:lnTo>
                <a:close/>
              </a:path>
            </a:pathLst>
          </a:cu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371600" y="350640"/>
            <a:ext cx="7772400" cy="30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85800" y="1066680"/>
            <a:ext cx="7010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Машина  БЭСМ-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cамая быстродействующая в мире на том этап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cc"/>
                </a:solidFill>
                <a:latin typeface="Arial"/>
              </a:rPr>
              <a:t>ее быстродействие достигало 1 миллиона операций в секунд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086600" y="2362320"/>
            <a:ext cx="1828800" cy="12729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0" y="2951280"/>
            <a:ext cx="6553080" cy="3906720"/>
          </a:xfrm>
          <a:prstGeom prst="rect">
            <a:avLst/>
          </a:prstGeom>
          <a:ln w="0">
            <a:noFill/>
          </a:ln>
        </p:spPr>
      </p:pic>
      <p:sp>
        <p:nvSpPr>
          <p:cNvPr id="185" name="">
            <a:hlinkClick r:id="" action="ppaction://hlinkshowjump?jump=previousslide"/>
          </p:cNvPr>
          <p:cNvSpPr/>
          <p:nvPr/>
        </p:nvSpPr>
        <p:spPr>
          <a:xfrm flipH="1">
            <a:off x="800100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>
            <a:hlinkClick r:id="rId4" action="ppaction://hlinksldjump"/>
          </p:cNvPr>
          <p:cNvSpPr/>
          <p:nvPr/>
        </p:nvSpPr>
        <p:spPr>
          <a:xfrm>
            <a:off x="8381880" y="64771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10810" y="3837"/>
                </a:moveTo>
                <a:lnTo>
                  <a:pt x="13386" y="6448"/>
                </a:ln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lnTo>
                  <a:pt x="17773" y="10800"/>
                </a:lnTo>
                <a:lnTo>
                  <a:pt x="16119" y="10800"/>
                </a:lnTo>
                <a:lnTo>
                  <a:pt x="16119" y="17989"/>
                </a:lnTo>
                <a:lnTo>
                  <a:pt x="5501" y="17989"/>
                </a:lnTo>
                <a:lnTo>
                  <a:pt x="5501" y="10800"/>
                </a:lnTo>
                <a:lnTo>
                  <a:pt x="3847" y="10800"/>
                </a:lnTo>
                <a:close/>
              </a:path>
              <a:path fill="darkenLess" w="21620" h="21600">
                <a:moveTo>
                  <a:pt x="13386" y="6448"/>
                </a:move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close/>
              </a:path>
              <a:path fill="darkenLess" w="21620" h="21600">
                <a:moveTo>
                  <a:pt x="9888" y="14299"/>
                </a:moveTo>
                <a:lnTo>
                  <a:pt x="11733" y="14299"/>
                </a:lnTo>
                <a:lnTo>
                  <a:pt x="11733" y="17989"/>
                </a:lnTo>
                <a:lnTo>
                  <a:pt x="16119" y="17989"/>
                </a:lnTo>
                <a:lnTo>
                  <a:pt x="16119" y="10800"/>
                </a:lnTo>
                <a:lnTo>
                  <a:pt x="5501" y="10800"/>
                </a:lnTo>
                <a:lnTo>
                  <a:pt x="5501" y="17989"/>
                </a:lnTo>
                <a:lnTo>
                  <a:pt x="9888" y="17989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>
            <a:hlinkClick r:id="" action="ppaction://hlinkshowjump?jump=nextslide"/>
          </p:cNvPr>
          <p:cNvSpPr/>
          <p:nvPr/>
        </p:nvSpPr>
        <p:spPr>
          <a:xfrm>
            <a:off x="876312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7724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ТРЕТЬЕ ПОКОЛЕНИЕ (1964-197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80880" y="1828800"/>
            <a:ext cx="64008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Элементная база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- интегральные схемы, а вместо памяти на магнитных сердечниках - полупроводниковы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Быстродействие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- миллионы тысяч операций в секунд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Программное обеспечение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- была создана первая операционная систем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cc"/>
                </a:solidFill>
                <a:latin typeface="Arial"/>
              </a:rPr>
              <a:t>Интегральные схемы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содержат до  несколько десятков тысяч элементов на кристалл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6781680" y="3962520"/>
            <a:ext cx="2362320" cy="197784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6781680" y="1905120"/>
            <a:ext cx="1866960" cy="120960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3"/>
          <a:stretch/>
        </p:blipFill>
        <p:spPr>
          <a:xfrm>
            <a:off x="7772400" y="1066680"/>
            <a:ext cx="990720" cy="74628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4"/>
          <a:stretch/>
        </p:blipFill>
        <p:spPr>
          <a:xfrm>
            <a:off x="2057400" y="3505320"/>
            <a:ext cx="1371600" cy="30456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 txBox="1"/>
          <p:nvPr/>
        </p:nvSpPr>
        <p:spPr>
          <a:xfrm>
            <a:off x="838080" y="990720"/>
            <a:ext cx="66294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РЕТЬЕ ПОКОЛЕНИЕ 1964-1970 гг.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5" name="">
            <a:hlinkClick r:id="" action="ppaction://hlinkshowjump?jump=previousslide"/>
          </p:cNvPr>
          <p:cNvSpPr/>
          <p:nvPr/>
        </p:nvSpPr>
        <p:spPr>
          <a:xfrm flipH="1">
            <a:off x="800100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>
            <a:hlinkClick r:id="rId6" action="ppaction://hlinksldjump"/>
          </p:cNvPr>
          <p:cNvSpPr/>
          <p:nvPr/>
        </p:nvSpPr>
        <p:spPr>
          <a:xfrm>
            <a:off x="8381880" y="64771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10810" y="3837"/>
                </a:moveTo>
                <a:lnTo>
                  <a:pt x="13386" y="6448"/>
                </a:ln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lnTo>
                  <a:pt x="17773" y="10800"/>
                </a:lnTo>
                <a:lnTo>
                  <a:pt x="16119" y="10800"/>
                </a:lnTo>
                <a:lnTo>
                  <a:pt x="16119" y="17989"/>
                </a:lnTo>
                <a:lnTo>
                  <a:pt x="5501" y="17989"/>
                </a:lnTo>
                <a:lnTo>
                  <a:pt x="5501" y="10800"/>
                </a:lnTo>
                <a:lnTo>
                  <a:pt x="3847" y="10800"/>
                </a:lnTo>
                <a:close/>
              </a:path>
              <a:path fill="darkenLess" w="21620" h="21600">
                <a:moveTo>
                  <a:pt x="13386" y="6448"/>
                </a:move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close/>
              </a:path>
              <a:path fill="darkenLess" w="21620" h="21600">
                <a:moveTo>
                  <a:pt x="9888" y="14299"/>
                </a:moveTo>
                <a:lnTo>
                  <a:pt x="11733" y="14299"/>
                </a:lnTo>
                <a:lnTo>
                  <a:pt x="11733" y="17989"/>
                </a:lnTo>
                <a:lnTo>
                  <a:pt x="16119" y="17989"/>
                </a:lnTo>
                <a:lnTo>
                  <a:pt x="16119" y="10800"/>
                </a:lnTo>
                <a:lnTo>
                  <a:pt x="5501" y="10800"/>
                </a:lnTo>
                <a:lnTo>
                  <a:pt x="5501" y="17989"/>
                </a:lnTo>
                <a:lnTo>
                  <a:pt x="9888" y="17989"/>
                </a:lnTo>
                <a:close/>
              </a:path>
            </a:pathLst>
          </a:cu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>
            <a:hlinkClick r:id="" action="ppaction://hlinkshowjump?jump=nextslide"/>
          </p:cNvPr>
          <p:cNvSpPr/>
          <p:nvPr/>
        </p:nvSpPr>
        <p:spPr>
          <a:xfrm>
            <a:off x="876312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7724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ТРЕТЬЕ ПОКОЛЕНИЕ (1964-197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048120" y="1371600"/>
            <a:ext cx="586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Появляются семейства машин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ЕС ЭВ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2057400" cy="132732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3429000" y="3117960"/>
            <a:ext cx="5715000" cy="374004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3"/>
          <a:stretch/>
        </p:blipFill>
        <p:spPr>
          <a:xfrm>
            <a:off x="0" y="3124080"/>
            <a:ext cx="2587680" cy="3733920"/>
          </a:xfrm>
          <a:prstGeom prst="rect">
            <a:avLst/>
          </a:prstGeom>
          <a:ln w="0">
            <a:noFill/>
          </a:ln>
        </p:spPr>
      </p:pic>
      <p:sp>
        <p:nvSpPr>
          <p:cNvPr id="203" name="">
            <a:hlinkClick r:id="" action="ppaction://hlinkshowjump?jump=previousslide"/>
          </p:cNvPr>
          <p:cNvSpPr/>
          <p:nvPr/>
        </p:nvSpPr>
        <p:spPr>
          <a:xfrm flipH="1">
            <a:off x="800100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>
            <a:hlinkClick r:id="rId5" action="ppaction://hlinksldjump"/>
          </p:cNvPr>
          <p:cNvSpPr/>
          <p:nvPr/>
        </p:nvSpPr>
        <p:spPr>
          <a:xfrm>
            <a:off x="8381880" y="64771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10810" y="3837"/>
                </a:moveTo>
                <a:lnTo>
                  <a:pt x="13386" y="6448"/>
                </a:ln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lnTo>
                  <a:pt x="17773" y="10800"/>
                </a:lnTo>
                <a:lnTo>
                  <a:pt x="16119" y="10800"/>
                </a:lnTo>
                <a:lnTo>
                  <a:pt x="16119" y="17989"/>
                </a:lnTo>
                <a:lnTo>
                  <a:pt x="5501" y="17989"/>
                </a:lnTo>
                <a:lnTo>
                  <a:pt x="5501" y="10800"/>
                </a:lnTo>
                <a:lnTo>
                  <a:pt x="3847" y="10800"/>
                </a:lnTo>
                <a:close/>
              </a:path>
              <a:path fill="darkenLess" w="21620" h="21600">
                <a:moveTo>
                  <a:pt x="13386" y="6448"/>
                </a:move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close/>
              </a:path>
              <a:path fill="darkenLess" w="21620" h="21600">
                <a:moveTo>
                  <a:pt x="9888" y="14299"/>
                </a:moveTo>
                <a:lnTo>
                  <a:pt x="11733" y="14299"/>
                </a:lnTo>
                <a:lnTo>
                  <a:pt x="11733" y="17989"/>
                </a:lnTo>
                <a:lnTo>
                  <a:pt x="16119" y="17989"/>
                </a:lnTo>
                <a:lnTo>
                  <a:pt x="16119" y="10800"/>
                </a:lnTo>
                <a:lnTo>
                  <a:pt x="5501" y="10800"/>
                </a:lnTo>
                <a:lnTo>
                  <a:pt x="5501" y="17989"/>
                </a:lnTo>
                <a:lnTo>
                  <a:pt x="9888" y="17989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>
            <a:hlinkClick r:id="" action="ppaction://hlinkshowjump?jump=nextslide"/>
          </p:cNvPr>
          <p:cNvSpPr/>
          <p:nvPr/>
        </p:nvSpPr>
        <p:spPr>
          <a:xfrm>
            <a:off x="876312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7724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ЧЕТВЕРТОЕ ПОКОЛЕНИЕ (19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70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- наши дни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80880" y="1905120"/>
            <a:ext cx="762012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Элементная база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 -  БИС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Быстродействие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-</a:t>
            </a:r>
            <a:r>
              <a:rPr b="1" lang="ru-RU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несколько десятков и сотен миллионов операций в секунд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3333cc"/>
                </a:solidFill>
                <a:uFillTx/>
                <a:latin typeface="Arial"/>
              </a:rPr>
              <a:t>Программное обеспечение</a:t>
            </a:r>
            <a:r>
              <a:rPr b="1" lang="ru-RU" sz="2000" spc="-1" strike="noStrike">
                <a:solidFill>
                  <a:srgbClr val="3333cc"/>
                </a:solidFill>
                <a:latin typeface="Arial"/>
              </a:rPr>
              <a:t> – языки высокого уровн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Машины этого поколения классифицируются на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В нашей стране БК0010, АГАТ, ЯМАХА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5867280" y="4848120"/>
            <a:ext cx="3276720" cy="200988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3505320" y="4648320"/>
            <a:ext cx="1676160" cy="116208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838080" y="449568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cc"/>
                </a:solidFill>
                <a:latin typeface="Arial"/>
              </a:rPr>
              <a:t>сверхбольш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cc"/>
                </a:solidFill>
                <a:latin typeface="Arial"/>
              </a:rPr>
              <a:t>больш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cc"/>
                </a:solidFill>
                <a:latin typeface="Arial"/>
              </a:rPr>
              <a:t>мини-эвм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cc"/>
                </a:solidFill>
                <a:latin typeface="Arial"/>
              </a:rPr>
              <a:t>микро-эв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066680" y="2971800"/>
            <a:ext cx="304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d4d4d"/>
                </a:solidFill>
                <a:latin typeface="Arial"/>
                <a:ea typeface="Arial"/>
              </a:rPr>
              <a:t>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d4d4d"/>
                </a:solidFill>
                <a:latin typeface="Arial"/>
                <a:ea typeface="Arial"/>
              </a:rPr>
              <a:t>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d4d4d"/>
                </a:solidFill>
                <a:latin typeface="Arial"/>
                <a:ea typeface="Arial"/>
              </a:rPr>
              <a:t>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d4d4d"/>
                </a:solidFill>
                <a:latin typeface="Arial"/>
                <a:ea typeface="Arial"/>
              </a:rPr>
              <a:t>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7238880" y="2590920"/>
            <a:ext cx="1371600" cy="30456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4495680" y="1752480"/>
            <a:ext cx="1005120" cy="83844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 txBox="1"/>
          <p:nvPr/>
        </p:nvSpPr>
        <p:spPr>
          <a:xfrm>
            <a:off x="533520" y="990720"/>
            <a:ext cx="66294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ЧЕТВЕРТОЕ ПОКОЛЕНИЕ 1970 -... гг.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5" name="">
            <a:hlinkClick r:id="" action="ppaction://hlinkshowjump?jump=previousslide"/>
          </p:cNvPr>
          <p:cNvSpPr/>
          <p:nvPr/>
        </p:nvSpPr>
        <p:spPr>
          <a:xfrm flipH="1">
            <a:off x="800100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>
            <a:hlinkClick r:id="rId6" action="ppaction://hlinksldjump"/>
          </p:cNvPr>
          <p:cNvSpPr/>
          <p:nvPr/>
        </p:nvSpPr>
        <p:spPr>
          <a:xfrm>
            <a:off x="8381880" y="64771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10810" y="3837"/>
                </a:moveTo>
                <a:lnTo>
                  <a:pt x="13386" y="6448"/>
                </a:ln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lnTo>
                  <a:pt x="17773" y="10800"/>
                </a:lnTo>
                <a:lnTo>
                  <a:pt x="16119" y="10800"/>
                </a:lnTo>
                <a:lnTo>
                  <a:pt x="16119" y="17989"/>
                </a:lnTo>
                <a:lnTo>
                  <a:pt x="5501" y="17989"/>
                </a:lnTo>
                <a:lnTo>
                  <a:pt x="5501" y="10800"/>
                </a:lnTo>
                <a:lnTo>
                  <a:pt x="3847" y="10800"/>
                </a:lnTo>
                <a:close/>
              </a:path>
              <a:path fill="darkenLess" w="21620" h="21600">
                <a:moveTo>
                  <a:pt x="13386" y="6448"/>
                </a:move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close/>
              </a:path>
              <a:path fill="darkenLess" w="21620" h="21600">
                <a:moveTo>
                  <a:pt x="9888" y="14299"/>
                </a:moveTo>
                <a:lnTo>
                  <a:pt x="11733" y="14299"/>
                </a:lnTo>
                <a:lnTo>
                  <a:pt x="11733" y="17989"/>
                </a:lnTo>
                <a:lnTo>
                  <a:pt x="16119" y="17989"/>
                </a:lnTo>
                <a:lnTo>
                  <a:pt x="16119" y="10800"/>
                </a:lnTo>
                <a:lnTo>
                  <a:pt x="5501" y="10800"/>
                </a:lnTo>
                <a:lnTo>
                  <a:pt x="5501" y="17989"/>
                </a:lnTo>
                <a:lnTo>
                  <a:pt x="9888" y="17989"/>
                </a:lnTo>
                <a:close/>
              </a:path>
            </a:pathLst>
          </a:cu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>
            <a:hlinkClick r:id="" action="ppaction://hlinkshowjump?jump=nextslide"/>
          </p:cNvPr>
          <p:cNvSpPr/>
          <p:nvPr/>
        </p:nvSpPr>
        <p:spPr>
          <a:xfrm>
            <a:off x="876312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7724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ЯТОЕ ПОКОЛЕНИЕ (19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80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- наши дни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1523880" y="1981080"/>
            <a:ext cx="6858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Это машины будущего, они находятся в стадии разработок  и  отличительной чертой этого поколения будут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762120" y="3124080"/>
            <a:ext cx="949320" cy="165744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 txBox="1"/>
          <p:nvPr/>
        </p:nvSpPr>
        <p:spPr>
          <a:xfrm>
            <a:off x="838080" y="990720"/>
            <a:ext cx="66294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ЯТОЕ ПОКОЛЕНИЕ 1980-... гг.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2" name=""/>
          <p:cNvSpPr/>
          <p:nvPr/>
        </p:nvSpPr>
        <p:spPr>
          <a:xfrm>
            <a:off x="2129040" y="3505320"/>
            <a:ext cx="62611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cc"/>
                </a:solidFill>
                <a:latin typeface="Arial"/>
              </a:rPr>
              <a:t>новая технология производства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cc"/>
                </a:solidFill>
                <a:latin typeface="Arial"/>
              </a:rPr>
              <a:t>превращение в многопроцессорную систему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cc"/>
                </a:solidFill>
                <a:latin typeface="Arial"/>
              </a:rPr>
              <a:t>новые способы ввода информации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cc"/>
                </a:solidFill>
                <a:latin typeface="Arial"/>
              </a:rPr>
              <a:t>искусственный  интеллект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>
            <a:hlinkClick r:id="" action="ppaction://hlinkshowjump?jump=previousslide"/>
          </p:cNvPr>
          <p:cNvSpPr/>
          <p:nvPr/>
        </p:nvSpPr>
        <p:spPr>
          <a:xfrm flipH="1">
            <a:off x="800100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>
            <a:hlinkClick r:id="rId3" action="ppaction://hlinksldjump"/>
          </p:cNvPr>
          <p:cNvSpPr/>
          <p:nvPr/>
        </p:nvSpPr>
        <p:spPr>
          <a:xfrm>
            <a:off x="8381880" y="64771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10810" y="3837"/>
                </a:moveTo>
                <a:lnTo>
                  <a:pt x="13386" y="6448"/>
                </a:ln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lnTo>
                  <a:pt x="17773" y="10800"/>
                </a:lnTo>
                <a:lnTo>
                  <a:pt x="16119" y="10800"/>
                </a:lnTo>
                <a:lnTo>
                  <a:pt x="16119" y="17989"/>
                </a:lnTo>
                <a:lnTo>
                  <a:pt x="5501" y="17989"/>
                </a:lnTo>
                <a:lnTo>
                  <a:pt x="5501" y="10800"/>
                </a:lnTo>
                <a:lnTo>
                  <a:pt x="3847" y="10800"/>
                </a:lnTo>
                <a:close/>
              </a:path>
              <a:path fill="darkenLess" w="21620" h="21600">
                <a:moveTo>
                  <a:pt x="13386" y="6448"/>
                </a:move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close/>
              </a:path>
              <a:path fill="darkenLess" w="21620" h="21600">
                <a:moveTo>
                  <a:pt x="9888" y="14299"/>
                </a:moveTo>
                <a:lnTo>
                  <a:pt x="11733" y="14299"/>
                </a:lnTo>
                <a:lnTo>
                  <a:pt x="11733" y="17989"/>
                </a:lnTo>
                <a:lnTo>
                  <a:pt x="16119" y="17989"/>
                </a:lnTo>
                <a:lnTo>
                  <a:pt x="16119" y="10800"/>
                </a:lnTo>
                <a:lnTo>
                  <a:pt x="5501" y="10800"/>
                </a:lnTo>
                <a:lnTo>
                  <a:pt x="5501" y="17989"/>
                </a:lnTo>
                <a:lnTo>
                  <a:pt x="9888" y="17989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>
            <a:hlinkClick r:id="" action="ppaction://hlinkshowjump?jump=nextslide"/>
          </p:cNvPr>
          <p:cNvSpPr/>
          <p:nvPr/>
        </p:nvSpPr>
        <p:spPr>
          <a:xfrm>
            <a:off x="876312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7724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ИЗ ИСТОРИИ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048120" y="1219320"/>
            <a:ext cx="556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Лабораторная демонстрация первой интегральной схемы, состоявшаяся 12 сентября 1958г., навсегда вошла в историю информационных технологи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2280" y="5029200"/>
            <a:ext cx="5486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Килби придумал и построил первую электронную схему, в которой все компоненты, как активные, так и пассивные, были собраны на одной полупроводниковой основ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5715000" y="4307040"/>
            <a:ext cx="3429000" cy="255096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1066680" y="1905120"/>
            <a:ext cx="2116080" cy="2666880"/>
          </a:xfrm>
          <a:prstGeom prst="rect">
            <a:avLst/>
          </a:prstGeom>
          <a:ln w="0">
            <a:noFill/>
          </a:ln>
        </p:spPr>
      </p:pic>
      <p:sp>
        <p:nvSpPr>
          <p:cNvPr id="231" name="">
            <a:hlinkClick r:id="" action="ppaction://hlinkshowjump?jump=previousslide"/>
          </p:cNvPr>
          <p:cNvSpPr/>
          <p:nvPr/>
        </p:nvSpPr>
        <p:spPr>
          <a:xfrm flipH="1">
            <a:off x="800100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>
            <a:hlinkClick r:id="rId4" action="ppaction://hlinksldjump"/>
          </p:cNvPr>
          <p:cNvSpPr/>
          <p:nvPr/>
        </p:nvSpPr>
        <p:spPr>
          <a:xfrm>
            <a:off x="8381880" y="64771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10810" y="3837"/>
                </a:moveTo>
                <a:lnTo>
                  <a:pt x="13386" y="6448"/>
                </a:ln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lnTo>
                  <a:pt x="17773" y="10800"/>
                </a:lnTo>
                <a:lnTo>
                  <a:pt x="16119" y="10800"/>
                </a:lnTo>
                <a:lnTo>
                  <a:pt x="16119" y="17989"/>
                </a:lnTo>
                <a:lnTo>
                  <a:pt x="5501" y="17989"/>
                </a:lnTo>
                <a:lnTo>
                  <a:pt x="5501" y="10800"/>
                </a:lnTo>
                <a:lnTo>
                  <a:pt x="3847" y="10800"/>
                </a:lnTo>
                <a:close/>
              </a:path>
              <a:path fill="darkenLess" w="21620" h="21600">
                <a:moveTo>
                  <a:pt x="13386" y="6448"/>
                </a:move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close/>
              </a:path>
              <a:path fill="darkenLess" w="21620" h="21600">
                <a:moveTo>
                  <a:pt x="9888" y="14299"/>
                </a:moveTo>
                <a:lnTo>
                  <a:pt x="11733" y="14299"/>
                </a:lnTo>
                <a:lnTo>
                  <a:pt x="11733" y="17989"/>
                </a:lnTo>
                <a:lnTo>
                  <a:pt x="16119" y="17989"/>
                </a:lnTo>
                <a:lnTo>
                  <a:pt x="16119" y="10800"/>
                </a:lnTo>
                <a:lnTo>
                  <a:pt x="5501" y="10800"/>
                </a:lnTo>
                <a:lnTo>
                  <a:pt x="5501" y="17989"/>
                </a:lnTo>
                <a:lnTo>
                  <a:pt x="9888" y="17989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>
            <a:hlinkClick r:id="" action="ppaction://hlinkshowjump?jump=nextslide"/>
          </p:cNvPr>
          <p:cNvSpPr/>
          <p:nvPr/>
        </p:nvSpPr>
        <p:spPr>
          <a:xfrm>
            <a:off x="876312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4" name=""/>
          <p:cNvGraphicFramePr/>
          <p:nvPr/>
        </p:nvGraphicFramePr>
        <p:xfrm>
          <a:off x="95400" y="1143000"/>
          <a:ext cx="8953200" cy="5349960"/>
        </p:xfrm>
        <a:graphic>
          <a:graphicData uri="http://schemas.openxmlformats.org/drawingml/2006/table">
            <a:tbl>
              <a:tblPr/>
              <a:tblGrid>
                <a:gridCol w="1595160"/>
                <a:gridCol w="1363680"/>
                <a:gridCol w="1479600"/>
                <a:gridCol w="1478160"/>
                <a:gridCol w="1401480"/>
                <a:gridCol w="1635120"/>
              </a:tblGrid>
              <a:tr h="675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45-60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55-70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I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65 –80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75 –90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4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Элементная баз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Электронные ламп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ранзистор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тегральные схемы и большие интегральные схем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верхбольшие интегральные схемы; микропроцессор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птоэлектроника; криоэлектроник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ксимальное быстродействие процессора (опер/сек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-20 тыс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тыс.-1млн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млн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ru-RU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+ многроцессорност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+ многопроцессорност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ксимальная емкость ОЗ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en-US" sz="1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ериферийные устройства и носитель информ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ерфокарты и перфоленты; цифровая печат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гнитные барабаны и ленты; алфавитно-цифровая печат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нсоли; магнитные диски и ленты; дисплеи; графопостроител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Цветной графический дисплей; клавиатура; манипуляторы; принтеры; модем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стройства ввода с голосового устройства; чтение рукописного текста и пр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7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граммное обеспеч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иблиотеки стандартных программ; автокод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Языки программирования высокого уровня и транслятор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перационные системы; СУБД; пакеты прикладных програм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кладное ПО общего назначения; сетевое ПО; мультимеди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теллектуальные программные системы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4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имеры ЭВ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ЭСМ;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ЭСМ-1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ЭСМ-2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-220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ЭСМ-3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рал-14;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BM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360/370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ЭС ЭВМ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М ЭВ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ерсональные компьютеры: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BM</a:t>
                      </a: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РС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cintos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cceNT 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tlaNT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ga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5" name=""/>
          <p:cNvSpPr txBox="1"/>
          <p:nvPr/>
        </p:nvSpPr>
        <p:spPr>
          <a:xfrm>
            <a:off x="0" y="304920"/>
            <a:ext cx="91440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Характеристики поколений ЭВМ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236" name="">
            <a:hlinkClick r:id="" action="ppaction://hlinkshowjump?jump=previousslide"/>
          </p:cNvPr>
          <p:cNvSpPr/>
          <p:nvPr/>
        </p:nvSpPr>
        <p:spPr>
          <a:xfrm flipH="1">
            <a:off x="800100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>
            <a:hlinkClick r:id="rId4" action="ppaction://hlinksldjump"/>
          </p:cNvPr>
          <p:cNvSpPr/>
          <p:nvPr/>
        </p:nvSpPr>
        <p:spPr>
          <a:xfrm>
            <a:off x="8381880" y="64771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10810" y="3837"/>
                </a:moveTo>
                <a:lnTo>
                  <a:pt x="13386" y="6448"/>
                </a:ln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lnTo>
                  <a:pt x="17773" y="10800"/>
                </a:lnTo>
                <a:lnTo>
                  <a:pt x="16119" y="10800"/>
                </a:lnTo>
                <a:lnTo>
                  <a:pt x="16119" y="17989"/>
                </a:lnTo>
                <a:lnTo>
                  <a:pt x="5501" y="17989"/>
                </a:lnTo>
                <a:lnTo>
                  <a:pt x="5501" y="10800"/>
                </a:lnTo>
                <a:lnTo>
                  <a:pt x="3847" y="10800"/>
                </a:lnTo>
                <a:close/>
              </a:path>
              <a:path fill="darkenLess" w="21620" h="21600">
                <a:moveTo>
                  <a:pt x="13386" y="6448"/>
                </a:move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close/>
              </a:path>
              <a:path fill="darkenLess" w="21620" h="21600">
                <a:moveTo>
                  <a:pt x="9888" y="14299"/>
                </a:moveTo>
                <a:lnTo>
                  <a:pt x="11733" y="14299"/>
                </a:lnTo>
                <a:lnTo>
                  <a:pt x="11733" y="17989"/>
                </a:lnTo>
                <a:lnTo>
                  <a:pt x="16119" y="17989"/>
                </a:lnTo>
                <a:lnTo>
                  <a:pt x="16119" y="10800"/>
                </a:lnTo>
                <a:lnTo>
                  <a:pt x="5501" y="10800"/>
                </a:lnTo>
                <a:lnTo>
                  <a:pt x="5501" y="17989"/>
                </a:lnTo>
                <a:lnTo>
                  <a:pt x="9888" y="17989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>
            <a:hlinkClick r:id="" action="ppaction://hlinkshowjump?jump=nextslide"/>
          </p:cNvPr>
          <p:cNvSpPr/>
          <p:nvPr/>
        </p:nvSpPr>
        <p:spPr>
          <a:xfrm>
            <a:off x="876312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%D0%91%D0%B5%D0%B9%D1%81%D0%B1%D0%BE%D0%BB%20-%20%D0%B2%D1%8B%D1%85%D0%BE%D0%B4%20%D0%B8%D0%B7%20Window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7724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ПЕРВЫЙ СУММАТОР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523880" y="1219320"/>
            <a:ext cx="6248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Arial"/>
              </a:rPr>
              <a:t>Лабораторная демонстрация первой интегральной схемы, состоявшаяся 12 сентября 1958г., навсегда вошла в историю информационных технологий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523880" y="2590920"/>
            <a:ext cx="6248520" cy="4132080"/>
          </a:xfrm>
          <a:prstGeom prst="rect">
            <a:avLst/>
          </a:prstGeom>
          <a:ln w="0">
            <a:noFill/>
          </a:ln>
        </p:spPr>
      </p:pic>
      <p:sp>
        <p:nvSpPr>
          <p:cNvPr id="242" name="">
            <a:hlinkClick r:id="" action="ppaction://hlinkshowjump?jump=previousslide"/>
          </p:cNvPr>
          <p:cNvSpPr/>
          <p:nvPr/>
        </p:nvSpPr>
        <p:spPr>
          <a:xfrm flipH="1">
            <a:off x="800100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>
            <a:hlinkClick r:id="rId3" action="ppaction://hlinksldjump"/>
          </p:cNvPr>
          <p:cNvSpPr/>
          <p:nvPr/>
        </p:nvSpPr>
        <p:spPr>
          <a:xfrm>
            <a:off x="8381880" y="64771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10810" y="3837"/>
                </a:moveTo>
                <a:lnTo>
                  <a:pt x="13386" y="6448"/>
                </a:ln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lnTo>
                  <a:pt x="17773" y="10800"/>
                </a:lnTo>
                <a:lnTo>
                  <a:pt x="16119" y="10800"/>
                </a:lnTo>
                <a:lnTo>
                  <a:pt x="16119" y="17989"/>
                </a:lnTo>
                <a:lnTo>
                  <a:pt x="5501" y="17989"/>
                </a:lnTo>
                <a:lnTo>
                  <a:pt x="5501" y="10800"/>
                </a:lnTo>
                <a:lnTo>
                  <a:pt x="3847" y="10800"/>
                </a:lnTo>
                <a:close/>
              </a:path>
              <a:path fill="darkenLess" w="21620" h="21600">
                <a:moveTo>
                  <a:pt x="13386" y="6448"/>
                </a:move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close/>
              </a:path>
              <a:path fill="darkenLess" w="21620" h="21600">
                <a:moveTo>
                  <a:pt x="9888" y="14299"/>
                </a:moveTo>
                <a:lnTo>
                  <a:pt x="11733" y="14299"/>
                </a:lnTo>
                <a:lnTo>
                  <a:pt x="11733" y="17989"/>
                </a:lnTo>
                <a:lnTo>
                  <a:pt x="16119" y="17989"/>
                </a:lnTo>
                <a:lnTo>
                  <a:pt x="16119" y="10800"/>
                </a:lnTo>
                <a:lnTo>
                  <a:pt x="5501" y="10800"/>
                </a:lnTo>
                <a:lnTo>
                  <a:pt x="5501" y="17989"/>
                </a:lnTo>
                <a:lnTo>
                  <a:pt x="9888" y="17989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>
            <a:hlinkClick r:id="" action="ppaction://hlinkshowjump?jump=nextslide"/>
          </p:cNvPr>
          <p:cNvSpPr/>
          <p:nvPr/>
        </p:nvSpPr>
        <p:spPr>
          <a:xfrm>
            <a:off x="876312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7724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NIA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2209680"/>
            <a:ext cx="7924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В 40-х годах произошел коренной переворот  в вычислительной технике. В 40-х годах 20 века в университете США в городе Пенсильвания  была построена полностью электронно –цифровая маши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80880" y="4419720"/>
            <a:ext cx="426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cc"/>
                </a:solidFill>
                <a:latin typeface="Arial"/>
              </a:rPr>
              <a:t>Эта машина весила 30 тон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029200"/>
            <a:ext cx="358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cc"/>
                </a:solidFill>
                <a:latin typeface="Arial"/>
              </a:rPr>
              <a:t>Занимала площадь 200 м</a:t>
            </a:r>
            <a:r>
              <a:rPr b="1" i="1" lang="en-US" sz="2000" spc="-1" strike="noStrike" baseline="30000">
                <a:solidFill>
                  <a:srgbClr val="3333cc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5638680"/>
            <a:ext cx="487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3333cc"/>
                </a:solidFill>
                <a:latin typeface="Arial"/>
              </a:rPr>
              <a:t>В ней было более 18000 радиоламп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5029200" y="4038480"/>
            <a:ext cx="3124080" cy="23464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 txBox="1"/>
          <p:nvPr/>
        </p:nvSpPr>
        <p:spPr>
          <a:xfrm>
            <a:off x="685800" y="914400"/>
            <a:ext cx="775332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ервая электронная машина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ENIAK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71" name="">
            <a:hlinkClick r:id="rId2" action="ppaction://hlinksldjump"/>
          </p:cNvPr>
          <p:cNvSpPr/>
          <p:nvPr/>
        </p:nvSpPr>
        <p:spPr>
          <a:xfrm>
            <a:off x="8381880" y="64771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10810" y="3837"/>
                </a:moveTo>
                <a:lnTo>
                  <a:pt x="13386" y="6448"/>
                </a:ln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lnTo>
                  <a:pt x="17773" y="10800"/>
                </a:lnTo>
                <a:lnTo>
                  <a:pt x="16119" y="10800"/>
                </a:lnTo>
                <a:lnTo>
                  <a:pt x="16119" y="17989"/>
                </a:lnTo>
                <a:lnTo>
                  <a:pt x="5501" y="17989"/>
                </a:lnTo>
                <a:lnTo>
                  <a:pt x="5501" y="10800"/>
                </a:lnTo>
                <a:lnTo>
                  <a:pt x="3847" y="10800"/>
                </a:lnTo>
                <a:close/>
              </a:path>
              <a:path fill="darkenLess" w="21620" h="21600">
                <a:moveTo>
                  <a:pt x="13386" y="6448"/>
                </a:move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close/>
              </a:path>
              <a:path fill="darkenLess" w="21620" h="21600">
                <a:moveTo>
                  <a:pt x="9888" y="14299"/>
                </a:moveTo>
                <a:lnTo>
                  <a:pt x="11733" y="14299"/>
                </a:lnTo>
                <a:lnTo>
                  <a:pt x="11733" y="17989"/>
                </a:lnTo>
                <a:lnTo>
                  <a:pt x="16119" y="17989"/>
                </a:lnTo>
                <a:lnTo>
                  <a:pt x="16119" y="10800"/>
                </a:lnTo>
                <a:lnTo>
                  <a:pt x="5501" y="10800"/>
                </a:lnTo>
                <a:lnTo>
                  <a:pt x="5501" y="17989"/>
                </a:lnTo>
                <a:lnTo>
                  <a:pt x="9888" y="17989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>
            <a:hlinkClick r:id="" action="ppaction://hlinkshowjump?jump=previousslide"/>
          </p:cNvPr>
          <p:cNvSpPr/>
          <p:nvPr/>
        </p:nvSpPr>
        <p:spPr>
          <a:xfrm flipH="1">
            <a:off x="800100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>
            <a:hlinkClick r:id="" action="ppaction://hlinkshowjump?jump=nextslide"/>
          </p:cNvPr>
          <p:cNvSpPr/>
          <p:nvPr/>
        </p:nvSpPr>
        <p:spPr>
          <a:xfrm>
            <a:off x="876312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533520" y="1295280"/>
            <a:ext cx="6781680" cy="36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1945г. – Джон Моучли и Джон Экер разработали первую  электронную машину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IAC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1951г. – Сергей Александрович Лебедев разработал первую отечественную машину МЭСМ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1968г. – фирма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rroughs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ыпустила первый компьютер на интегральных схемах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1971г. – появился первый микропроцессор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l-4004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1974г. – компания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IPS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выпустила первый коммерчески распространяемый персональный компьютер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tair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а базе процессора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              Intel-8080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. Объем памяти 256 байт, клавиатура и дисплей отсутствовали. Носители информации – перфоленты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7543800" y="3886200"/>
            <a:ext cx="1096920" cy="7509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533520" y="5029200"/>
            <a:ext cx="5695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1976г. – фирма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pple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выпустила компьютер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pple-I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, представляющий собой деревянный ящик с электронными компонентами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2"/>
          <a:stretch/>
        </p:blipFill>
        <p:spPr>
          <a:xfrm>
            <a:off x="6172200" y="4952880"/>
            <a:ext cx="1066680" cy="77148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>
            <a:off x="685800" y="6095880"/>
            <a:ext cx="5029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1981г. – фирма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BM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выпустила компьютер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BM PC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, основанный на принципе открытой архитектуры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838080" y="838080"/>
            <a:ext cx="638676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latin typeface="Arial"/>
              </a:rPr>
              <a:t>сводная таблица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251" name="">
            <a:hlinkClick r:id="" action="ppaction://hlinkshowjump?jump=previousslide"/>
          </p:cNvPr>
          <p:cNvSpPr/>
          <p:nvPr/>
        </p:nvSpPr>
        <p:spPr>
          <a:xfrm flipH="1">
            <a:off x="800100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>
            <a:hlinkClick r:id="rId4" action="ppaction://hlinksldjump"/>
          </p:cNvPr>
          <p:cNvSpPr/>
          <p:nvPr/>
        </p:nvSpPr>
        <p:spPr>
          <a:xfrm>
            <a:off x="8381880" y="64771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10810" y="3837"/>
                </a:moveTo>
                <a:lnTo>
                  <a:pt x="13386" y="6448"/>
                </a:ln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lnTo>
                  <a:pt x="17773" y="10800"/>
                </a:lnTo>
                <a:lnTo>
                  <a:pt x="16119" y="10800"/>
                </a:lnTo>
                <a:lnTo>
                  <a:pt x="16119" y="17989"/>
                </a:lnTo>
                <a:lnTo>
                  <a:pt x="5501" y="17989"/>
                </a:lnTo>
                <a:lnTo>
                  <a:pt x="5501" y="10800"/>
                </a:lnTo>
                <a:lnTo>
                  <a:pt x="3847" y="10800"/>
                </a:lnTo>
                <a:close/>
              </a:path>
              <a:path fill="darkenLess" w="21620" h="21600">
                <a:moveTo>
                  <a:pt x="13386" y="6448"/>
                </a:move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close/>
              </a:path>
              <a:path fill="darkenLess" w="21620" h="21600">
                <a:moveTo>
                  <a:pt x="9888" y="14299"/>
                </a:moveTo>
                <a:lnTo>
                  <a:pt x="11733" y="14299"/>
                </a:lnTo>
                <a:lnTo>
                  <a:pt x="11733" y="17989"/>
                </a:lnTo>
                <a:lnTo>
                  <a:pt x="16119" y="17989"/>
                </a:lnTo>
                <a:lnTo>
                  <a:pt x="16119" y="10800"/>
                </a:lnTo>
                <a:lnTo>
                  <a:pt x="5501" y="10800"/>
                </a:lnTo>
                <a:lnTo>
                  <a:pt x="5501" y="17989"/>
                </a:lnTo>
                <a:lnTo>
                  <a:pt x="9888" y="17989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%D0%9F%D1%83%D1%82%D0%B5%D1%88%D0%B5%D1%81%D1%82%D0%B2%D0%B8%D1%8F%20-%20%D0%B2%D0%BE%D0%BF%D1%80%D0%BE%D1%8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3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000"/>
                            </p:stCondLst>
                            <p:childTnLst>
                              <p:par>
                                <p:cTn id="9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500"/>
                            </p:stCondLst>
                            <p:childTnLst>
                              <p:par>
                                <p:cTn id="99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%D0%9F%D1%83%D1%82%D0%B5%D1%88%D0%B5%D1%81%D1%82%D0%B2%D0%B8%D1%8F%20-%20%D0%B2%D0%BE%D0%BF%D1%80%D0%BE%D1%8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2000"/>
                            </p:stCondLst>
                            <p:childTnLst>
                              <p:par>
                                <p:cTn id="10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7724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ПЕРВОЕ ПОКОЛЕНИЕ (1946-196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838080" y="1981080"/>
            <a:ext cx="79250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3333cc"/>
                </a:solidFill>
                <a:uFillTx/>
                <a:latin typeface="Arial"/>
              </a:rPr>
              <a:t>Элементная база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- на электронных лампа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3333cc"/>
                </a:solidFill>
                <a:uFillTx/>
                <a:latin typeface="Arial"/>
              </a:rPr>
              <a:t>Быстродействие</a:t>
            </a:r>
            <a:r>
              <a:rPr b="1" lang="en-US" sz="2400" spc="-1" strike="noStrike" u="sng">
                <a:solidFill>
                  <a:srgbClr val="3333cc"/>
                </a:solidFill>
                <a:uFillTx/>
                <a:latin typeface="Arial"/>
              </a:rPr>
              <a:t>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-10-20 тыс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3333cc"/>
                </a:solidFill>
                <a:uFillTx/>
                <a:latin typeface="Arial"/>
              </a:rPr>
              <a:t>Программные средства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- были представлены машинным языко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5715000" y="4724280"/>
            <a:ext cx="1709640" cy="18288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6172200" y="3200400"/>
            <a:ext cx="1371600" cy="3049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7848720" y="1676520"/>
            <a:ext cx="415800" cy="8427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4"/>
          <a:stretch/>
        </p:blipFill>
        <p:spPr>
          <a:xfrm>
            <a:off x="8305920" y="2057400"/>
            <a:ext cx="380880" cy="6192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 txBox="1"/>
          <p:nvPr/>
        </p:nvSpPr>
        <p:spPr>
          <a:xfrm>
            <a:off x="838080" y="990720"/>
            <a:ext cx="662940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ЕРВОЕ ПОКОЛЕНИЕ 1946-1960 гг.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1" name="">
            <a:hlinkClick r:id="" action="ppaction://hlinkshowjump?jump=previousslide"/>
          </p:cNvPr>
          <p:cNvSpPr/>
          <p:nvPr/>
        </p:nvSpPr>
        <p:spPr>
          <a:xfrm flipH="1">
            <a:off x="800100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>
            <a:hlinkClick r:id="rId6" action="ppaction://hlinksldjump"/>
          </p:cNvPr>
          <p:cNvSpPr/>
          <p:nvPr/>
        </p:nvSpPr>
        <p:spPr>
          <a:xfrm>
            <a:off x="8381880" y="64771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10810" y="3837"/>
                </a:moveTo>
                <a:lnTo>
                  <a:pt x="13386" y="6448"/>
                </a:ln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lnTo>
                  <a:pt x="17773" y="10800"/>
                </a:lnTo>
                <a:lnTo>
                  <a:pt x="16119" y="10800"/>
                </a:lnTo>
                <a:lnTo>
                  <a:pt x="16119" y="17989"/>
                </a:lnTo>
                <a:lnTo>
                  <a:pt x="5501" y="17989"/>
                </a:lnTo>
                <a:lnTo>
                  <a:pt x="5501" y="10800"/>
                </a:lnTo>
                <a:lnTo>
                  <a:pt x="3847" y="10800"/>
                </a:lnTo>
                <a:close/>
              </a:path>
              <a:path fill="darkenLess" w="21620" h="21600">
                <a:moveTo>
                  <a:pt x="13386" y="6448"/>
                </a:move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close/>
              </a:path>
              <a:path fill="darkenLess" w="21620" h="21600">
                <a:moveTo>
                  <a:pt x="9888" y="14299"/>
                </a:moveTo>
                <a:lnTo>
                  <a:pt x="11733" y="14299"/>
                </a:lnTo>
                <a:lnTo>
                  <a:pt x="11733" y="17989"/>
                </a:lnTo>
                <a:lnTo>
                  <a:pt x="16119" y="17989"/>
                </a:lnTo>
                <a:lnTo>
                  <a:pt x="16119" y="10800"/>
                </a:lnTo>
                <a:lnTo>
                  <a:pt x="5501" y="10800"/>
                </a:lnTo>
                <a:lnTo>
                  <a:pt x="5501" y="17989"/>
                </a:lnTo>
                <a:lnTo>
                  <a:pt x="9888" y="17989"/>
                </a:lnTo>
                <a:close/>
              </a:path>
            </a:pathLst>
          </a:cu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>
            <a:hlinkClick r:id="" action="ppaction://hlinkshowjump?jump=nextslide"/>
          </p:cNvPr>
          <p:cNvSpPr/>
          <p:nvPr/>
        </p:nvSpPr>
        <p:spPr>
          <a:xfrm>
            <a:off x="876312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647640" y="2666880"/>
            <a:ext cx="7848720" cy="3505320"/>
            <a:chOff x="647640" y="2666880"/>
            <a:chExt cx="7848720" cy="3505320"/>
          </a:xfrm>
        </p:grpSpPr>
        <p:sp>
          <p:nvSpPr>
            <p:cNvPr id="85" name=""/>
            <p:cNvSpPr/>
            <p:nvPr/>
          </p:nvSpPr>
          <p:spPr>
            <a:xfrm>
              <a:off x="1371600" y="4114800"/>
              <a:ext cx="1427040" cy="690480"/>
            </a:xfrm>
            <a:prstGeom prst="rect">
              <a:avLst/>
            </a:prstGeom>
            <a:solidFill>
              <a:srgbClr val="96969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УВВ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47640" y="4386240"/>
              <a:ext cx="7146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789280" y="4386240"/>
              <a:ext cx="593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382920" y="3706920"/>
              <a:ext cx="2854440" cy="1427040"/>
            </a:xfrm>
            <a:prstGeom prst="rect">
              <a:avLst/>
            </a:prstGeom>
            <a:solidFill>
              <a:srgbClr val="96969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ЗУ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Результат       Программы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imes New Roman"/>
                </a:rPr>
                <a:t>Данные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382920" y="5392800"/>
              <a:ext cx="2854440" cy="779400"/>
            </a:xfrm>
            <a:prstGeom prst="rect">
              <a:avLst/>
            </a:prstGeom>
            <a:solidFill>
              <a:srgbClr val="96969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АЛУ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V="1">
              <a:off x="3978360" y="5165280"/>
              <a:ext cx="0" cy="260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403960" y="5165640"/>
              <a:ext cx="0" cy="260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237360" y="4484520"/>
              <a:ext cx="476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713640" y="4095720"/>
              <a:ext cx="1189080" cy="690480"/>
            </a:xfrm>
            <a:prstGeom prst="rect">
              <a:avLst/>
            </a:prstGeom>
            <a:solidFill>
              <a:srgbClr val="96969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Times New Roman"/>
                </a:rPr>
                <a:t>Увыв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02720" y="4484520"/>
              <a:ext cx="593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V="1">
              <a:off x="3978360" y="3446280"/>
              <a:ext cx="0" cy="260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403960" y="3446640"/>
              <a:ext cx="0" cy="260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999040" y="3219480"/>
              <a:ext cx="476280" cy="2336760"/>
            </a:xfrm>
            <a:custGeom>
              <a:avLst/>
              <a:gdLst/>
              <a:ahLst/>
              <a:rect l="l" t="t" r="r" b="b"/>
              <a:pathLst>
                <a:path w="312" h="1296">
                  <a:moveTo>
                    <a:pt x="0" y="0"/>
                  </a:moveTo>
                  <a:cubicBezTo>
                    <a:pt x="48" y="36"/>
                    <a:pt x="96" y="72"/>
                    <a:pt x="144" y="144"/>
                  </a:cubicBezTo>
                  <a:cubicBezTo>
                    <a:pt x="192" y="216"/>
                    <a:pt x="264" y="288"/>
                    <a:pt x="288" y="432"/>
                  </a:cubicBezTo>
                  <a:cubicBezTo>
                    <a:pt x="312" y="576"/>
                    <a:pt x="312" y="864"/>
                    <a:pt x="288" y="1008"/>
                  </a:cubicBezTo>
                  <a:cubicBezTo>
                    <a:pt x="264" y="1152"/>
                    <a:pt x="168" y="1248"/>
                    <a:pt x="144" y="1296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80240" y="2828880"/>
              <a:ext cx="833400" cy="2857680"/>
            </a:xfrm>
            <a:custGeom>
              <a:avLst/>
              <a:gdLst/>
              <a:ahLst/>
              <a:rect l="l" t="t" r="r" b="b"/>
              <a:pathLst>
                <a:path w="312" h="1296">
                  <a:moveTo>
                    <a:pt x="0" y="0"/>
                  </a:moveTo>
                  <a:cubicBezTo>
                    <a:pt x="48" y="36"/>
                    <a:pt x="96" y="72"/>
                    <a:pt x="144" y="144"/>
                  </a:cubicBezTo>
                  <a:cubicBezTo>
                    <a:pt x="192" y="216"/>
                    <a:pt x="264" y="288"/>
                    <a:pt x="288" y="432"/>
                  </a:cubicBezTo>
                  <a:cubicBezTo>
                    <a:pt x="312" y="576"/>
                    <a:pt x="312" y="864"/>
                    <a:pt x="288" y="1008"/>
                  </a:cubicBezTo>
                  <a:cubicBezTo>
                    <a:pt x="264" y="1152"/>
                    <a:pt x="168" y="1248"/>
                    <a:pt x="144" y="1296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22760" y="2927520"/>
              <a:ext cx="35748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flipV="1">
              <a:off x="5761080" y="2796840"/>
              <a:ext cx="0" cy="25884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761080" y="3186000"/>
              <a:ext cx="119160" cy="13032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880240" y="3316320"/>
              <a:ext cx="0" cy="260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761080" y="3186000"/>
              <a:ext cx="237960" cy="2606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flipH="1">
              <a:off x="5880240" y="3186000"/>
              <a:ext cx="118800" cy="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880240" y="2927520"/>
              <a:ext cx="0" cy="25848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641920" y="3056040"/>
              <a:ext cx="23832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382920" y="2666880"/>
              <a:ext cx="2854440" cy="779760"/>
            </a:xfrm>
            <a:prstGeom prst="rect">
              <a:avLst/>
            </a:prstGeom>
            <a:solidFill>
              <a:srgbClr val="96969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УУ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6237360" y="5554800"/>
              <a:ext cx="117360" cy="129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flipH="1" flipV="1">
              <a:off x="6237360" y="3477960"/>
              <a:ext cx="117360" cy="260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" name=""/>
          <p:cNvSpPr/>
          <p:nvPr/>
        </p:nvSpPr>
        <p:spPr>
          <a:xfrm>
            <a:off x="609480" y="1371600"/>
            <a:ext cx="7925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Lucida Grande"/>
                <a:ea typeface="Times New Roman"/>
              </a:rPr>
              <a:t>Машины</a:t>
            </a:r>
            <a:r>
              <a:rPr b="1" i="1" lang="en-US" sz="2000" spc="-1" strike="noStrike">
                <a:solidFill>
                  <a:srgbClr val="000000"/>
                </a:solidFill>
                <a:latin typeface="Wide Latin"/>
                <a:ea typeface="Times New Roman"/>
              </a:rPr>
              <a:t> 1</a:t>
            </a:r>
            <a:r>
              <a:rPr b="1" i="1" lang="en-US" sz="2000" spc="-1" strike="noStrike">
                <a:solidFill>
                  <a:srgbClr val="000000"/>
                </a:solidFill>
                <a:latin typeface="Lucida Grande"/>
                <a:ea typeface="Times New Roman"/>
              </a:rPr>
              <a:t>поколени</a:t>
            </a:r>
            <a:r>
              <a:rPr b="1" i="1" lang="en-US" sz="2000" spc="-1" strike="noStrike">
                <a:solidFill>
                  <a:srgbClr val="000000"/>
                </a:solidFill>
                <a:latin typeface="Lucida Grande"/>
              </a:rPr>
              <a:t>я</a:t>
            </a:r>
            <a:r>
              <a:rPr b="1" i="1" lang="en-US" sz="2000" spc="-1" strike="noStrike">
                <a:solidFill>
                  <a:srgbClr val="000000"/>
                </a:solidFill>
                <a:latin typeface="Wide Latin"/>
                <a:ea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Lucida Grande"/>
                <a:ea typeface="Times New Roman"/>
              </a:rPr>
              <a:t>имели</a:t>
            </a:r>
            <a:r>
              <a:rPr b="1" i="1" lang="en-US" sz="2000" spc="-1" strike="noStrike">
                <a:solidFill>
                  <a:srgbClr val="000000"/>
                </a:solidFill>
                <a:latin typeface="Wide Latin"/>
                <a:ea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Lucida Grande"/>
                <a:ea typeface="Times New Roman"/>
              </a:rPr>
              <a:t>структуру</a:t>
            </a:r>
            <a:r>
              <a:rPr b="1" i="1" lang="en-US" sz="2000" spc="-1" strike="noStrike">
                <a:solidFill>
                  <a:srgbClr val="000000"/>
                </a:solidFill>
                <a:latin typeface="Wide Latin"/>
                <a:ea typeface="Times New Roman"/>
              </a:rPr>
              <a:t>, </a:t>
            </a:r>
            <a:r>
              <a:rPr b="1" i="1" lang="en-US" sz="2000" spc="-1" strike="noStrike">
                <a:solidFill>
                  <a:srgbClr val="000000"/>
                </a:solidFill>
                <a:latin typeface="Lucida Grande"/>
                <a:ea typeface="Times New Roman"/>
              </a:rPr>
              <a:t>названную</a:t>
            </a:r>
            <a:r>
              <a:rPr b="1" i="1" lang="en-US" sz="2000" spc="-1" strike="noStrike">
                <a:solidFill>
                  <a:srgbClr val="000000"/>
                </a:solidFill>
                <a:latin typeface="Wide Latin"/>
                <a:ea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Lucida Grande"/>
                <a:ea typeface="Times New Roman"/>
              </a:rPr>
              <a:t>классической</a:t>
            </a:r>
            <a:r>
              <a:rPr b="1" i="1" lang="en-US" sz="2000" spc="-1" strike="noStrike">
                <a:solidFill>
                  <a:srgbClr val="000000"/>
                </a:solidFill>
                <a:latin typeface="Wide Latin"/>
                <a:ea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Lucida Grande"/>
                <a:ea typeface="Times New Roman"/>
              </a:rPr>
              <a:t>или</a:t>
            </a:r>
            <a:r>
              <a:rPr b="1" i="1" lang="en-US" sz="2000" spc="-1" strike="noStrike">
                <a:solidFill>
                  <a:srgbClr val="000000"/>
                </a:solidFill>
                <a:latin typeface="Wide Latin"/>
                <a:ea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Lucida Grande"/>
                <a:ea typeface="Times New Roman"/>
              </a:rPr>
              <a:t>структурой</a:t>
            </a:r>
            <a:r>
              <a:rPr b="1" i="1" lang="en-US" sz="2000" spc="-1" strike="noStrike">
                <a:solidFill>
                  <a:srgbClr val="000000"/>
                </a:solidFill>
                <a:latin typeface="Wide Latin"/>
                <a:ea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Lucida Grande"/>
                <a:ea typeface="Times New Roman"/>
              </a:rPr>
              <a:t>фон</a:t>
            </a:r>
            <a:r>
              <a:rPr b="1" i="1" lang="en-US" sz="2000" spc="-1" strike="noStrike">
                <a:solidFill>
                  <a:srgbClr val="000000"/>
                </a:solidFill>
                <a:latin typeface="Wide Latin"/>
                <a:ea typeface="Times New Roman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Lucida Grande"/>
                <a:ea typeface="Times New Roman"/>
              </a:rPr>
              <a:t>Неймана</a:t>
            </a:r>
            <a:r>
              <a:rPr b="1" i="1" lang="en-US" sz="2000" spc="-1" strike="noStrike">
                <a:solidFill>
                  <a:srgbClr val="000000"/>
                </a:solidFill>
                <a:latin typeface="Wide Latin"/>
                <a:ea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523880" y="990720"/>
            <a:ext cx="517392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77777"/>
                    </a:gs>
                    <a:gs pos="100000">
                      <a:srgbClr val="333333"/>
                    </a:gs>
                  </a:gsLst>
                  <a:lin ang="5400000"/>
                </a:gradFill>
                <a:latin typeface="Arial"/>
              </a:rPr>
              <a:t>Структура фон Неймана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77777"/>
                  </a:gs>
                  <a:gs pos="100000">
                    <a:srgbClr val="333333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2" name="">
            <a:hlinkClick r:id="" action="ppaction://hlinkshowjump?jump=previousslide"/>
          </p:cNvPr>
          <p:cNvSpPr/>
          <p:nvPr/>
        </p:nvSpPr>
        <p:spPr>
          <a:xfrm flipH="1">
            <a:off x="800100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>
            <a:hlinkClick r:id="rId2" action="ppaction://hlinksldjump"/>
          </p:cNvPr>
          <p:cNvSpPr/>
          <p:nvPr/>
        </p:nvSpPr>
        <p:spPr>
          <a:xfrm>
            <a:off x="8381880" y="64771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10810" y="3837"/>
                </a:moveTo>
                <a:lnTo>
                  <a:pt x="13386" y="6448"/>
                </a:ln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lnTo>
                  <a:pt x="17773" y="10800"/>
                </a:lnTo>
                <a:lnTo>
                  <a:pt x="16119" y="10800"/>
                </a:lnTo>
                <a:lnTo>
                  <a:pt x="16119" y="17989"/>
                </a:lnTo>
                <a:lnTo>
                  <a:pt x="5501" y="17989"/>
                </a:lnTo>
                <a:lnTo>
                  <a:pt x="5501" y="10800"/>
                </a:lnTo>
                <a:lnTo>
                  <a:pt x="3847" y="10800"/>
                </a:lnTo>
                <a:close/>
              </a:path>
              <a:path fill="darkenLess" w="21620" h="21600">
                <a:moveTo>
                  <a:pt x="13386" y="6448"/>
                </a:move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close/>
              </a:path>
              <a:path fill="darkenLess" w="21620" h="21600">
                <a:moveTo>
                  <a:pt x="9888" y="14299"/>
                </a:moveTo>
                <a:lnTo>
                  <a:pt x="11733" y="14299"/>
                </a:lnTo>
                <a:lnTo>
                  <a:pt x="11733" y="17989"/>
                </a:lnTo>
                <a:lnTo>
                  <a:pt x="16119" y="17989"/>
                </a:lnTo>
                <a:lnTo>
                  <a:pt x="16119" y="10800"/>
                </a:lnTo>
                <a:lnTo>
                  <a:pt x="5501" y="10800"/>
                </a:lnTo>
                <a:lnTo>
                  <a:pt x="5501" y="17989"/>
                </a:lnTo>
                <a:lnTo>
                  <a:pt x="9888" y="17989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>
            <a:hlinkClick r:id="" action="ppaction://hlinkshowjump?jump=nextslide"/>
          </p:cNvPr>
          <p:cNvSpPr/>
          <p:nvPr/>
        </p:nvSpPr>
        <p:spPr>
          <a:xfrm>
            <a:off x="876312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723960" y="1371600"/>
            <a:ext cx="7696080" cy="49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УВВ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стройство ввода. Вводит и кодирует информацию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АЛУ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арифметико-логическое устройство. Обрабатывает арифметическую и логическую информацию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ЗУ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запоминающее устройство. Хранит данные, программу и результаты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УУ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устройство управления. Управляет работой всех устройств и ходом обработки информаци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cc"/>
                </a:solidFill>
                <a:latin typeface="Times New Roman"/>
              </a:rPr>
              <a:t>Увыв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тройство вывода. Выводит информацию, раскодирует ее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1600200" y="914400"/>
            <a:ext cx="556272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33cc"/>
                    </a:gs>
                    <a:gs pos="100000">
                      <a:srgbClr val="ccecff"/>
                    </a:gs>
                  </a:gsLst>
                  <a:lin ang="5400000"/>
                </a:gradFill>
                <a:latin typeface="Arial"/>
              </a:rPr>
              <a:t>Устройства 1го поколения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33cc"/>
                  </a:gs>
                  <a:gs pos="100000">
                    <a:srgbClr val="ccec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7" name="">
            <a:hlinkClick r:id="" action="ppaction://hlinkshowjump?jump=previousslide"/>
          </p:cNvPr>
          <p:cNvSpPr/>
          <p:nvPr/>
        </p:nvSpPr>
        <p:spPr>
          <a:xfrm flipH="1">
            <a:off x="800100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>
            <a:hlinkClick r:id="rId2" action="ppaction://hlinksldjump"/>
          </p:cNvPr>
          <p:cNvSpPr/>
          <p:nvPr/>
        </p:nvSpPr>
        <p:spPr>
          <a:xfrm>
            <a:off x="8381880" y="64771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10810" y="3837"/>
                </a:moveTo>
                <a:lnTo>
                  <a:pt x="13386" y="6448"/>
                </a:ln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lnTo>
                  <a:pt x="17773" y="10800"/>
                </a:lnTo>
                <a:lnTo>
                  <a:pt x="16119" y="10800"/>
                </a:lnTo>
                <a:lnTo>
                  <a:pt x="16119" y="17989"/>
                </a:lnTo>
                <a:lnTo>
                  <a:pt x="5501" y="17989"/>
                </a:lnTo>
                <a:lnTo>
                  <a:pt x="5501" y="10800"/>
                </a:lnTo>
                <a:lnTo>
                  <a:pt x="3847" y="10800"/>
                </a:lnTo>
                <a:close/>
              </a:path>
              <a:path fill="darkenLess" w="21620" h="21600">
                <a:moveTo>
                  <a:pt x="13386" y="6448"/>
                </a:move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close/>
              </a:path>
              <a:path fill="darkenLess" w="21620" h="21600">
                <a:moveTo>
                  <a:pt x="9888" y="14299"/>
                </a:moveTo>
                <a:lnTo>
                  <a:pt x="11733" y="14299"/>
                </a:lnTo>
                <a:lnTo>
                  <a:pt x="11733" y="17989"/>
                </a:lnTo>
                <a:lnTo>
                  <a:pt x="16119" y="17989"/>
                </a:lnTo>
                <a:lnTo>
                  <a:pt x="16119" y="10800"/>
                </a:lnTo>
                <a:lnTo>
                  <a:pt x="5501" y="10800"/>
                </a:lnTo>
                <a:lnTo>
                  <a:pt x="5501" y="17989"/>
                </a:lnTo>
                <a:lnTo>
                  <a:pt x="9888" y="17989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>
            <a:hlinkClick r:id="" action="ppaction://hlinkshowjump?jump=nextslide"/>
          </p:cNvPr>
          <p:cNvSpPr/>
          <p:nvPr/>
        </p:nvSpPr>
        <p:spPr>
          <a:xfrm>
            <a:off x="876312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7724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ПЕРВОЕ ПОКОЛЕНИЕ (1946-196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200400" y="1981080"/>
            <a:ext cx="5410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Первая отечественная машина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МЭСМ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 создана в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1951г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.  в Киеве под руководством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С. А. Лебедев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5334120" y="4191120"/>
            <a:ext cx="3276360" cy="22716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МЭСМ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914400" y="4191120"/>
            <a:ext cx="3276720" cy="22701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4"/>
          <a:stretch/>
        </p:blipFill>
        <p:spPr>
          <a:xfrm>
            <a:off x="914400" y="1447920"/>
            <a:ext cx="1650960" cy="2307960"/>
          </a:xfrm>
          <a:prstGeom prst="rect">
            <a:avLst/>
          </a:prstGeom>
          <a:ln w="0">
            <a:noFill/>
          </a:ln>
        </p:spPr>
      </p:pic>
      <p:sp>
        <p:nvSpPr>
          <p:cNvPr id="125" name="">
            <a:hlinkClick r:id="" action="ppaction://hlinkshowjump?jump=previousslide"/>
          </p:cNvPr>
          <p:cNvSpPr/>
          <p:nvPr/>
        </p:nvSpPr>
        <p:spPr>
          <a:xfrm flipH="1">
            <a:off x="800100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>
            <a:hlinkClick r:id="rId6" action="ppaction://hlinksldjump"/>
          </p:cNvPr>
          <p:cNvSpPr/>
          <p:nvPr/>
        </p:nvSpPr>
        <p:spPr>
          <a:xfrm>
            <a:off x="8381880" y="64771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10810" y="3837"/>
                </a:moveTo>
                <a:lnTo>
                  <a:pt x="13386" y="6448"/>
                </a:ln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lnTo>
                  <a:pt x="17773" y="10800"/>
                </a:lnTo>
                <a:lnTo>
                  <a:pt x="16119" y="10800"/>
                </a:lnTo>
                <a:lnTo>
                  <a:pt x="16119" y="17989"/>
                </a:lnTo>
                <a:lnTo>
                  <a:pt x="5501" y="17989"/>
                </a:lnTo>
                <a:lnTo>
                  <a:pt x="5501" y="10800"/>
                </a:lnTo>
                <a:lnTo>
                  <a:pt x="3847" y="10800"/>
                </a:lnTo>
                <a:close/>
              </a:path>
              <a:path fill="darkenLess" w="21620" h="21600">
                <a:moveTo>
                  <a:pt x="13386" y="6448"/>
                </a:move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close/>
              </a:path>
              <a:path fill="darkenLess" w="21620" h="21600">
                <a:moveTo>
                  <a:pt x="9888" y="14299"/>
                </a:moveTo>
                <a:lnTo>
                  <a:pt x="11733" y="14299"/>
                </a:lnTo>
                <a:lnTo>
                  <a:pt x="11733" y="17989"/>
                </a:lnTo>
                <a:lnTo>
                  <a:pt x="16119" y="17989"/>
                </a:lnTo>
                <a:lnTo>
                  <a:pt x="16119" y="10800"/>
                </a:lnTo>
                <a:lnTo>
                  <a:pt x="5501" y="10800"/>
                </a:lnTo>
                <a:lnTo>
                  <a:pt x="5501" y="17989"/>
                </a:lnTo>
                <a:lnTo>
                  <a:pt x="9888" y="17989"/>
                </a:lnTo>
                <a:close/>
              </a:path>
            </a:pathLst>
          </a:cu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>
            <a:hlinkClick r:id="" action="ppaction://hlinkshowjump?jump=nextslide"/>
          </p:cNvPr>
          <p:cNvSpPr/>
          <p:nvPr/>
        </p:nvSpPr>
        <p:spPr>
          <a:xfrm>
            <a:off x="876312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7724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ПЕРВОЕ ПОКОЛЕНИЕ (1946-196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676520" y="1371600"/>
            <a:ext cx="6172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Первые вычислительные машины были очень громоздкими и занимали </a:t>
            </a: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целые зал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9144000" cy="3809880"/>
          </a:xfrm>
          <a:prstGeom prst="rect">
            <a:avLst/>
          </a:prstGeom>
          <a:ln w="0">
            <a:noFill/>
          </a:ln>
        </p:spPr>
      </p:pic>
      <p:sp>
        <p:nvSpPr>
          <p:cNvPr id="131" name="">
            <a:hlinkClick r:id="" action="ppaction://hlinkshowjump?jump=previousslide"/>
          </p:cNvPr>
          <p:cNvSpPr/>
          <p:nvPr/>
        </p:nvSpPr>
        <p:spPr>
          <a:xfrm flipH="1">
            <a:off x="800100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>
            <a:hlinkClick r:id="rId3" action="ppaction://hlinksldjump"/>
          </p:cNvPr>
          <p:cNvSpPr/>
          <p:nvPr/>
        </p:nvSpPr>
        <p:spPr>
          <a:xfrm>
            <a:off x="8381880" y="64771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10810" y="3837"/>
                </a:moveTo>
                <a:lnTo>
                  <a:pt x="13386" y="6448"/>
                </a:ln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lnTo>
                  <a:pt x="17773" y="10800"/>
                </a:lnTo>
                <a:lnTo>
                  <a:pt x="16119" y="10800"/>
                </a:lnTo>
                <a:lnTo>
                  <a:pt x="16119" y="17989"/>
                </a:lnTo>
                <a:lnTo>
                  <a:pt x="5501" y="17989"/>
                </a:lnTo>
                <a:lnTo>
                  <a:pt x="5501" y="10800"/>
                </a:lnTo>
                <a:lnTo>
                  <a:pt x="3847" y="10800"/>
                </a:lnTo>
                <a:close/>
              </a:path>
              <a:path fill="darkenLess" w="21620" h="21600">
                <a:moveTo>
                  <a:pt x="13386" y="6448"/>
                </a:move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close/>
              </a:path>
              <a:path fill="darkenLess" w="21620" h="21600">
                <a:moveTo>
                  <a:pt x="9888" y="14299"/>
                </a:moveTo>
                <a:lnTo>
                  <a:pt x="11733" y="14299"/>
                </a:lnTo>
                <a:lnTo>
                  <a:pt x="11733" y="17989"/>
                </a:lnTo>
                <a:lnTo>
                  <a:pt x="16119" y="17989"/>
                </a:lnTo>
                <a:lnTo>
                  <a:pt x="16119" y="10800"/>
                </a:lnTo>
                <a:lnTo>
                  <a:pt x="5501" y="10800"/>
                </a:lnTo>
                <a:lnTo>
                  <a:pt x="5501" y="17989"/>
                </a:lnTo>
                <a:lnTo>
                  <a:pt x="9888" y="17989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>
            <a:hlinkClick r:id="" action="ppaction://hlinkshowjump?jump=nextslide"/>
          </p:cNvPr>
          <p:cNvSpPr/>
          <p:nvPr/>
        </p:nvSpPr>
        <p:spPr>
          <a:xfrm>
            <a:off x="876312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7724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ПЕРВОЕ ПОКОЛЕНИЕ (1946-196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809880" y="160020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Arial"/>
              </a:rPr>
              <a:t>МАШИНА М-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990720" y="1066680"/>
            <a:ext cx="2743200" cy="20559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76320" y="3200400"/>
            <a:ext cx="3657600" cy="365760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4038480" y="3200400"/>
            <a:ext cx="2286000" cy="365760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4"/>
          <a:stretch/>
        </p:blipFill>
        <p:spPr>
          <a:xfrm>
            <a:off x="6629400" y="3200400"/>
            <a:ext cx="2409840" cy="3657600"/>
          </a:xfrm>
          <a:prstGeom prst="rect">
            <a:avLst/>
          </a:prstGeom>
          <a:ln w="0">
            <a:noFill/>
          </a:ln>
        </p:spPr>
      </p:pic>
      <p:sp>
        <p:nvSpPr>
          <p:cNvPr id="140" name="">
            <a:hlinkClick r:id="" action="ppaction://hlinkshowjump?jump=previousslide"/>
          </p:cNvPr>
          <p:cNvSpPr/>
          <p:nvPr/>
        </p:nvSpPr>
        <p:spPr>
          <a:xfrm flipH="1">
            <a:off x="800100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>
            <a:hlinkClick r:id="rId6" action="ppaction://hlinksldjump"/>
          </p:cNvPr>
          <p:cNvSpPr/>
          <p:nvPr/>
        </p:nvSpPr>
        <p:spPr>
          <a:xfrm>
            <a:off x="8381880" y="64771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10810" y="3837"/>
                </a:moveTo>
                <a:lnTo>
                  <a:pt x="13386" y="6448"/>
                </a:ln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lnTo>
                  <a:pt x="17773" y="10800"/>
                </a:lnTo>
                <a:lnTo>
                  <a:pt x="16119" y="10800"/>
                </a:lnTo>
                <a:lnTo>
                  <a:pt x="16119" y="17989"/>
                </a:lnTo>
                <a:lnTo>
                  <a:pt x="5501" y="17989"/>
                </a:lnTo>
                <a:lnTo>
                  <a:pt x="5501" y="10800"/>
                </a:lnTo>
                <a:lnTo>
                  <a:pt x="3847" y="10800"/>
                </a:lnTo>
                <a:close/>
              </a:path>
              <a:path fill="darkenLess" w="21620" h="21600">
                <a:moveTo>
                  <a:pt x="13386" y="6448"/>
                </a:move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close/>
              </a:path>
              <a:path fill="darkenLess" w="21620" h="21600">
                <a:moveTo>
                  <a:pt x="9888" y="14299"/>
                </a:moveTo>
                <a:lnTo>
                  <a:pt x="11733" y="14299"/>
                </a:lnTo>
                <a:lnTo>
                  <a:pt x="11733" y="17989"/>
                </a:lnTo>
                <a:lnTo>
                  <a:pt x="16119" y="17989"/>
                </a:lnTo>
                <a:lnTo>
                  <a:pt x="16119" y="10800"/>
                </a:lnTo>
                <a:lnTo>
                  <a:pt x="5501" y="10800"/>
                </a:lnTo>
                <a:lnTo>
                  <a:pt x="5501" y="17989"/>
                </a:lnTo>
                <a:lnTo>
                  <a:pt x="9888" y="17989"/>
                </a:lnTo>
                <a:close/>
              </a:path>
            </a:pathLst>
          </a:cu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>
            <a:hlinkClick r:id="" action="ppaction://hlinkshowjump?jump=nextslide"/>
          </p:cNvPr>
          <p:cNvSpPr/>
          <p:nvPr/>
        </p:nvSpPr>
        <p:spPr>
          <a:xfrm>
            <a:off x="876312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71600" y="533520"/>
            <a:ext cx="77724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ПЕРВОЕ ПОКОЛЕНИЕ (1946-196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80880" y="1371600"/>
            <a:ext cx="39625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Вывод данных осуществлялся на АЦПУ (алфавитно-цифровые печатающие устройства</a:t>
            </a: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572000" y="13716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В</a:t>
            </a:r>
            <a:r>
              <a:rPr b="0" lang="ru-RU" sz="2000" spc="-1" strike="noStrike">
                <a:solidFill>
                  <a:srgbClr val="3333cc"/>
                </a:solidFill>
                <a:latin typeface="Arial"/>
              </a:rPr>
              <a:t>в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од данных осуществлялся </a:t>
            </a:r>
            <a:r>
              <a:rPr b="0" lang="ru-RU" sz="2000" spc="-1" strike="noStrike">
                <a:solidFill>
                  <a:srgbClr val="3333cc"/>
                </a:solidFill>
                <a:latin typeface="Arial"/>
              </a:rPr>
              <a:t>с помощью перфокарт и перфолен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1371600"/>
            <a:ext cx="0" cy="5181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609480" y="3048120"/>
            <a:ext cx="3353040" cy="266688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7238880" y="4419720"/>
            <a:ext cx="1752840" cy="90144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3"/>
          <a:stretch/>
        </p:blipFill>
        <p:spPr>
          <a:xfrm>
            <a:off x="6553080" y="5486400"/>
            <a:ext cx="1447920" cy="12682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4"/>
          <a:stretch/>
        </p:blipFill>
        <p:spPr>
          <a:xfrm>
            <a:off x="4572000" y="2362320"/>
            <a:ext cx="2666880" cy="185076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5"/>
          <a:stretch/>
        </p:blipFill>
        <p:spPr>
          <a:xfrm>
            <a:off x="4572000" y="4572000"/>
            <a:ext cx="1828800" cy="1184400"/>
          </a:xfrm>
          <a:prstGeom prst="rect">
            <a:avLst/>
          </a:prstGeom>
          <a:ln w="0">
            <a:noFill/>
          </a:ln>
        </p:spPr>
      </p:pic>
      <p:sp>
        <p:nvSpPr>
          <p:cNvPr id="152" name="">
            <a:hlinkClick r:id="" action="ppaction://hlinkshowjump?jump=previousslide"/>
          </p:cNvPr>
          <p:cNvSpPr/>
          <p:nvPr/>
        </p:nvSpPr>
        <p:spPr>
          <a:xfrm flipH="1">
            <a:off x="800100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>
            <a:hlinkClick r:id="rId7" action="ppaction://hlinksldjump"/>
          </p:cNvPr>
          <p:cNvSpPr/>
          <p:nvPr/>
        </p:nvSpPr>
        <p:spPr>
          <a:xfrm>
            <a:off x="8381880" y="6477120"/>
            <a:ext cx="381240" cy="3808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20" h="21600">
                <a:moveTo>
                  <a:pt x="0" y="0"/>
                </a:moveTo>
                <a:lnTo>
                  <a:pt x="21620" y="0"/>
                </a:lnTo>
                <a:lnTo>
                  <a:pt x="21620" y="21600"/>
                </a:lnTo>
                <a:lnTo>
                  <a:pt x="0" y="21600"/>
                </a:lnTo>
                <a:close/>
              </a:path>
              <a:path fill="lightenLess" w="21620" h="21600">
                <a:moveTo>
                  <a:pt x="0" y="0"/>
                </a:moveTo>
                <a:lnTo>
                  <a:pt x="21620" y="0"/>
                </a:lnTo>
                <a:lnTo>
                  <a:pt x="20220" y="1400"/>
                </a:lnTo>
                <a:lnTo>
                  <a:pt x="1400" y="1400"/>
                </a:lnTo>
                <a:close/>
              </a:path>
              <a:path fill="darken" w="21620" h="21600">
                <a:moveTo>
                  <a:pt x="21620" y="0"/>
                </a:moveTo>
                <a:lnTo>
                  <a:pt x="21620" y="21600"/>
                </a:lnTo>
                <a:lnTo>
                  <a:pt x="20220" y="20200"/>
                </a:lnTo>
                <a:lnTo>
                  <a:pt x="20220" y="1400"/>
                </a:lnTo>
                <a:close/>
              </a:path>
              <a:path fill="darkenLess" w="21620" h="21600">
                <a:moveTo>
                  <a:pt x="216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0" y="20200"/>
                </a:lnTo>
                <a:close/>
              </a:path>
              <a:path fill="lighten" w="216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20" h="21600">
                <a:moveTo>
                  <a:pt x="10810" y="3837"/>
                </a:moveTo>
                <a:lnTo>
                  <a:pt x="13386" y="6448"/>
                </a:ln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lnTo>
                  <a:pt x="17773" y="10800"/>
                </a:lnTo>
                <a:lnTo>
                  <a:pt x="16119" y="10800"/>
                </a:lnTo>
                <a:lnTo>
                  <a:pt x="16119" y="17989"/>
                </a:lnTo>
                <a:lnTo>
                  <a:pt x="5501" y="17989"/>
                </a:lnTo>
                <a:lnTo>
                  <a:pt x="5501" y="10800"/>
                </a:lnTo>
                <a:lnTo>
                  <a:pt x="3847" y="10800"/>
                </a:lnTo>
                <a:close/>
              </a:path>
              <a:path fill="darkenLess" w="21620" h="21600">
                <a:moveTo>
                  <a:pt x="13386" y="6448"/>
                </a:moveTo>
                <a:lnTo>
                  <a:pt x="13386" y="4707"/>
                </a:lnTo>
                <a:lnTo>
                  <a:pt x="15162" y="4707"/>
                </a:lnTo>
                <a:lnTo>
                  <a:pt x="15162" y="8224"/>
                </a:lnTo>
                <a:close/>
              </a:path>
              <a:path fill="darkenLess" w="21620" h="21600">
                <a:moveTo>
                  <a:pt x="9888" y="14299"/>
                </a:moveTo>
                <a:lnTo>
                  <a:pt x="11733" y="14299"/>
                </a:lnTo>
                <a:lnTo>
                  <a:pt x="11733" y="17989"/>
                </a:lnTo>
                <a:lnTo>
                  <a:pt x="16119" y="17989"/>
                </a:lnTo>
                <a:lnTo>
                  <a:pt x="16119" y="10800"/>
                </a:lnTo>
                <a:lnTo>
                  <a:pt x="5501" y="10800"/>
                </a:lnTo>
                <a:lnTo>
                  <a:pt x="5501" y="17989"/>
                </a:lnTo>
                <a:lnTo>
                  <a:pt x="9888" y="17989"/>
                </a:lnTo>
                <a:close/>
              </a:path>
            </a:pathLst>
          </a:cu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>
            <a:hlinkClick r:id="" action="ppaction://hlinkshowjump?jump=nextslide"/>
          </p:cNvPr>
          <p:cNvSpPr/>
          <p:nvPr/>
        </p:nvSpPr>
        <p:spPr>
          <a:xfrm>
            <a:off x="8763120" y="647712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3T20:14:12Z</dcterms:created>
  <dc:creator>CoBRA</dc:creator>
  <dc:description/>
  <dc:language>en-US</dc:language>
  <cp:lastModifiedBy>КарМаН</cp:lastModifiedBy>
  <dcterms:modified xsi:type="dcterms:W3CDTF">2011-10-19T06:39:30Z</dcterms:modified>
  <cp:revision>51</cp:revision>
  <dc:subject/>
  <dc:title>Презентация PowerPoint</dc:title>
</cp:coreProperties>
</file>