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C745-4E2C-4D96-AAF5-D131234C90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3675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whoosh.wav"/><Relationship Id="rId8" Type="http://schemas.openxmlformats.org/officeDocument/2006/relationships/audio" Target="../media/&#1041;&#1077;&#1081;&#1089;&#1073;&#1086;&#1083;%20-%20&#1074;&#1099;&#1093;&#1086;&#1076;%20&#1080;&#1079;%20Windows.wav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audio" Target="../media/camera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audio" Target="../media/&#1055;&#1091;&#1090;&#1077;&#1096;&#1077;&#1089;&#1090;&#1074;&#1080;&#1103;%20-%20&#1074;&#1086;&#1087;&#1088;&#1086;&#1089;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95400" y="1143000"/>
          <a:ext cx="8953200" cy="534996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5" name="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КарМаН</cp:lastModifiedBy>
  <dcterms:modified xsi:type="dcterms:W3CDTF">2011-10-19T06:39:30Z</dcterms:modified>
  <cp:revision>51</cp:revision>
  <dc:subject/>
  <dc:title>Презентация PowerPoint</dc:title>
</cp:coreProperties>
</file>