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115-6ABA-4B14-9AA8-2C5EE747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DFE-7B00-4498-A325-A6BDDC27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049-61A4-4383-A21D-8C785D6B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4CE-91E8-4C49-90B0-93E4A29E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9C54-448A-4E95-B6EC-6B152B86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6096-A8CE-460A-9D26-C9A7CFB5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8543-1FC8-49EB-ABA7-C6F2CA60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7263-DD26-4EC1-9D82-B5CCA5B6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FD4A-68FE-4903-8FC1-3C8D8670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433A-6646-42EE-982B-D6EE3FC4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2722-88A6-4C1E-8F1E-439C3927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1D6-31B8-441C-AFC3-9F3AFD40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5D31-DF20-4EEA-B9D3-7FD91FE7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6EF3-C717-482F-B0F0-31535A1D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7EF3-E622-421A-8C67-09F83FBC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6C7C-0EAB-42E9-BB84-477BE207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2625-BA4B-4317-83AF-41216D56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0A7-7A5D-4D00-B33D-1B7D81A8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340-4E5F-48CB-A49E-1BAA5EA4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6B5-EF6B-4A35-AD1B-4D9DAFD4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1AD-6854-4634-B8D8-7DA37395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690-BA8B-47AC-A688-DD6E0C68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F32-CEB7-491A-B47E-E183AB1D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886-2C70-4BFB-8C0C-DF651FB4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2D31-8DD1-46DC-AE66-41D5050A326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8A4E-4210-4F23-A1DA-636EC0A34CF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www.PHILka.RU</cp:lastModifiedBy>
  <dcterms:modified xsi:type="dcterms:W3CDTF">2011-10-14T03:55:34Z</dcterms:modified>
  <cp:revision>5</cp:revision>
  <dc:subject/>
  <dc:title>Возможности использования компьютерной техники в офисах фирм.</dc:title>
</cp:coreProperties>
</file>