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6DC9-FDCC-41E9-9EE3-155C3E7A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03E6-366F-4EDD-A338-47159FE6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5D87-92D2-4EC6-9085-1978C4AC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08C7-3368-4920-A3AB-B24977AA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534D-C909-4B55-A248-1A19FF378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CB12-329A-4ACC-BF32-8DAD0E42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EBC4-B618-4F3F-A4B9-E746286C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573F-F14D-47FC-ACC0-DB1DDF58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4210-85BE-490F-B1DD-C6F0F380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ACDF-A42E-473D-AF72-E8341B01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1C7D-258E-4B96-B747-5551C48C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2664-0450-4B8D-B24E-DBFA8E93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61CE-76D4-4E8C-928F-B0FF35F2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9F58-BE4B-4440-9C06-2D729365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33C8-609A-41F6-8950-4C59BD2E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EF84-9E69-4740-BB54-18180D93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4914-9327-4A01-B93C-84E7C94D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C6F4-EF49-446B-8846-2520D80E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BCEA-F81B-4C8F-A25D-93BA2ECD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3963-CB98-4C07-BB32-E2A78FA5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2535-67C2-42BD-9F49-A1A8A266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91D8-0CFC-45C5-9CBD-7EDE28CA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F181-3C78-4FD4-9C83-0ED34A83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E714-0450-45DB-A8A5-ADCB8AC0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3199-C379-4473-BC0F-084FA2A7021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A755-969B-4571-9A12-865CE81BAEA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Возможности использования компьютерной техники в офисах фирм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16360" y="3573360"/>
            <a:ext cx="4105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МБОУ Ново-Павловская СОШ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ыполнил: Учитель технологии Пятилокотова О.П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12000" y="59500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10 клас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Самостоятельная работа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, какие офисные принадлежности могут быть с успехом заменены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 преимущества замены устаревших офисных «орудий труда» компьютерной техни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еречислите, какие на ваш взгляд, недостатки имеет компьютерная техника по сравнению с традиционными методами работы в офиса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азовите , какие прикладные программы и как вы могли бы использовать в своей учебной деятель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CROSOFT 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FIS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Excel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Acc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Word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ТЕКСТОВЫЙ ПРЦЕССОР, КОТОРЫЙ ИСПОЛЬЗУЕТСЯ ДЛЯ СОЗДАНИЯ ТЕКСТОВЫХ ДОКУМЕНТОВ (ФАЙЛЫ, СОЗДАВАЕМЫЕ В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называются документами): писем, отчётов, книг и т.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Excel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электронных таблиц, которая позволяет проводить числовой анализ. Это великолепный способ выполнения самых разнообразных расчётов. Файлы, создаваемые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cel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азываются рабочими книга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Power Point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создания презентаций, которая во многом напоминает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но только вместо текстового документа в данном случае создаются цветные слайды.Эти слайды затем можно вывести на 35-мм цветную плёнку для демонстрации с помощью проектора ,для показа на экране компьютера, т.е. презентаци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Outlock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личный электронный секретарь, незаменимый в любом офисе. В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utlock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ходит удобная программа работы с электронной почтой, которую можно использовать, если компьютер, установленный в офисе, подключен к сети Интернет или любой диалоговой сервисной служб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icrosoft Access-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базами данных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просто позволяет создавать таблицы данных и оперировать им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Power Po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Outlo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crosoft Fcc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ые понят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ffice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кет прикладных програм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Word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текстовый процессор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Excel-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рограмма электронных таблиц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Power Point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грамма создания презентац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Outlock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ый электронный секретар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crosoft Access-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программа управления реляционными данны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3:16:25Z</dcterms:created>
  <dc:creator>www.PHILka.RU</dc:creator>
  <dc:description/>
  <dc:language>en-US</dc:language>
  <cp:lastModifiedBy>www.PHILka.RU</cp:lastModifiedBy>
  <dcterms:modified xsi:type="dcterms:W3CDTF">2011-10-14T03:55:34Z</dcterms:modified>
  <cp:revision>5</cp:revision>
  <dc:subject/>
  <dc:title>Возможности использования компьютерной техники в офисах фирм.</dc:title>
</cp:coreProperties>
</file>