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FAA-88F4-4158-91B9-A0AD6260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03A-D58C-4960-87F5-A5192AC0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AAD-3F4E-4045-A131-99CEDF83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6E4-6BF6-46B2-8D3D-88ABA188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CE3F-DBC4-452E-8644-773E1610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6FB1-92B4-4EBB-AF31-B8D322B9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6E89-D48B-45B2-A6B8-567551AD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F25C-CCE2-4A9B-92B8-AA66EC4C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2E2F-96E6-4777-BDF9-2FE9A51D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8C86-8B0D-41F0-9345-CE90E369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BDC5-A5F9-4415-9A3C-198E260F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5C9-62B0-4EC0-B765-DA0C6163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F1D4-9B46-4C0D-8002-D7239B05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258F-51A3-415E-B3C4-614F75E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4BAE-8542-418F-97C1-5D35DDFB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2BE6-184A-4053-A48D-02638E4D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FBD8-B32F-4F3C-9D91-33819F9D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B9C2-347E-4BFE-96C2-2E3E789B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39E-D468-415B-9C7D-40843362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D4D-137B-4B26-9203-70E1FC55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C9D-EABB-404C-9DE8-B01D9F65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4AB-F991-42F1-92EF-BFA6BF23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091-14E4-4E63-9DFB-C99C7749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C45-9D01-4CF0-9C31-0CB06127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3E0A-1B96-4C27-9FFB-01C799E074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875F-441E-4F4A-82DC-A999C4DE38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www.PHILka.RU</cp:lastModifiedBy>
  <dcterms:modified xsi:type="dcterms:W3CDTF">2011-10-14T03:55:34Z</dcterms:modified>
  <cp:revision>5</cp:revision>
  <dc:subject/>
  <dc:title>Возможности использования компьютерной техники в офисах фирм.</dc:title>
</cp:coreProperties>
</file>