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B4AF-4CA2-4D9D-A0AD-AA46E86E7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5D83-B212-4183-8301-CA7D35F8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5B9D-D8B7-40D0-8EC4-A972206CB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B2A2-FCFA-43B0-BAE3-876B18799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88FFF-40D2-4E5D-95A9-A95214CDA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DBA34-2BB6-4B10-8650-8841D27C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C92C67-6F75-407F-AE8F-6ADC47F1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CCA0F-6D4E-4DD4-821E-A0B7E042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2A0E9-2354-44DF-BCB9-5ED2FCA2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E2903-286D-45A1-9CD7-B05F5BDF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62BB2-81DC-48CC-A996-C2DE99C4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54AF-2234-42AE-ABBF-134BA0C1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8DDBE-2594-4DD1-840D-108257F0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A5CB5-E0D8-41F0-B8C7-2435BF54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38EAE-1BDC-4D44-A857-84E9A360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6CB22-43E5-4766-84A2-5E28724CF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124C9-F188-4855-B902-2CADB0A3A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ACCA-D001-40FF-9559-433F9D3A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E188-6AE8-40CF-9471-ACC72EAB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16FC-6E83-479C-8AA6-9528BBDA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6ABE-07A0-40FA-8D04-04E33E97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AD41-13E4-43D4-8809-04A84977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24BC-736B-4E3B-AB8C-3817650B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31E0-B390-4888-9CB6-98F92A58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1A77-D6B3-4F6E-A61E-B8CE6014AA7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C79E-2C12-48ED-802D-98CA12337F2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0920" y="189000"/>
            <a:ext cx="8713800" cy="6408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332000" y="549360"/>
            <a:ext cx="6848280" cy="820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БУСЫ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 информатике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651640" y="5157720"/>
            <a:ext cx="2895480" cy="11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втор-составител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учитель информатики и ИК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амохина Елена Сергеев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3D1D-59A5-4CE6-8E22-7A94EA925F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s9" descr="программист"/>
          <p:cNvPicPr/>
          <p:nvPr/>
        </p:nvPicPr>
        <p:blipFill>
          <a:blip r:embed="rId2"/>
          <a:stretch/>
        </p:blipFill>
        <p:spPr>
          <a:xfrm>
            <a:off x="0" y="1268280"/>
            <a:ext cx="8964720" cy="435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D161-2802-4854-A53F-EC34746C41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s8" descr="программирование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422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AFF7-4FA7-4AF2-953E-AA06F4BA7C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тветы к ребусам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7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ОД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НФОРМАТ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ЕРВ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ПОЛНИТ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ИНЧЕСТ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АМЯ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НТЕРН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ЛАВИА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ГРАММИ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ГРАММИР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E6DC-C7F8-43D0-8228-98AF931A51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21" descr="модем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433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D64F-A319-408C-B1DB-EDB659C4EC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s19" descr="информатика"/>
          <p:cNvPicPr/>
          <p:nvPr/>
        </p:nvPicPr>
        <p:blipFill>
          <a:blip r:embed="rId2"/>
          <a:stretch/>
        </p:blipFill>
        <p:spPr>
          <a:xfrm>
            <a:off x="1440" y="1160640"/>
            <a:ext cx="9142560" cy="422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F8CC-FD63-4C93-8520-CA95B1BEC9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s22" descr="сервер"/>
          <p:cNvPicPr/>
          <p:nvPr/>
        </p:nvPicPr>
        <p:blipFill>
          <a:blip r:embed="rId2"/>
          <a:stretch/>
        </p:blipFill>
        <p:spPr>
          <a:xfrm>
            <a:off x="179280" y="1268280"/>
            <a:ext cx="8785440" cy="512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B5FC-E879-449C-877E-96B39E8754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s15" descr="исполнитель"/>
          <p:cNvPicPr/>
          <p:nvPr/>
        </p:nvPicPr>
        <p:blipFill>
          <a:blip r:embed="rId2"/>
          <a:stretch/>
        </p:blipFill>
        <p:spPr>
          <a:xfrm>
            <a:off x="0" y="907920"/>
            <a:ext cx="9217080" cy="461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684F-BE60-409B-ACFD-26D1D34E05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s14" descr="винчестер"/>
          <p:cNvPicPr/>
          <p:nvPr/>
        </p:nvPicPr>
        <p:blipFill>
          <a:blip r:embed="rId2"/>
          <a:stretch/>
        </p:blipFill>
        <p:spPr>
          <a:xfrm>
            <a:off x="108000" y="1844640"/>
            <a:ext cx="9036000" cy="41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8FA2-38E8-4825-85CC-10BC166F23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s16" descr="память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4307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96A4-8A08-43C4-8910-D55FBB577E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s17" descr="интернет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439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F51F-4480-48E4-A47B-584131B085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s7" descr="клавиатура"/>
          <p:cNvPicPr/>
          <p:nvPr/>
        </p:nvPicPr>
        <p:blipFill>
          <a:blip r:embed="rId2"/>
          <a:stretch/>
        </p:blipFill>
        <p:spPr>
          <a:xfrm>
            <a:off x="179280" y="1557360"/>
            <a:ext cx="8820360" cy="407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8F13-DEAB-4BAB-A2F0-11FC7AB77F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04:03:42Z</dcterms:created>
  <dc:creator>ученик</dc:creator>
  <dc:description/>
  <dc:language>en-US</dc:language>
  <cp:lastModifiedBy>КарМаН</cp:lastModifiedBy>
  <dcterms:modified xsi:type="dcterms:W3CDTF">2011-03-28T11:54:35Z</dcterms:modified>
  <cp:revision>4</cp:revision>
  <dc:subject/>
  <dc:title>Слайд 1</dc:title>
</cp:coreProperties>
</file>