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D54-21FC-4BEC-A71B-2513C2FF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65EC-44E3-45F7-A0B6-9C9486A2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87E-C505-40B8-BF47-1B16BA34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6DE-ED26-4631-A371-40158902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4A739-4906-46A8-88A5-FF8887B7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34CF7-7E1D-4F1F-AF06-2D3A25D4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A8291-FF4D-4177-8AC2-BC669B26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EC4E4-E674-4F7E-B6F1-9FD9D96C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74816-12E3-4BEF-B078-336493CF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CEF1A-6BFD-41CA-8FB9-A59A2D5F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1CDF3-9896-4F3B-B2AA-73014B5F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72A-B415-4E08-9BD2-C1E86F06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6F9C2-3EA0-44F6-9BD8-5C9C9ED0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B9BAE-4621-4623-BB1A-846FE00E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0AE70-5634-4361-A274-9CA7E093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34899-D8BA-4AF8-AD58-43E4D4E9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86C34-6FEA-48C1-91E9-1357B6DE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8AF-F580-4FC5-BC34-4F50455F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4C62-FA68-40F4-9EC2-9A007E39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547-6508-44A5-9A9E-CB1B5907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E9EA-52AB-429D-B090-007E1868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0ED-FD0C-48D7-86C2-9FF4843B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EF5-2327-4AF7-9E69-2585BA93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80C-64FD-4BCC-9F0D-C7C3AEB3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B26C-4E57-4981-9BFA-6FAAD08252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D45D-A8B4-4D82-84B1-5CEA4471C7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549360"/>
            <a:ext cx="6848280" cy="82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информатике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51640" y="5157720"/>
            <a:ext cx="28954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втор-составите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итель информатики и И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мохина Еле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E86-F6CD-47FB-9A00-6F22206E0B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9" descr="программист"/>
          <p:cNvPicPr/>
          <p:nvPr/>
        </p:nvPicPr>
        <p:blipFill>
          <a:blip r:embed="rId2"/>
          <a:stretch/>
        </p:blipFill>
        <p:spPr>
          <a:xfrm>
            <a:off x="0" y="1268280"/>
            <a:ext cx="8964720" cy="43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856-ED59-4121-A2E6-3B9E28D4DE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8" descr="программирование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2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DBA-BB12-47B8-BE14-7AB0929D71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веты к ребусам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Д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В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Н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НЧЕС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ТЕР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483-4AD9-43BB-9C56-C2CC27C3EE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21" descr="модем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1F3-DFE6-4246-871D-4144F76B6F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19" descr="информатика"/>
          <p:cNvPicPr/>
          <p:nvPr/>
        </p:nvPicPr>
        <p:blipFill>
          <a:blip r:embed="rId2"/>
          <a:stretch/>
        </p:blipFill>
        <p:spPr>
          <a:xfrm>
            <a:off x="1440" y="1160640"/>
            <a:ext cx="9142560" cy="42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757-57B2-4F4D-96AF-5DBF3B6C74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22" descr="сервер"/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1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1BA-91DC-45B8-A65D-B6ECE00C41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15" descr="исполнитель"/>
          <p:cNvPicPr/>
          <p:nvPr/>
        </p:nvPicPr>
        <p:blipFill>
          <a:blip r:embed="rId2"/>
          <a:stretch/>
        </p:blipFill>
        <p:spPr>
          <a:xfrm>
            <a:off x="0" y="907920"/>
            <a:ext cx="9217080" cy="46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12D-91D9-4CB2-A36D-AE16DEB7A8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14" descr="винчестер"/>
          <p:cNvPicPr/>
          <p:nvPr/>
        </p:nvPicPr>
        <p:blipFill>
          <a:blip r:embed="rId2"/>
          <a:stretch/>
        </p:blipFill>
        <p:spPr>
          <a:xfrm>
            <a:off x="108000" y="1844640"/>
            <a:ext cx="9036000" cy="41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19C-2B31-489B-9EA7-3DD5BBE757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16" descr="память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30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675-F95B-40B4-80AD-506F567452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17" descr="интернет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CD3-ED38-4D5A-B267-8AF9DE95DE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7" descr="клавиатура"/>
          <p:cNvPicPr/>
          <p:nvPr/>
        </p:nvPicPr>
        <p:blipFill>
          <a:blip r:embed="rId2"/>
          <a:stretch/>
        </p:blipFill>
        <p:spPr>
          <a:xfrm>
            <a:off x="179280" y="1557360"/>
            <a:ext cx="8820360" cy="40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EDA-0888-43D8-93C1-839AF467B4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4:03:42Z</dcterms:created>
  <dc:creator>ученик</dc:creator>
  <dc:description/>
  <dc:language>en-US</dc:language>
  <cp:lastModifiedBy>КарМаН</cp:lastModifiedBy>
  <dcterms:modified xsi:type="dcterms:W3CDTF">2011-03-28T11:54:35Z</dcterms:modified>
  <cp:revision>4</cp:revision>
  <dc:subject/>
  <dc:title>Слайд 1</dc:title>
</cp:coreProperties>
</file>