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822B-4DAE-4A64-829E-B74F4C4A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8155-3300-4965-9936-ACECED9D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A630-AE5F-47EB-9B04-B20AE251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4405-8FFE-41AC-ADED-0E2F19B25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9FD03-7412-4D88-802C-76BD0876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72C28-60E7-4C09-A903-6E6A7E6A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DCF04-006F-424A-A8D2-8D2EA9F8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94AC5-1A42-48FD-9278-54C23DF8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A24DF-F5F7-4D40-9A77-EFE7063E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15D02-9E4F-4C60-868D-0441C579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C5D5D-3383-4E5C-9FE8-29559378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AD0E-BBAE-4B57-92EA-59AC372A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3FF3D-B8C6-4552-8CA4-2DB6093E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3242A-DEBC-48B3-9E38-2DCE7EC3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AB73C-FAE9-4A48-8CCE-DCA23C93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AF6C1-3784-46E6-8267-4195542A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50977-8ACA-4876-A5E9-91DCC13EA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A17E-2402-4AA9-8917-CB0A6118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C9C7-DB33-403C-872C-D1998835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0E3A-15E6-4555-9BBC-1F2BB50D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F5C7-A602-4CF0-9A59-D6267462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E5EC-9AAB-4571-A1EA-CC0F4773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DAFA-5A69-47FE-B16D-CC80D6C7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1300-FB04-4D48-8616-C15654AD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2170-4B2D-4D98-B024-DEAE600915B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391A-6F98-4356-AD7A-3BDBF097A74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189000"/>
            <a:ext cx="8713800" cy="640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332000" y="549360"/>
            <a:ext cx="6848280" cy="820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ЕБУСЫ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 информатике 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651640" y="5157720"/>
            <a:ext cx="2895480" cy="11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втор-составител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учитель информатики и ИК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амохина Елена Сергее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072C-D5A1-4E2F-BDF3-20B505D9EB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s9" descr="программист"/>
          <p:cNvPicPr/>
          <p:nvPr/>
        </p:nvPicPr>
        <p:blipFill>
          <a:blip r:embed="rId2"/>
          <a:stretch/>
        </p:blipFill>
        <p:spPr>
          <a:xfrm>
            <a:off x="0" y="1268280"/>
            <a:ext cx="8964720" cy="43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0EA2-FF46-47EE-83ED-EFE48BCA3D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s8" descr="программирование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422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8DDA-C46B-404D-A40B-59D8C0B37C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Ответы к ребусам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7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ОД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ФОРМА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РВ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ПОЛНИТ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ИНЧЕСТ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АМЯ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ТЕРН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ЛАВИА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ГРАММИ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ГРАММИР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B606-6150-4886-A6A9-9C1F12AFBF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21" descr="модем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433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EFA6-1678-468E-A458-B200B6913D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s19" descr="информатика"/>
          <p:cNvPicPr/>
          <p:nvPr/>
        </p:nvPicPr>
        <p:blipFill>
          <a:blip r:embed="rId2"/>
          <a:stretch/>
        </p:blipFill>
        <p:spPr>
          <a:xfrm>
            <a:off x="1440" y="1160640"/>
            <a:ext cx="9142560" cy="422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E55E-AA87-4E5D-A75C-EFC860FDE3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s22" descr="сервер"/>
          <p:cNvPicPr/>
          <p:nvPr/>
        </p:nvPicPr>
        <p:blipFill>
          <a:blip r:embed="rId2"/>
          <a:stretch/>
        </p:blipFill>
        <p:spPr>
          <a:xfrm>
            <a:off x="179280" y="1268280"/>
            <a:ext cx="8785440" cy="512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3D96-9937-421A-A41F-D102C3B1A2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s15" descr="исполнитель"/>
          <p:cNvPicPr/>
          <p:nvPr/>
        </p:nvPicPr>
        <p:blipFill>
          <a:blip r:embed="rId2"/>
          <a:stretch/>
        </p:blipFill>
        <p:spPr>
          <a:xfrm>
            <a:off x="0" y="907920"/>
            <a:ext cx="9217080" cy="461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487B-3AA4-4F86-A915-0F5B63A5FD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s14" descr="винчестер"/>
          <p:cNvPicPr/>
          <p:nvPr/>
        </p:nvPicPr>
        <p:blipFill>
          <a:blip r:embed="rId2"/>
          <a:stretch/>
        </p:blipFill>
        <p:spPr>
          <a:xfrm>
            <a:off x="108000" y="1844640"/>
            <a:ext cx="9036000" cy="41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E901-F4A2-4990-887F-FEB93BFE1F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s16" descr="память"/>
          <p:cNvPicPr/>
          <p:nvPr/>
        </p:nvPicPr>
        <p:blipFill>
          <a:blip r:embed="rId2"/>
          <a:stretch/>
        </p:blipFill>
        <p:spPr>
          <a:xfrm>
            <a:off x="0" y="1268280"/>
            <a:ext cx="9144000" cy="430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EE6A-022C-4FB9-BD5E-58C97D576A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s17" descr="интернет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439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B262-38FF-413E-8741-991C931B0B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s7" descr="клавиатура"/>
          <p:cNvPicPr/>
          <p:nvPr/>
        </p:nvPicPr>
        <p:blipFill>
          <a:blip r:embed="rId2"/>
          <a:stretch/>
        </p:blipFill>
        <p:spPr>
          <a:xfrm>
            <a:off x="179280" y="1557360"/>
            <a:ext cx="8820360" cy="407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9F57-AC8D-4345-AA61-0DDBB42999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04:03:42Z</dcterms:created>
  <dc:creator>ученик</dc:creator>
  <dc:description/>
  <dc:language>en-US</dc:language>
  <cp:lastModifiedBy>КарМаН</cp:lastModifiedBy>
  <dcterms:modified xsi:type="dcterms:W3CDTF">2011-03-28T11:54:35Z</dcterms:modified>
  <cp:revision>4</cp:revision>
  <dc:subject/>
  <dc:title>Слайд 1</dc:title>
</cp:coreProperties>
</file>