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E12A-CB64-4BC0-89B1-EC7AA1902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AFB9-B275-43B8-B3CD-B2979F94B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02B2-A679-4142-A663-AF02B32ED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EE95-68CF-4776-A231-A873461E9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DBABEB-8B52-4C34-9C92-5BEABACAD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6DFD57-75CB-4097-807B-871E12E3D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7D4BCD-BF97-4A81-9C85-B0FE084ED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43EE20-4CEB-4C41-9FEC-66839BC46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5BAED6-497A-4C7A-9295-B22B858A5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F03737-B7D7-4EAD-8B3B-FFEEC7FE9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3E2FE5-139E-4AE2-B2D9-250419165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D7E0-7A13-4A2D-9C19-E9624D33A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62EBB8-B1C6-4BE5-BB63-69021BAF0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D7B6C9-5BA8-4C5C-9D18-9DBB95DCC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2867D6-7257-4B2E-B97E-7ACF60352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43FA50-4125-4094-B8BA-C11316BC9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2B09A3-B081-4693-A282-AE657ABDF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FD19-E76F-49FC-929E-820722F3D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1F67-6535-430A-9386-4FC60C341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A83D-82D9-467D-AC62-D9F72B62A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4DAE-2A41-4D90-9CA7-9BFC62AE5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29D4-CD0D-472D-9CE8-33E554FB7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6AB6-2D0E-41F0-8909-28BB617A0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72BE-0EF7-4B73-B068-0755396FB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824B7-56FF-48DA-8164-7B4EFEC528A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0B3FF-8318-4235-A3A1-5F815D944D6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50920" y="189000"/>
            <a:ext cx="8713800" cy="64087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332000" y="549360"/>
            <a:ext cx="6848280" cy="8200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РЕБУСЫ</a:t>
            </a:r>
            <a:endParaRPr b="0" lang="en-US" sz="7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о информатике </a:t>
            </a:r>
            <a:endParaRPr b="0" lang="en-US" sz="7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651640" y="5157720"/>
            <a:ext cx="2895480" cy="11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Автор-составитель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учитель информатики и ИК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Самохина Елена Сергеевн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F34A-3B57-4F29-829D-7E6CEDA9D7A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s9" descr="программист"/>
          <p:cNvPicPr/>
          <p:nvPr/>
        </p:nvPicPr>
        <p:blipFill>
          <a:blip r:embed="rId2"/>
          <a:stretch/>
        </p:blipFill>
        <p:spPr>
          <a:xfrm>
            <a:off x="0" y="1268280"/>
            <a:ext cx="8964720" cy="4357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08BD-C08A-4FB9-AD80-1030BFACA22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s8" descr="программирование"/>
          <p:cNvPicPr/>
          <p:nvPr/>
        </p:nvPicPr>
        <p:blipFill>
          <a:blip r:embed="rId2"/>
          <a:stretch/>
        </p:blipFill>
        <p:spPr>
          <a:xfrm>
            <a:off x="0" y="1268280"/>
            <a:ext cx="9144000" cy="4224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2F5B-4247-42BC-86CA-3DD6335C7A0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Ответы к ребусам: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37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МОДЕ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ИНФОРМАТИ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ЕРВЕ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ИСПОЛНИТЕЛ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ИНЧЕСТЕ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АМЯТ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ИНТЕРНЕ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КЛАВИАТУР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РОГРАММИС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РОГРАММИРОВАН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07A2-4A9D-4891-BCAF-CF94B909325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" presetSubtype="10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500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" dur="500"/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s21" descr="модем"/>
          <p:cNvPicPr/>
          <p:nvPr/>
        </p:nvPicPr>
        <p:blipFill>
          <a:blip r:embed="rId2"/>
          <a:stretch/>
        </p:blipFill>
        <p:spPr>
          <a:xfrm>
            <a:off x="0" y="1413000"/>
            <a:ext cx="9144000" cy="4338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8380-B2E3-4D09-A706-37DF2F36319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s19" descr="информатика"/>
          <p:cNvPicPr/>
          <p:nvPr/>
        </p:nvPicPr>
        <p:blipFill>
          <a:blip r:embed="rId2"/>
          <a:stretch/>
        </p:blipFill>
        <p:spPr>
          <a:xfrm>
            <a:off x="1440" y="1160640"/>
            <a:ext cx="9142560" cy="4224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B452-83D0-4B3B-A714-DCD3A0B88FE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s22" descr="сервер"/>
          <p:cNvPicPr/>
          <p:nvPr/>
        </p:nvPicPr>
        <p:blipFill>
          <a:blip r:embed="rId2"/>
          <a:stretch/>
        </p:blipFill>
        <p:spPr>
          <a:xfrm>
            <a:off x="179280" y="1268280"/>
            <a:ext cx="8785440" cy="5121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4489-940E-4053-AB90-CA8F8E90242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s15" descr="исполнитель"/>
          <p:cNvPicPr/>
          <p:nvPr/>
        </p:nvPicPr>
        <p:blipFill>
          <a:blip r:embed="rId2"/>
          <a:stretch/>
        </p:blipFill>
        <p:spPr>
          <a:xfrm>
            <a:off x="0" y="907920"/>
            <a:ext cx="9217080" cy="4616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15BE-6CA1-4F4E-A6DE-9002F88FDE4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s14" descr="винчестер"/>
          <p:cNvPicPr/>
          <p:nvPr/>
        </p:nvPicPr>
        <p:blipFill>
          <a:blip r:embed="rId2"/>
          <a:stretch/>
        </p:blipFill>
        <p:spPr>
          <a:xfrm>
            <a:off x="108000" y="1844640"/>
            <a:ext cx="9036000" cy="417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5500-EADF-4224-A7C8-25D741F5419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s16" descr="память"/>
          <p:cNvPicPr/>
          <p:nvPr/>
        </p:nvPicPr>
        <p:blipFill>
          <a:blip r:embed="rId2"/>
          <a:stretch/>
        </p:blipFill>
        <p:spPr>
          <a:xfrm>
            <a:off x="0" y="1268280"/>
            <a:ext cx="9144000" cy="4307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454A-F310-4907-ADA0-0AB9EBDD671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s17" descr="интернет"/>
          <p:cNvPicPr/>
          <p:nvPr/>
        </p:nvPicPr>
        <p:blipFill>
          <a:blip r:embed="rId2"/>
          <a:stretch/>
        </p:blipFill>
        <p:spPr>
          <a:xfrm>
            <a:off x="0" y="1413000"/>
            <a:ext cx="9144000" cy="4392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EA2D-18D7-4B1E-AAB0-791B80D560F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s7" descr="клавиатура"/>
          <p:cNvPicPr/>
          <p:nvPr/>
        </p:nvPicPr>
        <p:blipFill>
          <a:blip r:embed="rId2"/>
          <a:stretch/>
        </p:blipFill>
        <p:spPr>
          <a:xfrm>
            <a:off x="179280" y="1557360"/>
            <a:ext cx="8820360" cy="4075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6C5C-4B57-4A40-A0A2-65DF2E09F86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5T04:03:42Z</dcterms:created>
  <dc:creator>ученик</dc:creator>
  <dc:description/>
  <dc:language>en-US</dc:language>
  <cp:lastModifiedBy>КарМаН</cp:lastModifiedBy>
  <dcterms:modified xsi:type="dcterms:W3CDTF">2011-03-28T11:54:35Z</dcterms:modified>
  <cp:revision>4</cp:revision>
  <dc:subject/>
  <dc:title>Слайд 1</dc:title>
</cp:coreProperties>
</file>