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A63-302C-494B-A305-43854BEA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36E-0EC1-4A15-897D-539AA359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8C1-727A-40EE-BD9A-E9D9DDD6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6A7-2D75-4B30-9677-248352CE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294F1-0769-4A51-A6BC-CBED678F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01059-0F2D-48EC-BCB9-9DADB32E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CB336-E85A-4962-AB6C-3849A7F6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6AF4F-73B8-4F82-BB33-696D2A7D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48549-996F-467A-8463-A814DB48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4A454-862B-47E7-9034-5DD446F9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1702A-5428-4735-95DF-AE06E2B5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2E4-7386-4B93-99E7-19C0C225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B771E-526F-4DE0-A47F-26E28072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B5658-24DA-4995-BDD7-196213BA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7724A-2648-42CB-A7E7-71E135E2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FD1FF-B560-4AB0-8FC7-C0B690BA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962EE-96C0-4785-95F4-2D788489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ABC-EBEE-4F36-9EBE-9E2A3F06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D14-1AFB-462E-A188-46A0F8F6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A30-2957-4786-B655-9F470007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3D73-7C84-4C9A-A6CF-CCBECBD5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8ABF-47B8-4DA3-96D9-F2633813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8C3-F5EC-460E-AA5C-72B5D318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F420-41A1-4B00-98C4-1797BF67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AD18-43B9-457B-8D5F-9BD6740567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8FC4-0D76-4419-8DAF-A4039A89FFE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549360"/>
            <a:ext cx="6848280" cy="82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информатике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51640" y="5157720"/>
            <a:ext cx="28954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втор-составите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итель информатики и И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мохина Еле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8FB-3278-4C7E-8EC1-D1E13C8CE2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9" descr="программист"/>
          <p:cNvPicPr/>
          <p:nvPr/>
        </p:nvPicPr>
        <p:blipFill>
          <a:blip r:embed="rId2"/>
          <a:stretch/>
        </p:blipFill>
        <p:spPr>
          <a:xfrm>
            <a:off x="0" y="1268280"/>
            <a:ext cx="8964720" cy="43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F2FE-90A7-4F0F-AAF8-4A42F345E5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8" descr="программирование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2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670B-7100-4E75-9F02-181976B428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веты к ребусам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Д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В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Н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НЧЕС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ТЕР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39B-DAF5-4606-90DC-AFA0AB2820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21" descr="модем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454-9A33-422D-8F7C-643D1DD5FA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19" descr="информатика"/>
          <p:cNvPicPr/>
          <p:nvPr/>
        </p:nvPicPr>
        <p:blipFill>
          <a:blip r:embed="rId2"/>
          <a:stretch/>
        </p:blipFill>
        <p:spPr>
          <a:xfrm>
            <a:off x="1440" y="1160640"/>
            <a:ext cx="9142560" cy="42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21E-D408-47F0-8F9E-B7F1A7C9C3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22" descr="сервер"/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1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123-6DD6-4C12-B88E-1005879759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15" descr="исполнитель"/>
          <p:cNvPicPr/>
          <p:nvPr/>
        </p:nvPicPr>
        <p:blipFill>
          <a:blip r:embed="rId2"/>
          <a:stretch/>
        </p:blipFill>
        <p:spPr>
          <a:xfrm>
            <a:off x="0" y="907920"/>
            <a:ext cx="9217080" cy="46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5B99-A1FD-473F-A5A7-4612A64F83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14" descr="винчестер"/>
          <p:cNvPicPr/>
          <p:nvPr/>
        </p:nvPicPr>
        <p:blipFill>
          <a:blip r:embed="rId2"/>
          <a:stretch/>
        </p:blipFill>
        <p:spPr>
          <a:xfrm>
            <a:off x="108000" y="1844640"/>
            <a:ext cx="9036000" cy="41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B2A-B6C5-4AA1-9D10-0C754CD29C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16" descr="память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30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2D7-A7AF-4104-85B8-5891289766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17" descr="интернет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439-AE79-4035-BECC-02762DD64F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7" descr="клавиатура"/>
          <p:cNvPicPr/>
          <p:nvPr/>
        </p:nvPicPr>
        <p:blipFill>
          <a:blip r:embed="rId2"/>
          <a:stretch/>
        </p:blipFill>
        <p:spPr>
          <a:xfrm>
            <a:off x="179280" y="1557360"/>
            <a:ext cx="8820360" cy="40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AE6-B437-4595-A4BA-13B3248FA0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4:03:42Z</dcterms:created>
  <dc:creator>ученик</dc:creator>
  <dc:description/>
  <dc:language>en-US</dc:language>
  <cp:lastModifiedBy>КарМаН</cp:lastModifiedBy>
  <dcterms:modified xsi:type="dcterms:W3CDTF">2011-03-28T11:54:35Z</dcterms:modified>
  <cp:revision>4</cp:revision>
  <dc:subject/>
  <dc:title>Слайд 1</dc:title>
</cp:coreProperties>
</file>