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C1E-4022-40FE-A584-43700948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EA4-68F8-4FBE-AAC3-1BFD69C8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2DB-83D4-4F92-AA86-FE7C53D2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B3E-9D3B-4075-A368-053FA394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167F4-39BF-425D-84EC-7B456CB4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B70FF-4E10-4424-A3D3-9AE76905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A2E5C-014F-4D87-A3D1-486811AC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62AFF-F7A0-4A27-AE7E-5417AD5B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77459-C2E9-4466-8870-DB893A47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B4953-27D8-4547-9230-1AF6B347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171C6-B0D6-44B8-AE56-3941B92C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309-EE48-44D3-822E-5A6001C2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A8F81-DB07-4FB8-8D6B-533A6B5B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FC831-518C-47CC-AAB6-C6AE798F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71AFB-A464-4484-AD5E-35F158D1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E8618-46BA-401E-9BDE-39F81445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C0CAD-D9AB-41F8-B6C1-B4703285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55B-B025-4B5C-A083-3CF97C82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26D-4C3D-4EAD-8852-2FAE7ECB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2EB-58FC-462B-B761-9E71707A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9730-FEFE-4054-AF4F-337591DB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3EF-4BD0-42BA-AC07-7BFF645E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04E-4FA2-45EC-9DB3-5538A806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8627-575C-4F72-8384-38EB1EFB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44D6-B207-442A-A3A2-57DD7F790A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61FF-402F-48D0-AB4D-564CAF68FC5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549360"/>
            <a:ext cx="6848280" cy="82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информатике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51640" y="5157720"/>
            <a:ext cx="28954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втор-составите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итель информатики и И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мохина Еле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A51-575A-4893-95C0-A67E9EF684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9" descr="программист"/>
          <p:cNvPicPr/>
          <p:nvPr/>
        </p:nvPicPr>
        <p:blipFill>
          <a:blip r:embed="rId2"/>
          <a:stretch/>
        </p:blipFill>
        <p:spPr>
          <a:xfrm>
            <a:off x="0" y="1268280"/>
            <a:ext cx="8964720" cy="43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C4E-0B1B-4A54-ACFF-5D9A887942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8" descr="программирование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2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5E7-E521-4558-9922-157E009F4A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веты к ребусам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Д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В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Н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НЧЕС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ТЕР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9D6-0485-4A63-A64F-8477A7CC00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21" descr="модем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12E2-2167-497A-8459-DACD1BB172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19" descr="информатика"/>
          <p:cNvPicPr/>
          <p:nvPr/>
        </p:nvPicPr>
        <p:blipFill>
          <a:blip r:embed="rId2"/>
          <a:stretch/>
        </p:blipFill>
        <p:spPr>
          <a:xfrm>
            <a:off x="1440" y="1160640"/>
            <a:ext cx="9142560" cy="42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B2E-15EB-406D-B365-1F928F9E29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22" descr="сервер"/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1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4C2-D375-433F-8A9E-AE6A7698E4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15" descr="исполнитель"/>
          <p:cNvPicPr/>
          <p:nvPr/>
        </p:nvPicPr>
        <p:blipFill>
          <a:blip r:embed="rId2"/>
          <a:stretch/>
        </p:blipFill>
        <p:spPr>
          <a:xfrm>
            <a:off x="0" y="907920"/>
            <a:ext cx="9217080" cy="46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B13-EF87-46CD-B1A7-05200D349A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14" descr="винчестер"/>
          <p:cNvPicPr/>
          <p:nvPr/>
        </p:nvPicPr>
        <p:blipFill>
          <a:blip r:embed="rId2"/>
          <a:stretch/>
        </p:blipFill>
        <p:spPr>
          <a:xfrm>
            <a:off x="108000" y="1844640"/>
            <a:ext cx="9036000" cy="41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CC4-F46C-4B88-9136-72A2B710A2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16" descr="память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30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17C-EF23-4D26-8AF9-ED86E69B28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17" descr="интернет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F26-925E-4969-8FF0-9DCFC2D519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7" descr="клавиатура"/>
          <p:cNvPicPr/>
          <p:nvPr/>
        </p:nvPicPr>
        <p:blipFill>
          <a:blip r:embed="rId2"/>
          <a:stretch/>
        </p:blipFill>
        <p:spPr>
          <a:xfrm>
            <a:off x="179280" y="1557360"/>
            <a:ext cx="8820360" cy="40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23F-D311-4DAF-A5FA-5FBCA8BAE1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4:03:42Z</dcterms:created>
  <dc:creator>ученик</dc:creator>
  <dc:description/>
  <dc:language>en-US</dc:language>
  <cp:lastModifiedBy>КарМаН</cp:lastModifiedBy>
  <dcterms:modified xsi:type="dcterms:W3CDTF">2011-03-28T11:54:35Z</dcterms:modified>
  <cp:revision>4</cp:revision>
  <dc:subject/>
  <dc:title>Слайд 1</dc:title>
</cp:coreProperties>
</file>