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0A2-AB5D-4BBD-8862-F79EA682D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C40-3E56-4E6B-8AAE-8BD0A501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10C-03EF-43BB-AF24-5B20F67A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E66-1BE4-44D5-89CA-0FFAA511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86A9B-5CC3-4C7F-9026-AA8813FD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0D82C-DAB6-4E79-8C99-CA973979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C8958-5F72-48AC-8BC9-652670B6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107DE-6BEA-4FFA-BD4F-C79C411B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000CC-6CB5-4540-BC4A-DF3B4505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C9E26-1AAC-41AE-8130-790FB4B8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9423F-CF81-411C-81C0-B2B52126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8FF6-9553-4656-B36C-C8BA1F79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671F2-857A-4B16-8716-67F3F800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96075-D44D-4801-A5F2-2C0215F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83E87-F7B7-46D9-BD66-44820F07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C8AE1-CAEB-4ED7-89E6-7353B448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1BB11-B61D-4664-BE33-C9C09FE0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89CE-6990-44D1-8171-3D6E7ACF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A76-DB61-4F4B-807A-126523E5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9F5-333F-43D6-9E4C-DC2C3C15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DE1-0E84-4C68-8720-59BB49ED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F98-EC44-4AFF-8D89-6AAE848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4E91-2250-4635-87BD-AE22D0A8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937-19FB-42AB-BA21-8E03BB3F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A03B-21FE-48DC-8D3D-50E8B0E5F2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8BFD-30F3-4D4B-AC99-33C7C0DD8A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848280" cy="82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нформатике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5157720"/>
            <a:ext cx="28954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втор-составит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хина Еле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FB6-1ECF-4445-84CA-5B6B38D931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9" descr="программист"/>
          <p:cNvPicPr/>
          <p:nvPr/>
        </p:nvPicPr>
        <p:blipFill>
          <a:blip r:embed="rId2"/>
          <a:stretch/>
        </p:blipFill>
        <p:spPr>
          <a:xfrm>
            <a:off x="0" y="1268280"/>
            <a:ext cx="8964720" cy="43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1D7-FE74-4EC6-A109-732A73F6A7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8" descr="программирование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13A6-CFCE-4988-8C80-259B023DA1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ы к ребуса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НЧЕ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2677-7373-496E-861B-F21BB8B436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1" descr="модем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36A-AACA-43FB-A4E5-C49AA42A2F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19" descr="информатика"/>
          <p:cNvPicPr/>
          <p:nvPr/>
        </p:nvPicPr>
        <p:blipFill>
          <a:blip r:embed="rId2"/>
          <a:stretch/>
        </p:blipFill>
        <p:spPr>
          <a:xfrm>
            <a:off x="1440" y="1160640"/>
            <a:ext cx="914256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E08-DBCB-485C-9420-55A8CF7F65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22" descr="сервер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1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C89-FB53-4BB9-B756-CEF1BF0569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15" descr="исполнитель"/>
          <p:cNvPicPr/>
          <p:nvPr/>
        </p:nvPicPr>
        <p:blipFill>
          <a:blip r:embed="rId2"/>
          <a:stretch/>
        </p:blipFill>
        <p:spPr>
          <a:xfrm>
            <a:off x="0" y="907920"/>
            <a:ext cx="9217080" cy="46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1B5-570F-40EC-9AF1-B7FCC7B567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4" descr="винчестер"/>
          <p:cNvPicPr/>
          <p:nvPr/>
        </p:nvPicPr>
        <p:blipFill>
          <a:blip r:embed="rId2"/>
          <a:stretch/>
        </p:blipFill>
        <p:spPr>
          <a:xfrm>
            <a:off x="108000" y="1844640"/>
            <a:ext cx="9036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4F9-5C75-43F5-AD8F-E168BEBF1C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16" descr="память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BAE-599F-431E-8300-666E35FF26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17" descr="интернет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71E-DF87-4C69-A124-EE484B208A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7" descr="клавиатура"/>
          <p:cNvPicPr/>
          <p:nvPr/>
        </p:nvPicPr>
        <p:blipFill>
          <a:blip r:embed="rId2"/>
          <a:stretch/>
        </p:blipFill>
        <p:spPr>
          <a:xfrm>
            <a:off x="179280" y="1557360"/>
            <a:ext cx="882036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A4C-E581-4679-86F2-DC6796FA9C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03:42Z</dcterms:created>
  <dc:creator>ученик</dc:creator>
  <dc:description/>
  <dc:language>en-US</dc:language>
  <cp:lastModifiedBy>КарМаН</cp:lastModifiedBy>
  <dcterms:modified xsi:type="dcterms:W3CDTF">2011-03-28T11:54:35Z</dcterms:modified>
  <cp:revision>4</cp:revision>
  <dc:subject/>
  <dc:title>Слайд 1</dc:title>
</cp:coreProperties>
</file>