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9E2-C539-4A32-965A-02D971E8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22A-6669-41B6-8A44-E55BE4AC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7AC-7296-4B82-8849-03EE25CA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EB1-5F45-4115-A85A-390431AE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544A6-243E-4CA5-AE50-DEF94C95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9456E-3872-42E7-BD0B-496D71B8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5AB84-418D-43B9-AB25-7555F667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10548-EEA0-4283-B508-99AF072A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F96AF-4E5B-4633-AA06-B663F25B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64DF0-A190-4B8A-8753-75B5CC2A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32BB7-39A4-44AD-91D6-190D9FBE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A04-AEC7-43B4-A752-1612D957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941C8-FB9B-4E3C-8579-7191068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286C4-8DB6-491F-BA38-E86199E2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07BC6-C13A-4384-A8FC-6BB1177D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49EF0-98D3-4E32-9AF5-B46A2D51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01B08-FB2D-4146-9B45-35E91380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205-EBF5-44E6-8E7F-AD5633CF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834-B87B-4968-BC70-E8097AA9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57D-D3A0-42AB-B2E5-01B7F37E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33F-263C-4E25-8430-14C3A4FF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D16-9E0B-4B3B-941F-334DC7FC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273-DBD5-4542-BDC1-92BA6E23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D39-7362-4A4C-BF47-58FEC271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725F-3805-4BA6-8751-AD5EF9A84B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DCF5-2C4F-420C-AA2D-0D31A92C7A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848280" cy="82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нформатике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5157720"/>
            <a:ext cx="28954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втор-составит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хина Еле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514-A54F-4F6F-BCE1-D9ADA35DA6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9" descr="программист"/>
          <p:cNvPicPr/>
          <p:nvPr/>
        </p:nvPicPr>
        <p:blipFill>
          <a:blip r:embed="rId2"/>
          <a:stretch/>
        </p:blipFill>
        <p:spPr>
          <a:xfrm>
            <a:off x="0" y="1268280"/>
            <a:ext cx="8964720" cy="43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B601-E98E-4262-BF14-A442299898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8" descr="программирование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41B-12DA-4116-A13A-AF841B0A63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ы к ребуса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НЧЕ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C7C-59A9-497B-AFAC-90222E81CD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1" descr="модем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4AF-FC4A-42CA-A18B-6705DE7C5F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19" descr="информатика"/>
          <p:cNvPicPr/>
          <p:nvPr/>
        </p:nvPicPr>
        <p:blipFill>
          <a:blip r:embed="rId2"/>
          <a:stretch/>
        </p:blipFill>
        <p:spPr>
          <a:xfrm>
            <a:off x="1440" y="1160640"/>
            <a:ext cx="914256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E43-6089-49AB-8E70-CB5E72C039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22" descr="сервер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1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D53-D325-4EA7-94AB-CE01BB179F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15" descr="исполнитель"/>
          <p:cNvPicPr/>
          <p:nvPr/>
        </p:nvPicPr>
        <p:blipFill>
          <a:blip r:embed="rId2"/>
          <a:stretch/>
        </p:blipFill>
        <p:spPr>
          <a:xfrm>
            <a:off x="0" y="907920"/>
            <a:ext cx="9217080" cy="46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1FF-C1B2-4E02-B12C-FAE7EC0BD0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4" descr="винчестер"/>
          <p:cNvPicPr/>
          <p:nvPr/>
        </p:nvPicPr>
        <p:blipFill>
          <a:blip r:embed="rId2"/>
          <a:stretch/>
        </p:blipFill>
        <p:spPr>
          <a:xfrm>
            <a:off x="108000" y="1844640"/>
            <a:ext cx="9036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B06-4149-4F2C-936A-0FF7798B13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16" descr="память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DA7-BC44-462F-A9CF-84CCA11959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17" descr="интернет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4AC-923A-4E17-8551-AA509C3061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7" descr="клавиатура"/>
          <p:cNvPicPr/>
          <p:nvPr/>
        </p:nvPicPr>
        <p:blipFill>
          <a:blip r:embed="rId2"/>
          <a:stretch/>
        </p:blipFill>
        <p:spPr>
          <a:xfrm>
            <a:off x="179280" y="1557360"/>
            <a:ext cx="882036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357-0F97-4F42-919C-EAF2AB5203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03:42Z</dcterms:created>
  <dc:creator>ученик</dc:creator>
  <dc:description/>
  <dc:language>en-US</dc:language>
  <cp:lastModifiedBy>КарМаН</cp:lastModifiedBy>
  <dcterms:modified xsi:type="dcterms:W3CDTF">2011-03-28T11:54:35Z</dcterms:modified>
  <cp:revision>4</cp:revision>
  <dc:subject/>
  <dc:title>Слайд 1</dc:title>
</cp:coreProperties>
</file>