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A3E8-64A1-4ED4-9D2D-8EEBBED6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7401-A49A-4684-9458-B8F33842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959C-5051-4FD6-A957-8C38024F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1357-E904-4995-9268-60D2E667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3DA0-B9F3-41D4-9D54-823B0CED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85ED-0CA0-404A-BC6B-553B0FBE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CB8A-F253-417E-AAF9-8CBD18ED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11D2-9CDD-43C1-9AB3-AEB4E5C8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7B2F-5EF3-4CC9-B15C-12B49473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1ACF-5CC6-4BC2-A455-0959CAD1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CCDF-8947-46AA-BD73-0625C644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E136-71D2-4E69-9C2B-9EAC969A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638A-828C-4403-AC3F-7B633813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CE3B-52F0-41A7-8012-83BDFCB2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97FE-D0CF-4880-BAE8-27EEB957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2411-FFAD-4DA6-A55F-251DFB26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49E8-49BB-4851-BB96-6B098A6A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6EDB-D423-409D-8CEF-E47620DA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CF12-0512-42FD-9500-518280A7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47BF-9A58-4274-B979-ADFBDFF1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A7EF-7CA0-4EB5-9E4D-49B78074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E1B-1F72-437E-9614-672CE6B9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44D9-3871-4F39-8A17-C976E7A9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161C-E717-43E4-AB4E-989B98B0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BF3C-680F-444F-A57F-76FEF5655B0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B854-3428-4B20-8CBA-9515DC597B6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1640" y="2924280"/>
            <a:ext cx="4716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Windows Vista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Просмотр выпусков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Home Basic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Home Premium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35280" cy="506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55640" y="4957920"/>
            <a:ext cx="8388360" cy="19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2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72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72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72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Basic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Home Basic — это выпуск Windows, предназначенный для обычных домашних компьютеров. Если компьютер планируется использовать только для таких задач, как работа в Интернете, использование электронной почты или просмотр фотографий, тогда система Windows Vista Home Basic является правильным выбором. Хотя этот выпуск лишен многих преимуществ системы Windows Vista Home Premium, он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позволит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сделать использование компьютера проще и безопаснее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чем при работе с Windows X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692360" cy="444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8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Premium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амый подходящий выпуск Windows для домашних настольных и переносных компьютеров. Система Windows Vista Home Premium обеспечивает производительность и развлекательные возможности, которые требуются от компьютера дома или в пути. Этот выпуск содержит Windows Media Center и облегчает работу с цифровыми фотографиями, ТВ и фильмами, а также музыкой. Кроме того, при использовании данного выпуска можно не беспокоиться о безопасности и надежности компьютера, которые находятся на качественно    новом уровне. С учетом всего вышесказанного, система Windows Vista Home Premium    переворачивает представления о развлечениях           на домашнем компьютере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908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indows Vista Ultimate предоставляет все необходимые функции, включая возможность легко переходить от развлечений к эффективной работе и наоборот. Этот выпуск системы Windows Vista обеспечивает усовершенствованную бизнес-ориентированную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инфраструктуру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производительность при мобильной             работе и специализированные средства развлечения для домашнего      использования в одной систе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Business является первой операционной системой Windows, разработанной специально для удовлетворения потребностей малого бизнеса. Улучшенный, простой в использовании интерфейс, который позволяет легко и быстро выполнять поиск необходимых данных как на компьютере, так и в Интернете, помогает повысить эффективность работы компании. Новые возможности обеспечения безопасности помогают контролировать и защищать ключевые сведения, которые важны для организации и от которых зависит доверие клиентов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6:28:57Z</dcterms:created>
  <dc:creator>1</dc:creator>
  <dc:description/>
  <dc:language>en-US</dc:language>
  <cp:lastModifiedBy>User</cp:lastModifiedBy>
  <dcterms:modified xsi:type="dcterms:W3CDTF">2012-12-17T10:33:26Z</dcterms:modified>
  <cp:revision>3</cp:revision>
  <dc:subject/>
  <dc:title>врспаравп</dc:title>
</cp:coreProperties>
</file>