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C27-34F2-4139-8332-4D277355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1F4-1C6B-4BE8-80F6-D45036A1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0CF-DFA3-4A94-8EA3-FDA713B5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835D-2625-4132-8FF3-53FA8F97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1757-519A-4263-BB99-B0EA7C95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4F25-2C00-4161-AFE8-6BCE9C16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E7C4-E14E-4EC8-9CDF-75E55AC3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8C52-1415-46F8-AD35-D9F58BC3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41A9-AE89-4BCA-AE65-2714907F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B2BD-B1A7-44C6-AC79-080BA70F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E08E-8458-4995-85B6-6690A2E5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9CCD-7EE8-4516-A10F-1F9860BF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D837-B98A-40A8-90AC-742CDD19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8B98-DDAC-494B-9314-F76D93BB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7437-6EF8-452F-814C-F591454E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C3B5-B11E-48AD-8CC5-01205B3B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8E44-B37B-40CE-BF6E-D4FECCB3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C1D-32DB-4359-8116-500D7E17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D420-6472-4819-A0EE-C4A1AEC3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E04-E71B-4A43-AB7C-7A983A89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F802-8B75-4F20-8BE7-95A18D78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45D8-BF08-43A8-AA72-4770CD03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15D-AB61-4918-9677-72787962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27E-D538-41D1-852A-AB7FDB5A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5C7A-C565-4EE9-8C86-9B954860C9D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FC57-74CD-4BDF-A2AE-D52D86AAC35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1640" y="2924280"/>
            <a:ext cx="4716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Windows Vista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Просмотр выпусков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Home Basic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Home Premium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35280" cy="506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5640" y="4957920"/>
            <a:ext cx="8388360" cy="19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2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72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72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72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Basic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Home Basic — это выпуск Windows, предназначенный для обычных домашних компьютеров. Если компьютер планируется использовать только для таких задач, как работа в Интернете, использование электронной почты или просмотр фотографий, тогда система Windows Vista Home Basic является правильным выбором. Хотя этот выпуск лишен многих преимуществ системы Windows Vista Home Premium, он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позволит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сделать использование компьютера проще и безопаснее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чем при работе с Windows X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92360" cy="444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8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Premium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амый подходящий выпуск Windows для домашних настольных и переносных компьютеров. Система Windows Vista Home Premium обеспечивает производительность и развлекательные возможности, которые требуются от компьютера дома или в пути. Этот выпуск содержит Windows Media Center и облегчает работу с цифровыми фотографиями, ТВ и фильмами, а также музыкой. Кроме того, при использовании данного выпуска можно не беспокоиться о безопасности и надежности компьютера, которые находятся на качественно    новом уровне. С учетом всего вышесказанного, система Windows Vista Home Premium    переворачивает представления о развлечениях           на домашнем компьютере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908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indows Vista Ultimate предоставляет все необходимые функции, включая возможность легко переходить от развлечений к эффективной работе и наоборот. Этот выпуск системы Windows Vista обеспечивает усовершенствованную бизнес-ориентированную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нфраструктуру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производительность при мобильной             работе и специализированные средства развлечения для домашнего      использования в одной систе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Business является первой операционной системой Windows, разработанной специально для удовлетворения потребностей малого бизнеса. Улучшенный, простой в использовании интерфейс, который позволяет легко и быстро выполнять поиск необходимых данных как на компьютере, так и в Интернете, помогает повысить эффективность работы компании. Новые возможности обеспечения безопасности помогают контролировать и защищать ключевые сведения, которые важны для организации и от которых зависит доверие клиентов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6:28:57Z</dcterms:created>
  <dc:creator>1</dc:creator>
  <dc:description/>
  <dc:language>en-US</dc:language>
  <cp:lastModifiedBy>User</cp:lastModifiedBy>
  <dcterms:modified xsi:type="dcterms:W3CDTF">2012-12-17T10:33:26Z</dcterms:modified>
  <cp:revision>3</cp:revision>
  <dc:subject/>
  <dc:title>врспаравп</dc:title>
</cp:coreProperties>
</file>