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850C-56F0-4E85-AC2D-E60C314E7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4CE4-DC7F-497B-962C-F3B2972CF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8A2F-4E07-41D2-83BF-53C055E9E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8452-7FD5-4C8C-BD81-995CDC86C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D3EBF-4F25-4486-B6A4-4E955E661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08C10-5391-4F38-911A-7FCBF020D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0CF8F-9E88-4864-B099-216D81F54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E3F16-D999-416C-8731-BB94A4F6B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F0BD0-629B-461B-809D-9B99E1F60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23D34-20C4-46D1-82A1-2F6EFF380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9E363-0A41-41FB-89A1-2010AD54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E422-990C-4DD9-8E39-36795D311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B24A2-D64E-455D-AE62-0AD5407E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1F7E9-6043-452A-BF9D-ED71E374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0C570-9F49-4CC8-B545-9CF04E92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E73E8-22B5-4616-B759-E0C996664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E18C9-BF15-4B66-B3B9-22C5F0B61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B8E4-896B-4193-9786-2609C1878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ED61-A666-470A-BBBB-08B824CC7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281B-440B-467C-912D-7577D14E6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1811-4860-4ABC-A69C-45BF460CC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EAEC-7717-43DA-ABAF-56025EB2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71A1-ECB6-4CD2-B210-1D548200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60B8-D924-434E-A271-13AE0CCF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EEEC8-FAD5-40FE-94FF-5735D1F3F94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32DA8-F176-4FA2-8F80-48D5DFAED4C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1.xml"/><Relationship Id="rId4" Type="http://schemas.openxmlformats.org/officeDocument/2006/relationships/image" Target="../media/image1.pn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.xml"/><Relationship Id="rId3" Type="http://schemas.openxmlformats.org/officeDocument/2006/relationships/image" Target="../media/image4.png"/><Relationship Id="rId4" Type="http://schemas.openxmlformats.org/officeDocument/2006/relationships/slide" Target="slide2.xm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slide" Target="slide1.xml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1640" y="2924280"/>
            <a:ext cx="471636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Windows Vista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Просмотр выпусков: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Home Basic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Home Premium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Ultimate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Busines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835280" cy="5065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755640" y="4957920"/>
            <a:ext cx="8388360" cy="190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720"/>
                            </p:stCondLst>
                            <p:childTnLst>
                              <p:par>
                                <p:cTn id="2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720"/>
                            </p:stCondLst>
                            <p:childTnLst>
                              <p:par>
                                <p:cTn id="2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2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720"/>
                            </p:stCondLst>
                            <p:childTnLst>
                              <p:par>
                                <p:cTn id="2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720"/>
                            </p:stCondLst>
                            <p:childTnLst>
                              <p:par>
                                <p:cTn id="3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Home Basic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Система Windows Vista Home Basic — это выпуск Windows, предназначенный для обычных домашних компьютеров. Если компьютер планируется использовать только для таких задач, как работа в Интернете, использование электронной почты или просмотр фотографий, тогда система Windows Vista Home Basic является правильным выбором. Хотя этот выпуск лишен многих преимуществ системы Windows Vista Home Premium, он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позволит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сделать использование компьютера проще и безопаснее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чем при работе с Windows XP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829640" y="5095800"/>
            <a:ext cx="1314360" cy="1762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692360" cy="444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0" y="6102360"/>
            <a:ext cx="75564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38">
                                  <p:stCondLst>
                                    <p:cond delay="15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85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5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Home Premium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Самый подходящий выпуск Windows для домашних настольных и переносных компьютеров. Система Windows Vista Home Premium обеспечивает производительность и развлекательные возможности, которые требуются от компьютера дома или в пути. Этот выпуск содержит Windows Media Center и облегчает работу с цифровыми фотографиями, ТВ и фильмами, а также музыкой. Кроме того, при использовании данного выпуска можно не беспокоиться о безопасности и надежности компьютера, которые находятся на качественно    новом уровне. С учетом всего вышесказанного, система Windows Vista Home Premium    переворачивает представления о развлечениях           на домашнем компьютере.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829640" y="5095800"/>
            <a:ext cx="1314360" cy="1762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6102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1908000" cy="5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Ultimate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indows Vista Ultimate предоставляет все необходимые функции, включая возможность легко переходить от развлечений к эффективной работе и наоборот. Этот выпуск системы Windows Vista обеспечивает усовершенствованную бизнес-ориентированную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инфраструктуру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, производительность при мобильной             работе и специализированные средства развлечения для домашнего      использования в одной систем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829640" y="5095800"/>
            <a:ext cx="1314360" cy="17622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6102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08000" cy="5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3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Business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Система Windows Vista Business является первой операционной системой Windows, разработанной специально для удовлетворения потребностей малого бизнеса. Улучшенный, простой в использовании интерфейс, который позволяет легко и быстро выполнять поиск необходимых данных как на компьютере, так и в Интернете, помогает повысить эффективность работы компании. Новые возможности обеспечения безопасности помогают контролировать и защищать ключевые сведения, которые важны для организации и от которых зависит доверие клиентов.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829640" y="5095800"/>
            <a:ext cx="1314360" cy="1762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6102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8000" cy="5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3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6:28:57Z</dcterms:created>
  <dc:creator>1</dc:creator>
  <dc:description/>
  <dc:language>en-US</dc:language>
  <cp:lastModifiedBy>User</cp:lastModifiedBy>
  <dcterms:modified xsi:type="dcterms:W3CDTF">2012-12-17T10:33:26Z</dcterms:modified>
  <cp:revision>3</cp:revision>
  <dc:subject/>
  <dc:title>врспаравп</dc:title>
</cp:coreProperties>
</file>