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8828-5A18-4935-9923-E07E59B5C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5A09-F105-42F9-85F5-1EDB6AED5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E026-7370-416B-86E2-B508F5C10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70DD-D5EE-49E8-8656-A159F9803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5FFDA-8E5A-425D-A6BF-E8BB08C24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F4861-A141-4114-8315-EA6BA4B78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0D374-AACE-4DB6-96DE-B41D383C4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30107-6982-4D2E-B6C7-DDBEF981F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80C55-B8D3-4738-A6BD-690072C9F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E4DBB-6D5B-497F-87E0-079238DE7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431F9-F5B1-48C6-A218-536EFAB4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8B15-1AD4-494A-B669-2387E7113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92F60-BC93-47B5-8513-3E9A5843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C7C78-E68B-40E4-9247-E050F1E3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82913-53EB-4772-A777-B7E64AFC2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0F02F-F892-440F-905C-C61C21777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EE233-FC96-4830-8781-4A1B030E4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1804-D5D5-486F-BCB9-ACE406D5F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0F85-A620-4343-A68A-70AD6D9AD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5437-770D-4388-85BF-FB45614A1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CE8E-2DEA-464B-947C-B3232732B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5C84-9BB9-4F2D-8B00-1350BDDE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7F0B-B2BD-4B98-9AD6-4AFF57F4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B3D8-65AF-43F8-BDEF-05F0D96E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52FCE-F3AE-49CB-8245-F07116B4D3C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844F9-1791-4C8C-8D36-6D5FC2E69A5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1.xml"/><Relationship Id="rId4" Type="http://schemas.openxmlformats.org/officeDocument/2006/relationships/image" Target="../media/image1.pn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.xml"/><Relationship Id="rId3" Type="http://schemas.openxmlformats.org/officeDocument/2006/relationships/image" Target="../media/image4.png"/><Relationship Id="rId4" Type="http://schemas.openxmlformats.org/officeDocument/2006/relationships/slide" Target="slide2.xm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slide" Target="slide1.xml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1640" y="2924280"/>
            <a:ext cx="471636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Windows Vista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Просмотр выпусков: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Home Basic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Home Premium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Ultimate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Busines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835280" cy="5065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755640" y="4957920"/>
            <a:ext cx="8388360" cy="190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720"/>
                            </p:stCondLst>
                            <p:childTnLst>
                              <p:par>
                                <p:cTn id="2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720"/>
                            </p:stCondLst>
                            <p:childTnLst>
                              <p:par>
                                <p:cTn id="2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2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720"/>
                            </p:stCondLst>
                            <p:childTnLst>
                              <p:par>
                                <p:cTn id="2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720"/>
                            </p:stCondLst>
                            <p:childTnLst>
                              <p:par>
                                <p:cTn id="3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Home Basic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Система Windows Vista Home Basic — это выпуск Windows, предназначенный для обычных домашних компьютеров. Если компьютер планируется использовать только для таких задач, как работа в Интернете, использование электронной почты или просмотр фотографий, тогда система Windows Vista Home Basic является правильным выбором. Хотя этот выпуск лишен многих преимуществ системы Windows Vista Home Premium, он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позволит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сделать использование компьютера проще и безопаснее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чем при работе с Windows XP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829640" y="5095800"/>
            <a:ext cx="1314360" cy="1762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692360" cy="444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0" y="6102360"/>
            <a:ext cx="75564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38">
                                  <p:stCondLst>
                                    <p:cond delay="15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85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5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Home Premium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Самый подходящий выпуск Windows для домашних настольных и переносных компьютеров. Система Windows Vista Home Premium обеспечивает производительность и развлекательные возможности, которые требуются от компьютера дома или в пути. Этот выпуск содержит Windows Media Center и облегчает работу с цифровыми фотографиями, ТВ и фильмами, а также музыкой. Кроме того, при использовании данного выпуска можно не беспокоиться о безопасности и надежности компьютера, которые находятся на качественно    новом уровне. С учетом всего вышесказанного, система Windows Vista Home Premium    переворачивает представления о развлечениях           на домашнем компьютере.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829640" y="5095800"/>
            <a:ext cx="1314360" cy="1762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6102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1908000" cy="5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Ultimate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indows Vista Ultimate предоставляет все необходимые функции, включая возможность легко переходить от развлечений к эффективной работе и наоборот. Этот выпуск системы Windows Vista обеспечивает усовершенствованную бизнес-ориентированную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инфраструктуру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, производительность при мобильной             работе и специализированные средства развлечения для домашнего      использования в одной систем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829640" y="5095800"/>
            <a:ext cx="1314360" cy="17622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6102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08000" cy="5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3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Business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Система Windows Vista Business является первой операционной системой Windows, разработанной специально для удовлетворения потребностей малого бизнеса. Улучшенный, простой в использовании интерфейс, который позволяет легко и быстро выполнять поиск необходимых данных как на компьютере, так и в Интернете, помогает повысить эффективность работы компании. Новые возможности обеспечения безопасности помогают контролировать и защищать ключевые сведения, которые важны для организации и от которых зависит доверие клиентов.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829640" y="5095800"/>
            <a:ext cx="1314360" cy="1762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6102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8000" cy="5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3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6:28:57Z</dcterms:created>
  <dc:creator>1</dc:creator>
  <dc:description/>
  <dc:language>en-US</dc:language>
  <cp:lastModifiedBy>User</cp:lastModifiedBy>
  <dcterms:modified xsi:type="dcterms:W3CDTF">2012-12-17T10:33:26Z</dcterms:modified>
  <cp:revision>3</cp:revision>
  <dc:subject/>
  <dc:title>врспаравп</dc:title>
</cp:coreProperties>
</file>