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B080-C6F7-4DA6-9C36-34A516E75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5352-D9DA-4206-B17D-436D9F0A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F8DE-53EB-4E86-AA40-3916D92D5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0725-713C-445B-9B81-C98E9A5EE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9688-1510-4501-9329-5990B4E4A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3AFA-032D-431E-9DA8-1230D939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5C9DB-3E16-4D05-9B57-F744351B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7213-F880-4532-8016-C06D7F1B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6D63-CF43-4C8E-B2AF-EB722CEB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244F-6A65-49AE-BF12-30121607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7880-A124-4E24-BA83-31655801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64FF-C12C-42C3-9B45-569946F5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DC71-B680-407F-8FDD-FEE44BE3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ACED-336C-4542-A5B7-D03C76D2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4AD5-DE0F-4F5A-842B-55697B8D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49A7-15C5-481C-8AF9-657B79053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AFFA-25DE-4DDB-80A6-411B630DF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6E4E-C7E5-4365-A92F-71376FDE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02B4-CE78-4B15-B137-DD9EA332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62B5-5470-4200-8327-4C16CF43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E51A-DDAE-4970-A4C8-891CD876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19EA-AEE4-440D-9FC1-C2634FED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9C52-3C11-45FB-A1BC-181F35E1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EEDA-F636-48EA-9A8A-E707C84A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E1F8-8FE2-4D12-ADD4-DF1CC448688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DCBA-4ECB-47CC-99B0-53BA72FC5DF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1.xml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.xml"/><Relationship Id="rId3" Type="http://schemas.openxmlformats.org/officeDocument/2006/relationships/image" Target="../media/image4.png"/><Relationship Id="rId4" Type="http://schemas.openxmlformats.org/officeDocument/2006/relationships/slide" Target="slide2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" Target="slide1.xm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1640" y="2924280"/>
            <a:ext cx="471636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Windows Vista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Просмотр выпусков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Home Basic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Home Premium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Ultimat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Busines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835280" cy="506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755640" y="4957920"/>
            <a:ext cx="8388360" cy="190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20"/>
                            </p:stCondLst>
                            <p:childTnLst>
                              <p:par>
                                <p:cTn id="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720"/>
                            </p:stCondLst>
                            <p:childTnLst>
                              <p:par>
                                <p:cTn id="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720"/>
                            </p:stCondLst>
                            <p:childTnLst>
                              <p:par>
                                <p:cTn id="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720"/>
                            </p:stCondLst>
                            <p:childTnLst>
                              <p:par>
                                <p:cTn id="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Home Basic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истема Windows Vista Home Basic — это выпуск Windows, предназначенный для обычных домашних компьютеров. Если компьютер планируется использовать только для таких задач, как работа в Интернете, использование электронной почты или просмотр фотографий, тогда система Windows Vista Home Basic является правильным выбором. Хотя этот выпуск лишен многих преимуществ системы Windows Vista Home Premium, он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позволит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сделать использование компьютера проще и безопаснее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чем при работе с Windows XP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692360" cy="444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38">
                                  <p:stCondLst>
                                    <p:cond delay="1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Home Premium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амый подходящий выпуск Windows для домашних настольных и переносных компьютеров. Система Windows Vista Home Premium обеспечивает производительность и развлекательные возможности, которые требуются от компьютера дома или в пути. Этот выпуск содержит Windows Media Center и облегчает работу с цифровыми фотографиями, ТВ и фильмами, а также музыкой. Кроме того, при использовании данного выпуска можно не беспокоиться о безопасности и надежности компьютера, которые находятся на качественно    новом уровне. С учетом всего вышесказанного, система Windows Vista Home Premium    переворачивает представления о развлечениях           на домашнем компьютере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1908000" cy="5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Ultimate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indows Vista Ultimate предоставляет все необходимые функции, включая возможность легко переходить от развлечений к эффективной работе и наоборот. Этот выпуск системы Windows Vista обеспечивает усовершенствованную бизнес-ориентированную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инфраструктуру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, производительность при мобильной             работе и специализированные средства развлечения для домашнего      использования в одной систем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0800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Busines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Система Windows Vista Business является первой операционной системой Windows, разработанной специально для удовлетворения потребностей малого бизнеса. Улучшенный, простой в использовании интерфейс, который позволяет легко и быстро выполнять поиск необходимых данных как на компьютере, так и в Интернете, помогает повысить эффективность работы компании. Новые возможности обеспечения безопасности помогают контролировать и защищать ключевые сведения, которые важны для организации и от которых зависит доверие клиентов.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829640" y="5095800"/>
            <a:ext cx="1314360" cy="1762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800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6:28:57Z</dcterms:created>
  <dc:creator>1</dc:creator>
  <dc:description/>
  <dc:language>en-US</dc:language>
  <cp:lastModifiedBy>User</cp:lastModifiedBy>
  <dcterms:modified xsi:type="dcterms:W3CDTF">2012-12-17T10:33:26Z</dcterms:modified>
  <cp:revision>3</cp:revision>
  <dc:subject/>
  <dc:title>врспаравп</dc:title>
</cp:coreProperties>
</file>