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A0E6-6D6E-4AA4-B4E5-3F4DC167E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EEE5-1A5D-4172-9B76-AC81DCA3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B14B-FC51-4992-A95C-BD92C8ACD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F980-01A7-4846-B37C-F5C336489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FC19-59F1-4C9F-ABA3-E308F1EDA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2E84-8024-4F2C-B393-3FFB22FC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F46F-270A-4F9C-84EC-415DA005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CAFE-66FA-45BB-B42B-8C1AECD9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8D4A-D808-468B-9F35-6831369D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DC64-B977-4E74-86EF-915C0B96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E86E-EE08-41A2-B033-054B86B7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8F1E-A263-4211-A1CA-ABAD2229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2CE3-3F0B-42D1-AC70-04F5E780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2FE3-7A1E-4681-9547-C251C17C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543D-ECEE-4759-9FAD-52785541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EDB5-A3A6-40B6-875F-382746A7D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91A8-7B09-44D3-A45B-ED8B6ADD7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FAA0-D608-4E16-99D1-BAB44A95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0680-BA21-4EF6-8291-1F7343A5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935E-2F38-4E1B-9EF2-81A44E79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C30D-8636-4F77-A7E3-53C162F2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20BD-1424-4428-996C-B3F601E7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797B-E2C8-4025-AE62-95B62E09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3F50-D1CB-4F83-8495-CA4A9C7D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51EC-63F4-4160-AB74-0CC3D0B0E82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6255-8C84-4CDF-83F4-863B50B8FF7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1.xml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image" Target="../media/image4.png"/><Relationship Id="rId4" Type="http://schemas.openxmlformats.org/officeDocument/2006/relationships/slide" Target="slide2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" Target="slide1.xm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1640" y="2924280"/>
            <a:ext cx="471636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Windows Vista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Просмотр выпусков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Home Basic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Home Premium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Ultimat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Busines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835280" cy="506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755640" y="4957920"/>
            <a:ext cx="8388360" cy="190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20"/>
                            </p:stCondLst>
                            <p:childTnLst>
                              <p:par>
                                <p:cTn id="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720"/>
                            </p:stCondLst>
                            <p:childTnLst>
                              <p:par>
                                <p:cTn id="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720"/>
                            </p:stCondLst>
                            <p:childTnLst>
                              <p:par>
                                <p:cTn id="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720"/>
                            </p:stCondLst>
                            <p:childTnLst>
                              <p:par>
                                <p:cTn id="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Home Basic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истема Windows Vista Home Basic — это выпуск Windows, предназначенный для обычных домашних компьютеров. Если компьютер планируется использовать только для таких задач, как работа в Интернете, использование электронной почты или просмотр фотографий, тогда система Windows Vista Home Basic является правильным выбором. Хотя этот выпуск лишен многих преимуществ системы Windows Vista Home Premium, он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позволит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сделать использование компьютера проще и безопаснее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чем при работе с Windows XP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692360" cy="444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8">
                                  <p:stCondLst>
                                    <p:cond delay="1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Home Premium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амый подходящий выпуск Windows для домашних настольных и переносных компьютеров. Система Windows Vista Home Premium обеспечивает производительность и развлекательные возможности, которые требуются от компьютера дома или в пути. Этот выпуск содержит Windows Media Center и облегчает работу с цифровыми фотографиями, ТВ и фильмами, а также музыкой. Кроме того, при использовании данного выпуска можно не беспокоиться о безопасности и надежности компьютера, которые находятся на качественно    новом уровне. С учетом всего вышесказанного, система Windows Vista Home Premium    переворачивает представления о развлечениях           на домашнем компьютере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1908000" cy="5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Ultimate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indows Vista Ultimate предоставляет все необходимые функции, включая возможность легко переходить от развлечений к эффективной работе и наоборот. Этот выпуск системы Windows Vista обеспечивает усовершенствованную бизнес-ориентированную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инфраструктуру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, производительность при мобильной             работе и специализированные средства развлечения для домашнего      использования в одной систем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0800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Busines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истема Windows Vista Business является первой операционной системой Windows, разработанной специально для удовлетворения потребностей малого бизнеса. Улучшенный, простой в использовании интерфейс, который позволяет легко и быстро выполнять поиск необходимых данных как на компьютере, так и в Интернете, помогает повысить эффективность работы компании. Новые возможности обеспечения безопасности помогают контролировать и защищать ключевые сведения, которые важны для организации и от которых зависит доверие клиентов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800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6:28:57Z</dcterms:created>
  <dc:creator>1</dc:creator>
  <dc:description/>
  <dc:language>en-US</dc:language>
  <cp:lastModifiedBy>User</cp:lastModifiedBy>
  <dcterms:modified xsi:type="dcterms:W3CDTF">2012-12-17T10:33:26Z</dcterms:modified>
  <cp:revision>3</cp:revision>
  <dc:subject/>
  <dc:title>врспаравп</dc:title>
</cp:coreProperties>
</file>