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343D-9652-4C52-BB15-9B4662A33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B387-01B3-4CC7-9AD8-0D060688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0D9A-7873-45D3-9914-633C4C01F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BE9A-5884-4A41-A848-657D5E5E3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7DC7-922F-4C90-8D18-05D1AA2C4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ECF3-6483-44A8-9CEE-46C974D1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CC74-D24D-4AA2-B1CD-2740565F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FFA5-9AFD-4475-B98C-98327811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2274-0843-432C-AF92-C8EC32C6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F84A-A8A5-4F24-93CB-F92F1E7E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0E50-FD44-46AD-82B4-8BFD1E8E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7160-4B70-42F2-890B-E0919206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BCC4-E9A4-415C-86E8-333B40F4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D3AA-DF4E-4E6D-81ED-FB355CBF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6461-D42D-4C90-814F-C40F897A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3A74-C29B-4020-834F-8E13AA0DD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486B-8166-402C-AEE6-54F42E8F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D766-82EE-4BB3-A698-EB40EBDA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4CA4-60E0-4529-81E0-12C6DA7F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C13D-7639-4462-92E9-44AF820D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92D6-1654-4E50-92D3-DBE72754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71BF-FEE8-4DBE-B996-60F7D9FA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D3CD-5FB2-4F28-883D-D9E22FC0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EDEE-92AA-40B2-9425-5F56B7DC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BEF8-6A2C-45D6-B71C-490F50EA0D2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4FE5-083D-4883-B0E1-634D794FB5D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1.xml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image" Target="../media/image4.png"/><Relationship Id="rId4" Type="http://schemas.openxmlformats.org/officeDocument/2006/relationships/slide" Target="slide2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" Target="slide1.xm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1640" y="2924280"/>
            <a:ext cx="471636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Windows Vista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Просмотр выпусков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Home Basic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Home Premium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Ultimat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Busines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835280" cy="506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755640" y="4957920"/>
            <a:ext cx="8388360" cy="190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20"/>
                            </p:stCondLst>
                            <p:childTnLst>
                              <p:par>
                                <p:cTn id="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720"/>
                            </p:stCondLst>
                            <p:childTnLst>
                              <p:par>
                                <p:cTn id="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720"/>
                            </p:stCondLst>
                            <p:childTnLst>
                              <p:par>
                                <p:cTn id="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720"/>
                            </p:stCondLst>
                            <p:childTnLst>
                              <p:par>
                                <p:cTn id="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Home Basic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истема Windows Vista Home Basic — это выпуск Windows, предназначенный для обычных домашних компьютеров. Если компьютер планируется использовать только для таких задач, как работа в Интернете, использование электронной почты или просмотр фотографий, тогда система Windows Vista Home Basic является правильным выбором. Хотя этот выпуск лишен многих преимуществ системы Windows Vista Home Premium, он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позволит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сделать использование компьютера проще и безопаснее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чем при работе с Windows XP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692360" cy="444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8">
                                  <p:stCondLst>
                                    <p:cond delay="1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Home Premium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амый подходящий выпуск Windows для домашних настольных и переносных компьютеров. Система Windows Vista Home Premium обеспечивает производительность и развлекательные возможности, которые требуются от компьютера дома или в пути. Этот выпуск содержит Windows Media Center и облегчает работу с цифровыми фотографиями, ТВ и фильмами, а также музыкой. Кроме того, при использовании данного выпуска можно не беспокоиться о безопасности и надежности компьютера, которые находятся на качественно    новом уровне. С учетом всего вышесказанного, система Windows Vista Home Premium    переворачивает представления о развлечениях           на домашнем компьютере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1908000" cy="5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Ultimate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indows Vista Ultimate предоставляет все необходимые функции, включая возможность легко переходить от развлечений к эффективной работе и наоборот. Этот выпуск системы Windows Vista обеспечивает усовершенствованную бизнес-ориентированную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инфраструктуру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, производительность при мобильной             работе и специализированные средства развлечения для домашнего      использования в одной систем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0800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Busines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истема Windows Vista Business является первой операционной системой Windows, разработанной специально для удовлетворения потребностей малого бизнеса. Улучшенный, простой в использовании интерфейс, который позволяет легко и быстро выполнять поиск необходимых данных как на компьютере, так и в Интернете, помогает повысить эффективность работы компании. Новые возможности обеспечения безопасности помогают контролировать и защищать ключевые сведения, которые важны для организации и от которых зависит доверие клиентов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800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6:28:57Z</dcterms:created>
  <dc:creator>1</dc:creator>
  <dc:description/>
  <dc:language>en-US</dc:language>
  <cp:lastModifiedBy>User</cp:lastModifiedBy>
  <dcterms:modified xsi:type="dcterms:W3CDTF">2012-12-17T10:33:26Z</dcterms:modified>
  <cp:revision>3</cp:revision>
  <dc:subject/>
  <dc:title>врспаравп</dc:title>
</cp:coreProperties>
</file>