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2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BD1E-8CA2-42F0-91D6-0A16F3EE3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4EE7-80A8-4D78-808B-94332446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362A-53FB-42D2-9A68-FF3AFA306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E05F-D084-4CC6-A17F-7A88E6083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06DC-01CF-4F9D-AC95-598CB36CE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540F9-736B-4B22-93E1-B2AD37C5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F825-1DD1-4011-BF66-D75C5BA9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30B6-9AD8-4775-AE57-6035EB27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4CB7-7A47-4469-B85B-E54CEE25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E266-D6DB-4E8E-B780-54547793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3FFC9-AF5B-471F-954E-3A713132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59BF-A5A2-43ED-9945-B5F75E94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1C5F6-8F9D-4049-938C-51FD4314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CE8B-140A-42BB-AD94-5BA55543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9377-9231-4112-9E21-7B5133CB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713F-8B35-42E1-939F-5B2FBA2D8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ABAB-85A5-48A8-AC22-C94E1F595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4D5E-B594-405E-B3D8-8B744F51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83E6-9853-4324-80DD-2C495838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82E0-F805-40DC-957B-85B5188A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9F75-E08F-4743-9D5F-B5707E8A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0327-7E31-407D-A0F0-AF1A039A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750A-32FE-48F5-9A1C-728BA279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63DD-6A40-4943-9531-772857E0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870E-A557-4B78-8BFB-8D36A5A6C24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BC4C-B6FF-4323-B18E-4C28A590D28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" Target="slide9.xml"/><Relationship Id="rId5" Type="http://schemas.openxmlformats.org/officeDocument/2006/relationships/image" Target="../media/image4.png"/><Relationship Id="rId6" Type="http://schemas.openxmlformats.org/officeDocument/2006/relationships/slide" Target="slide11.xm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" Target="slide10.xml"/><Relationship Id="rId5" Type="http://schemas.openxmlformats.org/officeDocument/2006/relationships/image" Target="../media/image4.png"/><Relationship Id="rId6" Type="http://schemas.openxmlformats.org/officeDocument/2006/relationships/slide" Target="slide12.xm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" Target="slide1.xml"/><Relationship Id="rId4" Type="http://schemas.openxmlformats.org/officeDocument/2006/relationships/image" Target="../media/image18.pn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" Target="slide18.xml"/><Relationship Id="rId5" Type="http://schemas.openxmlformats.org/officeDocument/2006/relationships/image" Target="../media/image3.png"/><Relationship Id="rId6" Type="http://schemas.openxmlformats.org/officeDocument/2006/relationships/slide" Target="slide1.xml"/><Relationship Id="rId7" Type="http://schemas.openxmlformats.org/officeDocument/2006/relationships/image" Target="../media/image18.png"/><Relationship Id="rId8" Type="http://schemas.openxmlformats.org/officeDocument/2006/relationships/slide" Target="slide1.xml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3.png"/><Relationship Id="rId3" Type="http://schemas.openxmlformats.org/officeDocument/2006/relationships/slide" Target="slide17.xml"/><Relationship Id="rId4" Type="http://schemas.openxmlformats.org/officeDocument/2006/relationships/image" Target="../media/image4.png"/><Relationship Id="rId5" Type="http://schemas.openxmlformats.org/officeDocument/2006/relationships/slide" Target="slide1.xml"/><Relationship Id="rId6" Type="http://schemas.openxmlformats.org/officeDocument/2006/relationships/image" Target="../media/image18.png"/><Relationship Id="rId7" Type="http://schemas.openxmlformats.org/officeDocument/2006/relationships/slide" Target="slide1.xml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20.xml"/><Relationship Id="rId3" Type="http://schemas.openxmlformats.org/officeDocument/2006/relationships/image" Target="../media/image3.png"/><Relationship Id="rId4" Type="http://schemas.openxmlformats.org/officeDocument/2006/relationships/slide" Target="slide18.xml"/><Relationship Id="rId5" Type="http://schemas.openxmlformats.org/officeDocument/2006/relationships/image" Target="../media/image4.png"/><Relationship Id="rId6" Type="http://schemas.openxmlformats.org/officeDocument/2006/relationships/slide" Target="slide1.xml"/><Relationship Id="rId7" Type="http://schemas.openxmlformats.org/officeDocument/2006/relationships/image" Target="../media/image18.png"/><Relationship Id="rId8" Type="http://schemas.openxmlformats.org/officeDocument/2006/relationships/slide" Target="slide1.xml"/><Relationship Id="rId9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" Target="slide19.xml"/><Relationship Id="rId4" Type="http://schemas.openxmlformats.org/officeDocument/2006/relationships/image" Target="../media/image4.png"/><Relationship Id="rId5" Type="http://schemas.openxmlformats.org/officeDocument/2006/relationships/slide" Target="slide1.xml"/><Relationship Id="rId6" Type="http://schemas.openxmlformats.org/officeDocument/2006/relationships/image" Target="../media/image18.png"/><Relationship Id="rId7" Type="http://schemas.openxmlformats.org/officeDocument/2006/relationships/slide" Target="slide1.xml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2.xml"/><Relationship Id="rId3" Type="http://schemas.openxmlformats.org/officeDocument/2006/relationships/image" Target="../media/image3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" Target="slide21.xml"/><Relationship Id="rId8" Type="http://schemas.openxmlformats.org/officeDocument/2006/relationships/image" Target="../media/image4.png"/><Relationship Id="rId9" Type="http://schemas.openxmlformats.org/officeDocument/2006/relationships/slide" Target="slide2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image" Target="../media/image18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" Target="slide22.xml"/><Relationship Id="rId5" Type="http://schemas.openxmlformats.org/officeDocument/2006/relationships/image" Target="../media/image4.png"/><Relationship Id="rId6" Type="http://schemas.openxmlformats.org/officeDocument/2006/relationships/slide" Target="slide24.xml"/><Relationship Id="rId7" Type="http://schemas.openxmlformats.org/officeDocument/2006/relationships/image" Target="../media/image3.png"/><Relationship Id="rId8" Type="http://schemas.openxmlformats.org/officeDocument/2006/relationships/image" Target="../media/image18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" Target="slide23.xml"/><Relationship Id="rId5" Type="http://schemas.openxmlformats.org/officeDocument/2006/relationships/image" Target="../media/image4.png"/><Relationship Id="rId6" Type="http://schemas.openxmlformats.org/officeDocument/2006/relationships/slide" Target="slide17.xml"/><Relationship Id="rId7" Type="http://schemas.openxmlformats.org/officeDocument/2006/relationships/image" Target="../media/image3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png"/><Relationship Id="rId3" Type="http://schemas.openxmlformats.org/officeDocument/2006/relationships/slide" Target="slide4.xml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8.xml"/><Relationship Id="rId3" Type="http://schemas.openxmlformats.org/officeDocument/2006/relationships/image" Target="../media/image3.png"/><Relationship Id="rId4" Type="http://schemas.openxmlformats.org/officeDocument/2006/relationships/slide" Target="slide6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" Target="slide8.xml"/><Relationship Id="rId8" Type="http://schemas.openxmlformats.org/officeDocument/2006/relationships/image" Target="../media/image4.png"/><Relationship Id="rId9" Type="http://schemas.openxmlformats.org/officeDocument/2006/relationships/slide" Target="slide10.xml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Архитектура компьютер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2" action="ppaction://hlinksldjump"/>
              </a:rPr>
              <a:t>Слайд-шо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Главные страниц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новная структура П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руктура системного бло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агистрально-модульное устройство П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цесс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атеринская(системная) пл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стройства долговременной памяти (ПЗ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стройства ввода информ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стройства вывода информ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етевые устрой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867800" y="491796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9029880" y="6743880"/>
            <a:ext cx="114120" cy="11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вы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Монитор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о для вывода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Принте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о для вывода на бумагу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Акустические колонки и наушник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а для вывода зву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wheel spokes="8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500"/>
                            </p:stCondLst>
                            <p:childTnLst>
                              <p:par>
                                <p:cTn id="2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6500"/>
                            </p:stCondLst>
                            <p:childTnLst>
                              <p:par>
                                <p:cTn id="2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етевые устройств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Сетевой адапте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 и приёма информации по се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Моде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, модуляции и демодуляции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Витая пар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соединения компьютеров в Л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3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500"/>
                            </p:stCondLst>
                            <p:childTnLst>
                              <p:par>
                                <p:cTn id="2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3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3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6500"/>
                            </p:stCondLst>
                            <p:childTnLst>
                              <p:par>
                                <p:cTn id="2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3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531120" cy="6669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2205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ff"/>
                </a:solidFill>
                <a:latin typeface="Arial"/>
              </a:rPr>
              <a:t>Ну вот и познакомились!!!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3745080" cy="3697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3924360" y="2997360"/>
            <a:ext cx="482436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THE END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3000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26920" y="1413000"/>
            <a:ext cx="7610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зентацию выполнил :</a:t>
            </a:r>
            <a:endParaRPr b="0" i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050920" y="3068640"/>
            <a:ext cx="49132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ражкин А. В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3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95280" y="333360"/>
            <a:ext cx="446400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Слайд-шо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835280" y="2060640"/>
            <a:ext cx="48258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разработано  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411280" y="3933720"/>
            <a:ext cx="6607440" cy="24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icrosoft  PowerPoin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3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284720" y="3554280"/>
            <a:ext cx="4572000" cy="33037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755640" y="620640"/>
            <a:ext cx="7704000" cy="2881440"/>
          </a:xfrm>
          <a:prstGeom prst="rect">
            <a:avLst/>
          </a:prstGeom>
        </p:spPr>
        <p:txBody>
          <a:bodyPr wrap="none" lIns="90000" rIns="90000" tIns="46800" bIns="46800" anchor="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 п а с и б о  з а  п р о с м о т р  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95280" y="6381720"/>
            <a:ext cx="504720" cy="3729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79280" y="6643800"/>
            <a:ext cx="945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Смотреть снов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60" name="">
            <a:hlinkClick r:id="rId5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Основная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истемный бл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они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лавиа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ы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олонки, науш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рин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кан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4788000" y="2852640"/>
            <a:ext cx="4176720" cy="3834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rId8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4211640" y="2349360"/>
            <a:ext cx="4257720" cy="3629160"/>
            <a:chOff x="4211640" y="2349360"/>
            <a:chExt cx="4257720" cy="3629160"/>
          </a:xfrm>
        </p:grpSpPr>
        <p:sp>
          <p:nvSpPr>
            <p:cNvPr id="169" name="Gear"/>
            <p:cNvSpPr/>
            <p:nvPr/>
          </p:nvSpPr>
          <p:spPr>
            <a:xfrm>
              <a:off x="6572160" y="2349360"/>
              <a:ext cx="1897200" cy="16639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211640" y="3035160"/>
              <a:ext cx="2268360" cy="1989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682960" y="3768840"/>
              <a:ext cx="2521080" cy="22096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истемного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блок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Процесс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Материнская пл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Оперативная память (ОЗ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нчестер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H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део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Звуко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Блок пит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3,5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F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CD/DV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Сете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нутренний мод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77" name="">
            <a:hlinkClick r:id="rId7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Магистрально-модульное устройство 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332000" y="836640"/>
            <a:ext cx="6551640" cy="29638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данны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передачи данных между различными устройств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адрес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выбора устройства или ячейки памяти, куда пересылаются или откуда считываются данные по шине данн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управлени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передачи сигналов, определяющих характер обмена информацией по магистра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84" name="">
            <a:hlinkClick r:id="rId8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42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Arial"/>
              </a:rPr>
              <a:t>Архитектура</a:t>
            </a:r>
            <a:br>
              <a:rPr sz="9600"/>
            </a:br>
            <a:r>
              <a:rPr b="0" lang="en-US" sz="9600" spc="-1" strike="noStrike">
                <a:solidFill>
                  <a:srgbClr val="0000ff"/>
                </a:solidFill>
                <a:latin typeface="Arial"/>
              </a:rPr>
              <a:t>компьютера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advTm="5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роцессор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ff"/>
                </a:solidFill>
                <a:latin typeface="Arial"/>
              </a:rPr>
              <a:t>Процессор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– устройство, выполняющее обработку данных и управляющее П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Основные характеристики процессор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Тактовая частот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количество тактов в секун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Разряднос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количество двоичных разрядов, которые могут передаваться или обрабатываться процессором одновремен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Производительнос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скорость выполнения определённых операций в какой-либо программной сре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24000" y="4149720"/>
            <a:ext cx="8496000" cy="2104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91" name="">
            <a:hlinkClick r:id="rId7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68360" y="1197000"/>
          <a:ext cx="8421480" cy="4852800"/>
        </p:xfrm>
        <a:graphic>
          <a:graphicData uri="http://schemas.openxmlformats.org/drawingml/2006/table">
            <a:tbl>
              <a:tblPr/>
              <a:tblGrid>
                <a:gridCol w="2519280"/>
                <a:gridCol w="2301840"/>
                <a:gridCol w="360036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устрой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Информацион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ёмк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Опас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воздей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28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FD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1,4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Магнитные поля; высокая температу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33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HD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500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Удары при установке и эксплуат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28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CD-R/RW дис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700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3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DVD-R/RW дис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8,5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Flash-памя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8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Неправильное отключ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долговременной памяти (ПЗУ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в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Клавиатура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ввода текстовой и числовой информ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Графический планшет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– устройство для рисования и ввода рукописного тек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Скане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реобразования графической информации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Цифровая каме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олучения фото и видео непосредственно в цифровом форма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Микрофон + звуковая карт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еревода звука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Мышь, трекбол, джойсти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манипулято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203" name="">
            <a:hlinkClick r:id="rId13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вы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Монитор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о для вывода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Принте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о для вывода на бумагу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Акустические колонки и наушник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а для вывода зву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8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209" name="">
            <a:hlinkClick r:id="rId9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етевые устройств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Сетевой адапте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 и приёма информации по се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Моде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, модуляции и демодуляции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Витая пар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соединения компьютеров в Л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8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Основная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истемный бл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они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лавиа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ы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олонки, науш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рин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кан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4788000" y="2852640"/>
            <a:ext cx="4176720" cy="383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4211640" y="2349360"/>
            <a:ext cx="4257720" cy="3629160"/>
            <a:chOff x="4211640" y="2349360"/>
            <a:chExt cx="4257720" cy="3629160"/>
          </a:xfrm>
        </p:grpSpPr>
        <p:sp>
          <p:nvSpPr>
            <p:cNvPr id="108" name="Gear"/>
            <p:cNvSpPr/>
            <p:nvPr/>
          </p:nvSpPr>
          <p:spPr>
            <a:xfrm>
              <a:off x="6572160" y="2349360"/>
              <a:ext cx="1897200" cy="16639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11640" y="3035160"/>
              <a:ext cx="2268360" cy="1989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682960" y="3768840"/>
              <a:ext cx="2521080" cy="22096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истемного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блок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Процесс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Материнская пл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Оперативная память (ОЗ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нчестер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H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део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Звуко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Блок пит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3,5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F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CD/DV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Сете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нутренний мод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advTm="32000">
    <p:checker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800"/>
                            </p:stCondLst>
                            <p:childTnLst>
                              <p:par>
                                <p:cTn id="7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300"/>
                            </p:stCondLst>
                            <p:childTnLst>
                              <p:par>
                                <p:cTn id="7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7400"/>
                            </p:stCondLst>
                            <p:childTnLst>
                              <p:par>
                                <p:cTn id="8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9700"/>
                            </p:stCondLst>
                            <p:childTnLst>
                              <p:par>
                                <p:cTn id="8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1600"/>
                            </p:stCondLst>
                            <p:childTnLst>
                              <p:par>
                                <p:cTn id="9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3800"/>
                            </p:stCondLst>
                            <p:childTnLst>
                              <p:par>
                                <p:cTn id="10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800"/>
                            </p:stCondLst>
                            <p:childTnLst>
                              <p:par>
                                <p:cTn id="10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8400"/>
                            </p:stCondLst>
                            <p:childTnLst>
                              <p:par>
                                <p:cTn id="11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1100"/>
                            </p:stCondLst>
                            <p:childTnLst>
                              <p:par>
                                <p:cTn id="11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3200"/>
                            </p:stCondLst>
                            <p:childTnLst>
                              <p:par>
                                <p:cTn id="12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Магистрально-модульное устройство 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данны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передачи данных между различными устройств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адрес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выбора устройства или ячейки памяти, куда пересылаются или откуда считываются данные по шине данн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управлени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передачи сигналов, определяющих характер обмена информацией по магистра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1116000" y="692280"/>
            <a:ext cx="6993000" cy="3162240"/>
          </a:xfrm>
          <a:prstGeom prst="rect">
            <a:avLst/>
          </a:prstGeom>
          <a:ln w="0">
            <a:noFill/>
          </a:ln>
        </p:spPr>
      </p:pic>
    </p:spTree>
  </p:cSld>
  <p:transition spd="slow" advTm="33000">
    <p:strips dir="r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15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905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45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роцессор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ff"/>
                </a:solidFill>
                <a:latin typeface="Arial"/>
              </a:rPr>
              <a:t>Процессор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– устройство, выполняющее обработку данных и управляющее П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Основные характеристики процессор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Тактовая частот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количество тактов в секун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Разряднос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количество двоичных разрядов, которые могут передаваться или обрабатываться процессором одновремен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Производительнос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скорость выполнения определённых операций в какой-либо программной сре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4149720"/>
            <a:ext cx="8496000" cy="2104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pull dir="d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440"/>
                            </p:stCondLst>
                            <p:childTnLst>
                              <p:par>
                                <p:cTn id="15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8540"/>
                            </p:stCondLst>
                            <p:childTnLst>
                              <p:par>
                                <p:cTn id="16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2740"/>
                            </p:stCondLst>
                            <p:childTnLst>
                              <p:par>
                                <p:cTn id="16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7740"/>
                            </p:stCondLst>
                            <p:childTnLst>
                              <p:par>
                                <p:cTn id="1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9040"/>
                            </p:stCondLst>
                            <p:childTnLst>
                              <p:par>
                                <p:cTn id="18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-3164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Материнская(системная)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лат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Основным аппаратным компонентом компьютера является системная плата. На системной плате реализована магистраль обмена информацией, имеются разъёмы для установки процессора и оперативной памяти, а также слоты для установки контроллеров внешних устрой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16000" y="2637000"/>
            <a:ext cx="6551640" cy="4017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долговременной памяти (ПЗУ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468360" y="1557360"/>
          <a:ext cx="8229600" cy="4172040"/>
        </p:xfrm>
        <a:graphic>
          <a:graphicData uri="http://schemas.openxmlformats.org/drawingml/2006/table">
            <a:tbl>
              <a:tblPr/>
              <a:tblGrid>
                <a:gridCol w="2301840"/>
                <a:gridCol w="2317680"/>
                <a:gridCol w="3610080"/>
              </a:tblGrid>
              <a:tr h="716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Наименование устрой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Информационная ёмк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Опас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воздей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FD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1,4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Магнитные поля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         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высокая температу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HD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500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Удары при установк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                 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и эксплуат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CD-R/RW дис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700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DVD-R/RW дис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8,5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Flash-памя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8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Неправильное отключ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p:transition spd="slow" advTm="20000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в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Клавиатура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ввода текстовой и числовой информ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Графический планшет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– устройство для рисования и ввода рукописного тек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Скане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реобразования графической информации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Цифровая каме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олучения фото и видео непосредственно в цифровом форма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Микрофон + звуковая карт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еревода звука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Мышь, трекбол, джойсти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манипулято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advTm="30000"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9000"/>
                            </p:stCondLst>
                            <p:childTnLst>
                              <p:par>
                                <p:cTn id="21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3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3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3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3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1:03:31Z</dcterms:created>
  <dc:creator>Александр</dc:creator>
  <dc:description/>
  <dc:language>en-US</dc:language>
  <cp:lastModifiedBy>Александр</cp:lastModifiedBy>
  <dcterms:modified xsi:type="dcterms:W3CDTF">2007-10-18T02:45:40Z</dcterms:modified>
  <cp:revision>6</cp:revision>
  <dc:subject/>
  <dc:title>Архитектура компьютера</dc:title>
</cp:coreProperties>
</file>