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430-D8C8-4975-A412-CF606FBD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6CC-50CF-4FFB-825A-A12B55A6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834-891E-49B7-AB45-6C74C628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97C-A52A-4035-8B14-17F06AAC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C51A-5A52-473A-9102-76C8FD18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C1B8-4CD9-4AF6-BB99-937BC2F4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B07C-3F9C-4CE3-9258-8072E18A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A3A0-690B-4448-9066-2DEDFF38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B6D2-6FDD-4F0F-BACE-2CB365A5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C925-9A32-4015-8569-8F180EFF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D21F-F448-4177-A463-23733062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959-A92C-4868-A427-3059601A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058E-0361-41B1-8619-FE09FA54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E3A0-8213-4069-8442-8B9BEFF5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76B8-C774-4EF3-9BE1-AA0DEA18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699D-4C8B-423A-835D-F185CCCC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0198-2C97-4B30-A0D4-AFE1208C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DFD-AE1E-4B2A-B464-63AA6FD7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8E5-9D6B-4DBA-979D-F277451B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5B1-CA5C-4473-9C91-43B89507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FDD-C52E-4B8D-9D17-C3E82C28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E1E-49E4-450A-8438-87B3C2A7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A83-5072-476A-B6DB-2317034B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211-D88B-479C-AC95-FA55923E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8568-B050-4490-871C-3701F0F0A3B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2185-F3E1-46DC-92AC-1AE2D7F0A0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1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4.png"/><Relationship Id="rId6" Type="http://schemas.openxmlformats.org/officeDocument/2006/relationships/slide" Target="slide1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" Target="slide1.xml"/><Relationship Id="rId4" Type="http://schemas.openxmlformats.org/officeDocument/2006/relationships/image" Target="../media/image18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" Target="slide18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0.xml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image" Target="../media/image4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19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21.xml"/><Relationship Id="rId8" Type="http://schemas.openxmlformats.org/officeDocument/2006/relationships/image" Target="../media/image4.png"/><Relationship Id="rId9" Type="http://schemas.openxmlformats.org/officeDocument/2006/relationships/slide" Target="slide2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image" Target="../media/image18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slide" Target="slide24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23.xml"/><Relationship Id="rId5" Type="http://schemas.openxmlformats.org/officeDocument/2006/relationships/image" Target="../media/image4.png"/><Relationship Id="rId6" Type="http://schemas.openxmlformats.org/officeDocument/2006/relationships/slide" Target="slide17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69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551640" cy="2963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1197000"/>
          <a:ext cx="8421480" cy="4852800"/>
        </p:xfrm>
        <a:graphic>
          <a:graphicData uri="http://schemas.openxmlformats.org/drawingml/2006/table">
            <a:tbl>
              <a:tblPr/>
              <a:tblGrid>
                <a:gridCol w="2519280"/>
                <a:gridCol w="2301840"/>
                <a:gridCol w="3600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Информацио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агнитные поля; 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H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дары при установке 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C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DV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lash-памя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13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08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68360" y="1557360"/>
          <a:ext cx="8229600" cy="417204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Александр</cp:lastModifiedBy>
  <dcterms:modified xsi:type="dcterms:W3CDTF">2007-10-18T02:45:40Z</dcterms:modified>
  <cp:revision>6</cp:revision>
  <dc:subject/>
  <dc:title>Архитектура компьютера</dc:title>
</cp:coreProperties>
</file>