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F6A6-6EDF-4C97-BCC9-F939589C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BC38-23E0-4419-8030-5EE2E499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C4E-6C8F-45D6-B725-BCE87C57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8A27-6917-48C3-AE5B-7BBDF72A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F302-DA52-457A-9162-C8D98432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6DEE-A903-44B7-A141-D88BBEE2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F89C-605E-407B-A612-51F6D21D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E011-5517-44FB-B63C-4AC11171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65EB-97D5-4CDC-A256-80AD9372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492A-4D23-468E-84AB-95D1D3E7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6149-138B-452A-9067-3E864B82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D7B9-D5A9-4557-A5E4-D6964C6D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DAC1-94CC-4153-80FB-717140DD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BB5A-9310-4E05-88BF-2DF71D1C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5AB2-4491-45BE-8919-F6E43032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E822-C20A-4BCD-A278-2357E9B2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5022-5633-412C-B25B-11789E75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855B-F5CB-4E75-9822-36F6A534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C516-EED8-43AE-8212-D1C7EFDC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0687-67CB-4534-AF67-E3A6EF9F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1923-F9A8-459D-BC07-7EAFACB8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3E47-1DA8-4FD4-B393-6DC54CD2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3C39-FE4F-46E5-AA86-5F12B534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B518-77FC-459E-A3E6-07AC6417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9280" y="-387360"/>
            <a:ext cx="8892720" cy="7173360"/>
            <a:chOff x="179280" y="-387360"/>
            <a:chExt cx="8892720" cy="7173360"/>
          </a:xfrm>
        </p:grpSpPr>
        <p:grpSp>
          <p:nvGrpSpPr>
            <p:cNvPr id="1" name="Group 3"/>
            <p:cNvGrpSpPr/>
            <p:nvPr/>
          </p:nvGrpSpPr>
          <p:grpSpPr>
            <a:xfrm>
              <a:off x="179280" y="305280"/>
              <a:ext cx="8892720" cy="6480720"/>
              <a:chOff x="179280" y="305280"/>
              <a:chExt cx="8892720" cy="648072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79280" y="305280"/>
                <a:ext cx="8892720" cy="6480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39393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222480" y="335520"/>
                <a:ext cx="997200" cy="955800"/>
                <a:chOff x="222480" y="335520"/>
                <a:chExt cx="997200" cy="95580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35080" y="388080"/>
                  <a:ext cx="947520" cy="903240"/>
                </a:xfrm>
                <a:prstGeom prst="pie">
                  <a:avLst/>
                </a:pr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222480" y="335520"/>
                  <a:ext cx="997200" cy="801720"/>
                </a:xfrm>
                <a:prstGeom prst="pi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330360" y="-387360"/>
              <a:ext cx="2638800" cy="1054080"/>
              <a:chOff x="3330360" y="-387360"/>
              <a:chExt cx="2638800" cy="105408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330360" y="197640"/>
                <a:ext cx="2638800" cy="11556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820320" y="136080"/>
                <a:ext cx="374400" cy="6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5038560" y="132840"/>
                <a:ext cx="374040" cy="6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320720" y="-387360"/>
                <a:ext cx="611280" cy="62568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335120" y="-365040"/>
                <a:ext cx="554760" cy="590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392000" y="-370080"/>
                <a:ext cx="449640" cy="139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93440" y="-313920"/>
                <a:ext cx="465840" cy="47268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425480" y="-285120"/>
                <a:ext cx="398160" cy="40428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543120" y="66240"/>
                <a:ext cx="2176200" cy="600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93160" y="136080"/>
                <a:ext cx="864360" cy="31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567240" y="588600"/>
                <a:ext cx="2138760" cy="6444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91360" y="134640"/>
                <a:ext cx="2097000" cy="3808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751640" y="136080"/>
                <a:ext cx="887040" cy="319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3939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prstGeom prst="pie">
            <a:avLst/>
          </a:pr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трибуты тэго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5604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03320" y="2441520"/>
            <a:ext cx="3956040" cy="3502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BD21370_"/>
          <p:cNvPicPr/>
          <p:nvPr/>
        </p:nvPicPr>
        <p:blipFill>
          <a:blip r:embed="rId2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аним_комп4"/>
          <p:cNvPicPr/>
          <p:nvPr/>
        </p:nvPicPr>
        <p:blipFill>
          <a:blip r:embed="rId3"/>
          <a:stretch/>
        </p:blipFill>
        <p:spPr>
          <a:xfrm>
            <a:off x="2771640" y="1989000"/>
            <a:ext cx="3306960" cy="33069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539640" y="5445000"/>
            <a:ext cx="8209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9"/>
          <p:cNvSpPr/>
          <p:nvPr/>
        </p:nvSpPr>
        <p:spPr>
          <a:xfrm>
            <a:off x="4000680" y="5072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читель физики и информатики  Дзагалова Т.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ОУ «Февральская СОШ№2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010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684360" y="1512720"/>
            <a:ext cx="8208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 мы заметили все атрибуты записываются сразу после названия тэга внутри угловых скобок просто через пробел без всяких знаков препина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684360" y="151272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имечани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трибуты     задаются     всегда     в открывающем тэге. Последовательность атрибутов не имеет значе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гласно логике у тэгов &lt;html&gt;, &lt;head&gt; и &lt;title&gt; также нет атрибут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вот у &lt;body&gt; и &lt;p&gt; атрибуты ес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684360" y="114300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ля &lt;p&gt; их не так много. Точнее один. Это выравнивание по горизонтали - Align (left -левое, right-правое, center-по центру). Если выравнивание на задано, то по умолчанию оно производится по левому краю страниц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684360" y="1512720"/>
            <a:ext cx="8208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пись &lt;p align=right&gt;Этот текст расположен справа&lt;/p&gt; и результа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т текст расположен спра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2680" y="85680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&lt;body&gt; несколько атрибутов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357120" y="1512720"/>
            <a:ext cx="8535960" cy="56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Text - цвет текста документа (по умолчанию черный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BGCOLOR - цвет фона документа (по умолчанию белый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LINK - цвет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VLink - цвет посещенной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Link - цвет активной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BACKGROUND - ссылка на фоновое изображе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3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684360" y="151272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гистр букв не имеет значения. Записан атрибут как BGCOLOR, bgcolor или BgColor - не имеет принципиального значения. Значения для всех атрибутов задается приравниванием с помощью математического знака "="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6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684360" y="1512720"/>
            <a:ext cx="8208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теперь, резюмируя сказанное создадим страничку с именем attrib.html, внутри которой поместим следующий код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285840" y="785880"/>
            <a:ext cx="871524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html&gt;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head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title&gt;Пример использования атрибутов тэгов&lt;/title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/head&gt;  &lt;body text=red bgcolor=yellow&gt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p&gt;Написано красным по желтому. Сейчас будет горизонтальный разделитель&lt;/p&gt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hr noshade size=3 width=80%&gt;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p align=center&gt;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Написано после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br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горизонтального разделителя&lt;br&gt;по центру&lt;/p&gt;    &lt;/body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/html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684360" y="1512720"/>
            <a:ext cx="820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ы установили цвет текста красным (red) text=red, а цвет фона страницы - желтым (yellow) bgcolor=yellow. Посмотрите, где поставлены тэги &lt;br&gt; и как они себя проявляют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320" y="404280"/>
            <a:ext cx="8358120" cy="559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прошлый раз мы разобрались с Вами в тэгах простой HTML-страницы. Даже с помощью того незначительного количества тэгов можно создавать относительно полноценные текстовые страницы. Сегодня же мы поговорим об атрибутах тэг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Рисунок241"/>
          <p:cNvPicPr/>
          <p:nvPr/>
        </p:nvPicPr>
        <p:blipFill>
          <a:blip r:embed="rId2"/>
          <a:stretch/>
        </p:blipFill>
        <p:spPr>
          <a:xfrm>
            <a:off x="7143840" y="4786200"/>
            <a:ext cx="1876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4" descr="BD21370_"/>
          <p:cNvPicPr/>
          <p:nvPr/>
        </p:nvPicPr>
        <p:blipFill>
          <a:blip r:embed="rId1"/>
          <a:stretch/>
        </p:blipFill>
        <p:spPr>
          <a:xfrm>
            <a:off x="611280" y="652464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928800"/>
            <a:ext cx="8076960" cy="5286240"/>
          </a:xfrm>
          <a:prstGeom prst="rect">
            <a:avLst/>
          </a:prstGeom>
          <a:noFill/>
          <a:ln cap="rnd" w="25560">
            <a:solidFill>
              <a:srgbClr val="33cc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днако в начале хочется заострить Ваше внимание на исключении из правил. Исключение состоит в том, что имеются тэги не требующие закрытия. В частности два тэга &lt;br&gt; и &lt;hr&gt; не имеют закрывающих - &lt;/br&gt; и &lt;/hr&gt; в силу элементарной логики. 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34" descr="Рисунок241"/>
          <p:cNvPicPr/>
          <p:nvPr/>
        </p:nvPicPr>
        <p:blipFill>
          <a:blip r:embed="rId2"/>
          <a:stretch/>
        </p:blipFill>
        <p:spPr>
          <a:xfrm>
            <a:off x="7267680" y="4786200"/>
            <a:ext cx="1876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076960" cy="52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эг &lt;br&gt; (от англ.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рывать) применяется для принудительного перехода на другую строку. Не следует путать его с тэгом &lt;p&gt;, начинающего новый абзац. Тэгом &lt;br&gt; можно принудительно перейти на новую строку даже внутри абзац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BD21370_"/>
          <p:cNvPicPr/>
          <p:nvPr/>
        </p:nvPicPr>
        <p:blipFill>
          <a:blip r:embed="rId1"/>
          <a:stretch/>
        </p:blipFill>
        <p:spPr>
          <a:xfrm>
            <a:off x="611280" y="652464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71680" y="857160"/>
            <a:ext cx="8358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нятно что сразу после перехода на новую строку "власть" тэга заканчивается автоматически, следовательно закрытие данного тэга не требуется. Допустимо применение последовательности из двух и нескольких тэгов. Например &lt;br&gt;&lt;br&gt; означает переход на новую строку и пропуск еще одной строк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72680" y="1285560"/>
            <a:ext cx="807732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эг &lt;hr&gt; (от англ.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- горизонтальный) . Это горизонтальный разделитель страницы. Т.е. в месте установки данного тэга проводится горизонтальная линия от левого до правого поля страницы. Как отмечалось &lt;hr&gt; также не требует закрытия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Рисунок244"/>
          <p:cNvPicPr/>
          <p:nvPr/>
        </p:nvPicPr>
        <p:blipFill>
          <a:blip r:embed="rId2"/>
          <a:stretch/>
        </p:blipFill>
        <p:spPr>
          <a:xfrm>
            <a:off x="3571920" y="5072040"/>
            <a:ext cx="165240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684360" y="1000080"/>
            <a:ext cx="820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теперь перейдем к рассмотрению атрибутов тэга. Практический каждый тэг, за исключением тех, где это не требуется в силу логики, имеет атрибуты. Начнем с рассмотренных &lt;br&gt; и &lt;hr&gt;. Переход на новую строку не имеет никаких атрибутов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 вот для горизонтального разделителя можно задать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684360" y="1714680"/>
            <a:ext cx="82087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lign - горизонтальное выравнивание (left -левое, right-правое, center-по центру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ize - размер по вертикали (толщина горизонтальной черты в пикселях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WIDTH - ширина горизонтального разделителя в точках экрана или процентах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NOSHADE - если установлен этот атрибут, то черта проводится без оттенк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2680" y="785520"/>
            <a:ext cx="80773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ассмотрим примеры: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285840" y="1512720"/>
            <a:ext cx="871524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стой горизонтальный разделитель &lt;hr&gt; без атрибутов по умолчанию выводится с оттенком с центровкой по горизонта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перь зададим все атрибуты следующим образом: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&lt;hr noshade size=5 width=50%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Прямая соединительная линия 9"/>
          <p:cNvSpPr/>
          <p:nvPr/>
        </p:nvSpPr>
        <p:spPr>
          <a:xfrm>
            <a:off x="714240" y="3500280"/>
            <a:ext cx="728676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рямая соединительная линия 11"/>
          <p:cNvSpPr/>
          <p:nvPr/>
        </p:nvSpPr>
        <p:spPr>
          <a:xfrm>
            <a:off x="2500200" y="5857920"/>
            <a:ext cx="4143600" cy="144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08:30:50Z</dcterms:created>
  <dc:creator>Class300</dc:creator>
  <dc:description/>
  <dc:language>en-US</dc:language>
  <cp:lastModifiedBy>таня</cp:lastModifiedBy>
  <dcterms:modified xsi:type="dcterms:W3CDTF">2011-01-31T12:41:28Z</dcterms:modified>
  <cp:revision>24</cp:revision>
  <dc:subject/>
  <dc:title>Печать документа</dc:title>
</cp:coreProperties>
</file>