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9689-66DC-43A1-8E7D-6843227FD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9EBA-8F4B-4CD6-ADAE-9E99DEA5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9792-941B-4A52-A641-A44A1A38C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70CC-AFE7-46AD-8B8E-87BE3672F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3AF9-67BA-4749-9A1B-C5450117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F41B-F656-4C0E-AE5F-941EBB1DD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06EF-3B18-44D2-8ABA-85187F60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9DD-C2D7-4292-8CCF-52F2A178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B9D2E-6E13-4F71-B4E7-EE7163C5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FB37-142E-4087-A36B-46C65A5BA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CBFD-1EC4-4D44-BBF2-30201D54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9660-ADBE-496B-8698-95A70C14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B984-8709-48E0-80E9-276901F42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768B3-F4E7-4496-8238-D900AC5D7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4686-5CA8-4F35-8D1E-FC5423B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5200-AF86-415E-B527-6DA3089BB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2164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7920" y="244152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9500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2164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7920" y="4271040"/>
            <a:ext cx="259632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7177-3C97-414B-869C-8F0E3868A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A503-C9A4-444E-82DF-2A7A153B9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AE9B-0816-4E3C-88BF-0A01223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981A-C432-4204-A9B6-B5D68EAB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472680" y="121572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353B-511F-4312-AD26-82EDEF4E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C80C-1BCE-412D-A290-65FC9C63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27440" y="427104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77E-CE82-43B6-A5ED-659B1BBF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7440" y="2441520"/>
            <a:ext cx="39351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000" y="4271040"/>
            <a:ext cx="8064360" cy="167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EFD8-60C4-4A94-9C60-F215F6518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9280" y="-387360"/>
            <a:ext cx="8892720" cy="7173360"/>
            <a:chOff x="179280" y="-387360"/>
            <a:chExt cx="8892720" cy="7173360"/>
          </a:xfrm>
        </p:grpSpPr>
        <p:grpSp>
          <p:nvGrpSpPr>
            <p:cNvPr id="1" name="Group 3"/>
            <p:cNvGrpSpPr/>
            <p:nvPr/>
          </p:nvGrpSpPr>
          <p:grpSpPr>
            <a:xfrm>
              <a:off x="179280" y="305280"/>
              <a:ext cx="8892720" cy="6480720"/>
              <a:chOff x="179280" y="305280"/>
              <a:chExt cx="8892720" cy="648072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179280" y="305280"/>
                <a:ext cx="8892720" cy="6480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39393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Group 5"/>
              <p:cNvGrpSpPr/>
              <p:nvPr/>
            </p:nvGrpSpPr>
            <p:grpSpPr>
              <a:xfrm>
                <a:off x="222480" y="335520"/>
                <a:ext cx="997200" cy="955800"/>
                <a:chOff x="222480" y="335520"/>
                <a:chExt cx="997200" cy="955800"/>
              </a:xfrm>
            </p:grpSpPr>
            <p:sp>
              <p:nvSpPr>
                <p:cNvPr id="4" name="Freeform 6"/>
                <p:cNvSpPr/>
                <p:nvPr/>
              </p:nvSpPr>
              <p:spPr>
                <a:xfrm>
                  <a:off x="235080" y="388080"/>
                  <a:ext cx="947520" cy="903240"/>
                </a:xfrm>
                <a:prstGeom prst="pie">
                  <a:avLst/>
                </a:prstGeom>
                <a:solidFill>
                  <a:srgbClr val="39393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Freeform 7"/>
                <p:cNvSpPr/>
                <p:nvPr/>
              </p:nvSpPr>
              <p:spPr>
                <a:xfrm>
                  <a:off x="222480" y="335520"/>
                  <a:ext cx="997200" cy="801720"/>
                </a:xfrm>
                <a:prstGeom prst="pie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" name="Group 8"/>
            <p:cNvGrpSpPr/>
            <p:nvPr/>
          </p:nvGrpSpPr>
          <p:grpSpPr>
            <a:xfrm>
              <a:off x="3330360" y="-387360"/>
              <a:ext cx="2638800" cy="1054080"/>
              <a:chOff x="3330360" y="-387360"/>
              <a:chExt cx="2638800" cy="1054080"/>
            </a:xfrm>
          </p:grpSpPr>
          <p:sp>
            <p:nvSpPr>
              <p:cNvPr id="7" name="Rectangle 9"/>
              <p:cNvSpPr/>
              <p:nvPr/>
            </p:nvSpPr>
            <p:spPr>
              <a:xfrm>
                <a:off x="3330360" y="197640"/>
                <a:ext cx="2638800" cy="115560"/>
              </a:xfrm>
              <a:prstGeom prst="rect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3820320" y="136080"/>
                <a:ext cx="37440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5038560" y="132840"/>
                <a:ext cx="374040" cy="644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4320720" y="-387360"/>
                <a:ext cx="611280" cy="625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335120" y="-365040"/>
                <a:ext cx="554760" cy="5904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392000" y="-370080"/>
                <a:ext cx="449640" cy="139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Oval 15"/>
              <p:cNvSpPr/>
              <p:nvPr/>
            </p:nvSpPr>
            <p:spPr>
              <a:xfrm>
                <a:off x="4393440" y="-313920"/>
                <a:ext cx="465840" cy="47268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4425480" y="-285120"/>
                <a:ext cx="398160" cy="40428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3543120" y="66240"/>
                <a:ext cx="2176200" cy="6004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593160" y="136080"/>
                <a:ext cx="864360" cy="3128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3567240" y="588600"/>
                <a:ext cx="2138760" cy="6444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3591360" y="134640"/>
                <a:ext cx="2097000" cy="3808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751640" y="136080"/>
                <a:ext cx="887040" cy="3196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507960" y="6067080"/>
            <a:ext cx="238752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048120" y="6067080"/>
            <a:ext cx="322560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413040" y="6067440"/>
            <a:ext cx="2133720" cy="511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Freeform 27"/>
          <p:cNvSpPr/>
          <p:nvPr/>
        </p:nvSpPr>
        <p:spPr>
          <a:xfrm>
            <a:off x="3654360" y="2257560"/>
            <a:ext cx="2048040" cy="90360"/>
          </a:xfrm>
          <a:prstGeom prst="pi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2"/>
          <p:cNvGrpSpPr/>
          <p:nvPr/>
        </p:nvGrpSpPr>
        <p:grpSpPr>
          <a:xfrm>
            <a:off x="204840" y="0"/>
            <a:ext cx="8781840" cy="6753240"/>
            <a:chOff x="204840" y="0"/>
            <a:chExt cx="8781840" cy="6753240"/>
          </a:xfrm>
        </p:grpSpPr>
        <p:sp>
          <p:nvSpPr>
            <p:cNvPr id="63" name="Freeform 3"/>
            <p:cNvSpPr/>
            <p:nvPr/>
          </p:nvSpPr>
          <p:spPr>
            <a:xfrm>
              <a:off x="204840" y="652320"/>
              <a:ext cx="8781840" cy="6100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39393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" name="Group 4"/>
            <p:cNvGrpSpPr/>
            <p:nvPr/>
          </p:nvGrpSpPr>
          <p:grpSpPr>
            <a:xfrm>
              <a:off x="3300480" y="0"/>
              <a:ext cx="2603520" cy="988920"/>
              <a:chOff x="3300480" y="0"/>
              <a:chExt cx="2603520" cy="988920"/>
            </a:xfrm>
          </p:grpSpPr>
          <p:sp>
            <p:nvSpPr>
              <p:cNvPr id="65" name="Rectangle 5"/>
              <p:cNvSpPr/>
              <p:nvPr/>
            </p:nvSpPr>
            <p:spPr>
              <a:xfrm>
                <a:off x="3300480" y="546120"/>
                <a:ext cx="2603520" cy="114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f5f5f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Rectangle 6"/>
              <p:cNvSpPr/>
              <p:nvPr/>
            </p:nvSpPr>
            <p:spPr>
              <a:xfrm>
                <a:off x="3782880" y="493560"/>
                <a:ext cx="368280" cy="52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Rectangle 7"/>
              <p:cNvSpPr/>
              <p:nvPr/>
            </p:nvSpPr>
            <p:spPr>
              <a:xfrm>
                <a:off x="4975200" y="507960"/>
                <a:ext cx="368280" cy="507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Oval 8"/>
              <p:cNvSpPr/>
              <p:nvPr/>
            </p:nvSpPr>
            <p:spPr>
              <a:xfrm>
                <a:off x="4275000" y="0"/>
                <a:ext cx="601920" cy="587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Oval 9"/>
              <p:cNvSpPr/>
              <p:nvPr/>
            </p:nvSpPr>
            <p:spPr>
              <a:xfrm>
                <a:off x="4303800" y="20520"/>
                <a:ext cx="546120" cy="551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10"/>
              <p:cNvSpPr/>
              <p:nvPr/>
            </p:nvSpPr>
            <p:spPr>
              <a:xfrm>
                <a:off x="4344840" y="15840"/>
                <a:ext cx="443160" cy="130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Oval 11"/>
              <p:cNvSpPr/>
              <p:nvPr/>
            </p:nvSpPr>
            <p:spPr>
              <a:xfrm>
                <a:off x="4346640" y="68400"/>
                <a:ext cx="458640" cy="446040"/>
              </a:xfrm>
              <a:prstGeom prst="ellipse">
                <a:avLst/>
              </a:prstGeom>
              <a:gradFill rotWithShape="0">
                <a:gsLst>
                  <a:gs pos="0">
                    <a:srgbClr val="1c1c1c"/>
                  </a:gs>
                  <a:gs pos="50000">
                    <a:srgbClr val="ffffff"/>
                  </a:gs>
                  <a:gs pos="100000">
                    <a:srgbClr val="1c1c1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Oval 12"/>
              <p:cNvSpPr/>
              <p:nvPr/>
            </p:nvSpPr>
            <p:spPr>
              <a:xfrm>
                <a:off x="4378320" y="95400"/>
                <a:ext cx="392040" cy="37764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3"/>
              <p:cNvSpPr/>
              <p:nvPr/>
            </p:nvSpPr>
            <p:spPr>
              <a:xfrm>
                <a:off x="3510000" y="423720"/>
                <a:ext cx="2155680" cy="565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1c1c1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4"/>
              <p:cNvSpPr/>
              <p:nvPr/>
            </p:nvSpPr>
            <p:spPr>
              <a:xfrm>
                <a:off x="3559320" y="488880"/>
                <a:ext cx="850680" cy="29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5"/>
              <p:cNvSpPr/>
              <p:nvPr/>
            </p:nvSpPr>
            <p:spPr>
              <a:xfrm>
                <a:off x="3533760" y="911160"/>
                <a:ext cx="2104920" cy="63720"/>
              </a:xfrm>
              <a:prstGeom prst="pie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6"/>
              <p:cNvSpPr/>
              <p:nvPr/>
            </p:nvSpPr>
            <p:spPr>
              <a:xfrm>
                <a:off x="3557520" y="487440"/>
                <a:ext cx="2063880" cy="355680"/>
              </a:xfrm>
              <a:prstGeom prst="pie">
                <a:avLst/>
              </a:prstGeom>
              <a:gradFill rotWithShape="0">
                <a:gsLst>
                  <a:gs pos="0">
                    <a:srgbClr val="1c1c1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7"/>
              <p:cNvSpPr/>
              <p:nvPr/>
            </p:nvSpPr>
            <p:spPr>
              <a:xfrm>
                <a:off x="4699080" y="492120"/>
                <a:ext cx="887400" cy="291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8" name="Freeform 18"/>
          <p:cNvSpPr/>
          <p:nvPr/>
        </p:nvSpPr>
        <p:spPr>
          <a:xfrm>
            <a:off x="272880" y="797040"/>
            <a:ext cx="806760" cy="717480"/>
          </a:xfrm>
          <a:prstGeom prst="pie">
            <a:avLst/>
          </a:prstGeom>
          <a:solidFill>
            <a:srgbClr val="39393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reeform 19"/>
          <p:cNvSpPr/>
          <p:nvPr/>
        </p:nvSpPr>
        <p:spPr>
          <a:xfrm>
            <a:off x="255600" y="654120"/>
            <a:ext cx="984240" cy="76680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5000" y="2441520"/>
            <a:ext cx="806436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680760" y="6067440"/>
            <a:ext cx="23000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07880" y="6067440"/>
            <a:ext cx="312444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372360" y="6067440"/>
            <a:ext cx="2311200" cy="39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2680" y="12157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трибуты тэгов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95000" y="2441520"/>
            <a:ext cx="3956040" cy="350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03320" y="2441520"/>
            <a:ext cx="3956040" cy="3502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BD21370_"/>
          <p:cNvPicPr/>
          <p:nvPr/>
        </p:nvPicPr>
        <p:blipFill>
          <a:blip r:embed="rId2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аним_комп4"/>
          <p:cNvPicPr/>
          <p:nvPr/>
        </p:nvPicPr>
        <p:blipFill>
          <a:blip r:embed="rId3"/>
          <a:stretch/>
        </p:blipFill>
        <p:spPr>
          <a:xfrm>
            <a:off x="2771640" y="1989000"/>
            <a:ext cx="3306960" cy="33069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7"/>
          <p:cNvSpPr/>
          <p:nvPr/>
        </p:nvSpPr>
        <p:spPr>
          <a:xfrm>
            <a:off x="539640" y="5445000"/>
            <a:ext cx="82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9"/>
          <p:cNvSpPr/>
          <p:nvPr/>
        </p:nvSpPr>
        <p:spPr>
          <a:xfrm>
            <a:off x="4000680" y="507204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ь физики и информатики  Дзагалова Т.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У «Февральская СОШ№2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2010г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684360" y="1512720"/>
            <a:ext cx="820872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ак мы заметили все атрибуты записываются сразу после названия тэга внутри угловых скобок просто через пробел без всяких знаков препина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римечани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трибуты     задаются     всегда     в открывающем тэге. Последовательность атрибутов не имеет значения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гласно логике у тэгов &lt;html&gt;, &lt;head&gt; и &lt;title&gt; также нет атрибут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вот у &lt;body&gt; и &lt;p&gt; атрибуты ест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>
            <a:off x="684360" y="114300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Для &lt;p&gt; их не так много. Точнее один. Это выравнивание по горизонтали - Align (left -левое, right-правое, center-по центру). Если выравнивание на задано, то по умолчанию оно производится по левому краю страницы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4"/>
          <p:cNvSpPr/>
          <p:nvPr/>
        </p:nvSpPr>
        <p:spPr>
          <a:xfrm>
            <a:off x="684360" y="1512720"/>
            <a:ext cx="820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пись &lt;p align=right&gt;Этот текст расположен справа&lt;/p&gt; и результат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тот текст расположен справ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2680" y="856800"/>
            <a:ext cx="80773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У &lt;body&gt; несколько атрибутов.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4"/>
          <p:cNvSpPr/>
          <p:nvPr/>
        </p:nvSpPr>
        <p:spPr>
          <a:xfrm>
            <a:off x="357120" y="1512720"/>
            <a:ext cx="8535960" cy="56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Text - цвет текста документа (по умолчанию черн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GCOLOR - цвет фона документа (по умолчанию белый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LINK - цвет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VLink - цвет посещен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nk - цвет активной ссылк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ACKGROUND - ссылка на фоновое изображени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3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512720"/>
            <a:ext cx="82087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егистр букв не имеет значения. Записан атрибут как BGCOLOR, bgcolor или BgColor - не имеет принципиального значения. Значения для всех атрибутов задается приравниванием с помощью математического знака "="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66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4"/>
          <p:cNvSpPr/>
          <p:nvPr/>
        </p:nvSpPr>
        <p:spPr>
          <a:xfrm>
            <a:off x="684360" y="1512720"/>
            <a:ext cx="82087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, резюмируя сказанное создадим страничку с именем attrib.html, внутри которой поместим следующий ко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4"/>
          <p:cNvSpPr/>
          <p:nvPr/>
        </p:nvSpPr>
        <p:spPr>
          <a:xfrm>
            <a:off x="285840" y="785880"/>
            <a:ext cx="871524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tml&gt;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head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title&gt;Пример использования атрибутов тэгов&lt;/title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/head&gt;  &lt;body text=red bgcolor=yellow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p&gt;Написано красным по желтому. Сейчас будет горизонтальный разделитель&lt;/p&gt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hr noshade size=3 width=80%&gt; 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p align=center&gt;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Написано после</a:t>
            </a:r>
            <a:r>
              <a:rPr b="0" lang="en-US" sz="2600" spc="-1" strike="noStrike">
                <a:solidFill>
                  <a:srgbClr val="c00000"/>
                </a:solidFill>
                <a:latin typeface="Times New Roman"/>
              </a:rPr>
              <a:t>&lt;br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горизонтального разделителя&lt;br&gt;по центру&lt;/p&gt;    &lt;/body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c00000"/>
                </a:solidFill>
                <a:latin typeface="Times New Roman"/>
              </a:rPr>
              <a:t>&lt;/html&gt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7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4"/>
          <p:cNvSpPr/>
          <p:nvPr/>
        </p:nvSpPr>
        <p:spPr>
          <a:xfrm>
            <a:off x="684360" y="1512720"/>
            <a:ext cx="820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ы установили цвет текста красным (red) text=red, а цвет фона страницы - желтым (yellow) bgcolor=yellow. Посмотрите, где поставлены тэги &lt;br&gt; и как они себя проявляют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1320" y="404280"/>
            <a:ext cx="8358120" cy="559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 прошлый раз мы разобрались с Вами в тэгах простой HTML-страницы. Даже с помощью того незначительного количества тэгов можно создавать относительно полноценные текстовые страницы. Сегодня же мы поговорим об атрибутах тэг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Рисунок241"/>
          <p:cNvPicPr/>
          <p:nvPr/>
        </p:nvPicPr>
        <p:blipFill>
          <a:blip r:embed="rId2"/>
          <a:stretch/>
        </p:blipFill>
        <p:spPr>
          <a:xfrm>
            <a:off x="714384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4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11280" y="928800"/>
            <a:ext cx="8076960" cy="5286240"/>
          </a:xfrm>
          <a:prstGeom prst="rect">
            <a:avLst/>
          </a:prstGeom>
          <a:noFill/>
          <a:ln cap="rnd" w="25560">
            <a:solidFill>
              <a:srgbClr val="33cccc"/>
            </a:solidFill>
            <a:custDash>
              <a:ds d="100000" sp="1000"/>
            </a:custDash>
            <a:miter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Однако в начале хочется заострить Ваше внимание на исключении из правил. Исключение состоит в том, что имеются тэги не требующие закрытия. В частности два тэга &lt;br&gt; и &lt;hr&gt; не имеют закрывающих - &lt;/br&gt; и &lt;/hr&gt; в силу элементарной логики. 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34" descr="Рисунок241"/>
          <p:cNvPicPr/>
          <p:nvPr/>
        </p:nvPicPr>
        <p:blipFill>
          <a:blip r:embed="rId2"/>
          <a:stretch/>
        </p:blipFill>
        <p:spPr>
          <a:xfrm>
            <a:off x="7267680" y="4786200"/>
            <a:ext cx="187632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076960" cy="521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эг &lt;br&gt; (от англ. </a:t>
            </a: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break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рывать) применяется для принудительного перехода на другую строку. Не следует путать его с тэгом &lt;p&gt;, начинающего новый абзац. Тэгом &lt;br&gt; можно принудительно перейти на новую строку даже внутри абзац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4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BD21370_"/>
          <p:cNvPicPr/>
          <p:nvPr/>
        </p:nvPicPr>
        <p:blipFill>
          <a:blip r:embed="rId1"/>
          <a:stretch/>
        </p:blipFill>
        <p:spPr>
          <a:xfrm>
            <a:off x="611280" y="652464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71680" y="857160"/>
            <a:ext cx="8358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нятно что сразу после перехода на новую строку "власть" тэга заканчивается автоматически, следовательно закрытие данного тэга не требуется. Допустимо применение последовательности из двух и нескольких тэгов. Например &lt;br&gt;&lt;br&gt; означает переход на новую строку и пропуск еще одной стро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72680" y="1285560"/>
            <a:ext cx="807732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эг &lt;hr&gt; (от англ. 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- горизонтальный) . Это горизонтальный разделитель страницы. Т.е. в месте установки данного тэга проводится горизонтальная линия от левого до правого поля страницы. Как отмечалось &lt;hr&gt; также не требует закрытия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Рисунок244"/>
          <p:cNvPicPr/>
          <p:nvPr/>
        </p:nvPicPr>
        <p:blipFill>
          <a:blip r:embed="rId2"/>
          <a:stretch/>
        </p:blipFill>
        <p:spPr>
          <a:xfrm>
            <a:off x="3571920" y="5072040"/>
            <a:ext cx="1652400" cy="14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"/>
          <p:cNvSpPr/>
          <p:nvPr/>
        </p:nvSpPr>
        <p:spPr>
          <a:xfrm>
            <a:off x="684360" y="10000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 теперь перейдем к рассмотрению атрибутов тэга. Практический каждый тэг, за исключением тех, где это не требуется в силу логики, имеет атрибуты. Начнем с рассмотренных &lt;br&gt; и &lt;hr&gt;. Переход на новую строку не имеет никаких атрибутов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2680" y="475920"/>
            <a:ext cx="807732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вот для горизонтального разделителя можно задать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684360" y="1714680"/>
            <a:ext cx="82087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Align - горизонтальное выравнивание (left -левое, right-правое, center-по центру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Size - размер по вертикали (толщина горизонтальной черты в пикселях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WIDTH - ширина горизонтального разделителя в точках экрана или процентах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 algn="just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NOSHADE - если установлен этот атрибут, то черта проводится без оттенк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2680" y="785520"/>
            <a:ext cx="8077320" cy="83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ссмотрим примеры: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3" descr="BD21370_"/>
          <p:cNvPicPr/>
          <p:nvPr/>
        </p:nvPicPr>
        <p:blipFill>
          <a:blip r:embed="rId1"/>
          <a:stretch/>
        </p:blipFill>
        <p:spPr>
          <a:xfrm>
            <a:off x="539640" y="6311880"/>
            <a:ext cx="8280360" cy="1382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85840" y="1512720"/>
            <a:ext cx="871524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ростой горизонтальный разделитель &lt;hr&gt; без атрибутов по умолчанию выводится с оттенком с центровкой по горизонтал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еперь зададим все атрибуты следующим образом: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&lt;hr noshade size=5 width=50%&gt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ая соединительная линия 9"/>
          <p:cNvSpPr/>
          <p:nvPr/>
        </p:nvSpPr>
        <p:spPr>
          <a:xfrm>
            <a:off x="714240" y="3500280"/>
            <a:ext cx="7286760" cy="1800"/>
          </a:xfrm>
          <a:prstGeom prst="line">
            <a:avLst/>
          </a:prstGeom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ая соединительная линия 11"/>
          <p:cNvSpPr/>
          <p:nvPr/>
        </p:nvSpPr>
        <p:spPr>
          <a:xfrm>
            <a:off x="2500200" y="5857920"/>
            <a:ext cx="414360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8:30:50Z</dcterms:created>
  <dc:creator>Class300</dc:creator>
  <dc:description/>
  <dc:language>en-US</dc:language>
  <cp:lastModifiedBy>таня</cp:lastModifiedBy>
  <dcterms:modified xsi:type="dcterms:W3CDTF">2011-01-31T12:41:28Z</dcterms:modified>
  <cp:revision>24</cp:revision>
  <dc:subject/>
  <dc:title>Печать документа</dc:title>
</cp:coreProperties>
</file>