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3C4-B6EF-4A7E-BB4A-C74BD546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6C0-E398-4134-91D5-15DDE7DE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CC1-AB45-4464-9BC7-D96BD713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9AF3-4BD0-4D59-AF19-50F98D8A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FB10-83C2-4018-9EAE-49B4F7EB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BABE-02C2-4739-8F66-8504289B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ADE2-0B44-4F61-AE43-38653DF9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E8DD-7E35-4DE9-8982-65A4530E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5324-32DD-4D58-A97C-65E527D2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A5A9-5C0B-42D2-8F08-74A9C686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EFBF-ACE1-4628-B29C-80097D0A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C83-EBE6-47F3-877B-2B53866A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3C9E-E7B3-4AEE-B9F7-C0FA5FA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782B-C896-468C-BF43-0F651CF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D535-2D20-47E1-A94C-F6D214B6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7094-EB7D-4C8C-A0FA-88218223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B861-B7EC-40C9-AA3E-EE3A3B80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B43-8584-4420-B450-A2A7AD88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BEA-CDA7-4CCA-BF76-B49C0272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388-40A4-4412-A50D-E5D47A5E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470-7B33-4B1F-ABC2-2D4607C7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EB1-195E-41F5-94D2-1E67F0BB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B31-1E59-40C8-9E98-BD253242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FBC-5400-40FE-BF1C-605CDD40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8080"/>
                  <a:ext cx="947520" cy="903240"/>
                </a:xfrm>
                <a:prstGeom prst="pi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172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4080"/>
              <a:chOff x="3330360" y="-387360"/>
              <a:chExt cx="2638800" cy="10540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7640"/>
                <a:ext cx="2638800" cy="11556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20320" y="136080"/>
                <a:ext cx="37440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38560" y="132840"/>
                <a:ext cx="37404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20720" y="-387360"/>
                <a:ext cx="611280" cy="625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35120" y="-365040"/>
                <a:ext cx="554760" cy="59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92000" y="-370080"/>
                <a:ext cx="449640" cy="13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3440" y="-313920"/>
                <a:ext cx="465840" cy="472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5480" y="-285120"/>
                <a:ext cx="398160" cy="404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3120" y="66240"/>
                <a:ext cx="217620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3160" y="136080"/>
                <a:ext cx="864360" cy="31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7240" y="588600"/>
                <a:ext cx="2138760" cy="644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360" y="134640"/>
                <a:ext cx="2097000" cy="3808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51640" y="136080"/>
                <a:ext cx="887040" cy="31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трибуты тэ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320" y="2441520"/>
            <a:ext cx="3956040" cy="350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D21370_"/>
          <p:cNvPicPr/>
          <p:nvPr/>
        </p:nvPicPr>
        <p:blipFill>
          <a:blip r:embed="rId2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им_комп4"/>
          <p:cNvPicPr/>
          <p:nvPr/>
        </p:nvPicPr>
        <p:blipFill>
          <a:blip r:embed="rId3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44500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400068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и информатики  Дзагалова Т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Февральская СОШ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151272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мы заметили все атрибуты записываются сразу после названия тэга внутри угловых скобок просто через пробел без всяких знаков препи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ч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трибуты     задаются     всегда     в открывающем тэге. Последовательность атрибутов не имеет зна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о логике у тэгов &lt;html&gt;, &lt;head&gt; и &lt;title&gt; также нет атрибу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вот у &lt;body&gt; и &lt;p&gt; атрибуты е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114300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&lt;p&gt; их не так много. Точнее один. Это выравнивание по горизонтали - Align (left -левое, right-правое, center-по центру). Если выравнивание на задано, то по умолчанию оно производится по левому краю страни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12720"/>
            <a:ext cx="82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ись &lt;p align=right&gt;Этот текст расположен справа&lt;/p&gt; и результ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текст расположен с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2680" y="8568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&lt;body&gt; несколько атрибут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57120" y="1512720"/>
            <a:ext cx="85359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ext - цвет текста документа (по умолчанию черн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GCOLOR - цвет фона документа (по умолчанию бел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INK - цвет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Link - цвет посещен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nk - цвет актив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ACKGROUND - ссылка на фоновое изображ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стр букв не имеет значения. Записан атрибут как BGCOLOR, bgcolor или BgColor - не имеет принципиального значения. Значения для всех атрибутов задается приравниванием с помощью математического знака "=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4360" y="1512720"/>
            <a:ext cx="820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, резюмируя сказанное создадим страничку с именем attrib.html, внутри которой поместим следующий к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5840" y="785880"/>
            <a:ext cx="87152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tml&gt;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title&gt;Пример использования атрибутов тэгов&lt;/tit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/head&gt;  &lt;body text=red bgcolor=yellow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p&gt;Написано красным по желтому. Сейчас будет горизонтальный разделитель&lt;/p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hr noshade size=3 width=80%&gt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p align=center&gt;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Написано после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горизонтального разделителя&lt;br&gt;по центру&lt;/p&gt;    &lt;/bod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84360" y="151272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ы установили цвет текста красным (red) text=red, а цвет фона страницы - желтым (yellow) bgcolor=yellow. Посмотрите, где поставлены тэги &lt;br&gt; и как они себя проявляю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58120" cy="55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рошлый раз мы разобрались с Вами в тэгах простой HTML-страницы. Даже с помощью того незначительного количества тэгов можно создавать относительно полноценные текстовые страницы. Сегодня же мы поговорим об атрибутах тэ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241"/>
          <p:cNvPicPr/>
          <p:nvPr/>
        </p:nvPicPr>
        <p:blipFill>
          <a:blip r:embed="rId2"/>
          <a:stretch/>
        </p:blipFill>
        <p:spPr>
          <a:xfrm>
            <a:off x="714384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076960" cy="5286240"/>
          </a:xfrm>
          <a:prstGeom prst="rect">
            <a:avLst/>
          </a:prstGeom>
          <a:noFill/>
          <a:ln cap="rnd" w="25560">
            <a:solidFill>
              <a:srgbClr val="33cc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ако в начале хочется заострить Ваше внимание на исключении из правил. Исключение состоит в том, что имеются тэги не требующие закрытия. В частности два тэга &lt;br&gt; и &lt;hr&gt; не имеют закрывающих - &lt;/br&gt; и &lt;/hr&gt; в силу элементарной логики.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4" descr="Рисунок241"/>
          <p:cNvPicPr/>
          <p:nvPr/>
        </p:nvPicPr>
        <p:blipFill>
          <a:blip r:embed="rId2"/>
          <a:stretch/>
        </p:blipFill>
        <p:spPr>
          <a:xfrm>
            <a:off x="726768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769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эг &lt;br&gt; (от англ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ывать) применяется для принудительного перехода на другую строку. Не следует путать его с тэгом &lt;p&gt;, начинающего новый абзац. Тэгом &lt;br&gt; можно принудительно перейти на новую строку даже внутри абза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71680" y="85716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ятно что сразу после перехода на новую строку "власть" тэга заканчивается автоматически, следовательно закрытие данного тэга не требуется. Допустимо применение последовательности из двух и нескольких тэгов. Например &lt;br&gt;&lt;br&gt; означает переход на новую строку и пропуск еще одной стро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85560"/>
            <a:ext cx="8077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эг &lt;hr&gt; (от англ.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горизонтальный) . Это горизонтальный разделитель страницы. Т.е. в месте установки данного тэга проводится горизонтальная линия от левого до правого поля страницы. Как отмечалось &lt;hr&gt; также не требует закрытия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исунок244"/>
          <p:cNvPicPr/>
          <p:nvPr/>
        </p:nvPicPr>
        <p:blipFill>
          <a:blip r:embed="rId2"/>
          <a:stretch/>
        </p:blipFill>
        <p:spPr>
          <a:xfrm>
            <a:off x="3571920" y="5072040"/>
            <a:ext cx="1652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4360" y="10000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 перейдем к рассмотрению атрибутов тэга. Практический каждый тэг, за исключением тех, где это не требуется в силу логики, имеет атрибуты. Начнем с рассмотренных &lt;br&gt; и &lt;hr&gt;. Переход на новую строку не имеет никаких атрибут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вот для горизонтального разделителя можно зада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84360" y="1714680"/>
            <a:ext cx="820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gn - горизонтальное выравнивание (left -левое, right-правое, center-по центру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ize - размер по вертикали (толщина горизонтальной черты в пикселях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IDTH - ширина горизонтального разделителя в точках экрана или процента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OSHADE - если установлен этот атрибут, то черта проводится без оттен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785520"/>
            <a:ext cx="80773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ссмотрим примеры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512720"/>
            <a:ext cx="8715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той горизонтальный разделитель &lt;hr&gt; без атрибутов по умолчанию выводится с оттенком с центровкой по горизон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перь зададим все атрибуты следующим образом: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hr noshade size=5 width=50%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714240" y="3500280"/>
            <a:ext cx="728676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500200" y="5857920"/>
            <a:ext cx="414360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таня</cp:lastModifiedBy>
  <dcterms:modified xsi:type="dcterms:W3CDTF">2011-01-31T12:41:28Z</dcterms:modified>
  <cp:revision>24</cp:revision>
  <dc:subject/>
  <dc:title>Печать документа</dc:title>
</cp:coreProperties>
</file>