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805-4845-4E87-877F-B455906F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950-6DBD-4A5A-8D09-A7DCDCAD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07F-5C25-4B56-9E02-73AD7C1D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4AF-DE9A-4238-847F-833ABB8F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3F4-FEC8-45E1-9B17-87E0D139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2E8-09F0-475F-9CB1-9D84ECB1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EB6-6A87-4D77-A51D-A0A97940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D5D-3150-4322-AD5A-5ED947E4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B4D-015A-42B3-9F93-CD20799C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535-C01A-461D-A695-2752A3E9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406-DE4C-4270-BB83-A7B649C8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2C7C-2EBB-42D1-8BE4-D72FD9DF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1C54-312E-4E70-9A18-970E55CA1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atas/zhivotnye/Domashnie-5.files/0009-009-Korova.jpg" TargetMode="External"/><Relationship Id="rId3" Type="http://schemas.openxmlformats.org/officeDocument/2006/relationships/hyperlink" Target="http://art5.karelia.ru/photo/16/161/8963.jpg" TargetMode="External"/><Relationship Id="rId4" Type="http://schemas.openxmlformats.org/officeDocument/2006/relationships/hyperlink" Target="http://www.doodoo.ru/uploads/posts/2009-04/fox-54.jpg" TargetMode="External"/><Relationship Id="rId5" Type="http://schemas.openxmlformats.org/officeDocument/2006/relationships/hyperlink" Target="http://www.myjulia.ru/data/cache/2010/04/21/396815_8221-800x600.jpg" TargetMode="External"/><Relationship Id="rId6" Type="http://schemas.openxmlformats.org/officeDocument/2006/relationships/hyperlink" Target="http://dic.academic.ru/pictures/wiki/files/80/Passer_domesticus_m.jpg" TargetMode="External"/><Relationship Id="rId7" Type="http://schemas.openxmlformats.org/officeDocument/2006/relationships/hyperlink" Target="http://www.kinfolksacrosstheriver.com/000802_c815_0056_cslp.jpg" TargetMode="External"/><Relationship Id="rId8" Type="http://schemas.openxmlformats.org/officeDocument/2006/relationships/hyperlink" Target="http://podari-ulibku.narod.ru/os18088.jpg" TargetMode="External"/><Relationship Id="rId9" Type="http://schemas.openxmlformats.org/officeDocument/2006/relationships/hyperlink" Target="http://bird.geoman.ru/books/item/f00/s00/z0000003/st027.shtml" TargetMode="External"/><Relationship Id="rId10" Type="http://schemas.openxmlformats.org/officeDocument/2006/relationships/hyperlink" Target="http://www.collection-figurines.com/images/schleich-chevrenaine13601.jpg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47760" y="3808440"/>
            <a:ext cx="8543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дирование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3357720"/>
            <a:ext cx="1404720" cy="250560"/>
          </a:xfrm>
          <a:prstGeom prst="rect">
            <a:avLst/>
          </a:prstGeom>
          <a:solidFill>
            <a:srgbClr val="ffa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324972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2500"/>
                </a:solidFill>
                <a:latin typeface="Times New Roman"/>
                <a:ea typeface="Times New Roman"/>
              </a:rPr>
              <a:t>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881360"/>
            <a:ext cx="755640" cy="468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31640" y="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268280"/>
            <a:ext cx="914400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98320" indent="-34272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ев А. В., Горина К. И., Волкова Т. О. Информатика в играх и задачах. 2-й класс в 2-х частях: Учебник-тетрадь, часть 2. – М.: Баласс, 2005. – 80с. 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5-85939-135-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900igr.net/datas/zhivotnye/Domashnie-5.files/0009-009-Korova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art5.karelia.ru/photo/16/161/8963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осё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doodoo.ru/uploads/posts/2009-04/fox-54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myjulia.ru/data/cache/2010/04/21/396815_8221-800x600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окод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dic.academic.ru/pictures/wiki/files/80/Passer_domesticus_m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роб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www.kinfolksacrosstheriver.com/000802_c815_0056_cslp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podari-ulibku.narod.ru/os18088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bird.geoman.ru/books/item/f00/s00/z0000003/st027.shtm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с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collection-figurines.com/images/schleich-chevrenaine13601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.labirint.ru/images/comments_pic/0838/02lab949v1221627212.jpg кур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rocgaus.ru/pictures/010/379_1.jpg  бегем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8nature/mamm/048.jpg во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7referats/tiger/014.jpg тиг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708360" y="907920"/>
            <a:ext cx="453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зентацию подготовила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211640" y="177336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"/>
              </a:rPr>
              <a:t>Поспелова Г.В.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93" name=""/>
          <p:cNvSpPr txBox="1"/>
          <p:nvPr/>
        </p:nvSpPr>
        <p:spPr>
          <a:xfrm rot="21430800">
            <a:off x="684000" y="5157360"/>
            <a:ext cx="7920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елаю всем приятного просмотра!!!</a:t>
            </a:r>
            <a:endParaRPr b="1" i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2781360"/>
            <a:ext cx="5327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Учитель информатики МОУ «СОШ № 20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г. Новомосков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Тульская область,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фруй слова и закрась соответствующие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79640" y="297000"/>
            <a:ext cx="774036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1592280"/>
          <a:ext cx="4068720" cy="254952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504720"/>
                <a:gridCol w="576360"/>
                <a:gridCol w="574560"/>
                <a:gridCol w="613080"/>
                <a:gridCol w="57600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1928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418464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224172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1736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68136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3176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270828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1592280"/>
            <a:ext cx="148896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96000" y="2924280"/>
            <a:ext cx="1050840" cy="115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867280" y="2384280"/>
            <a:ext cx="1560600" cy="183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451640" y="166536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920000" y="2997360"/>
            <a:ext cx="689040" cy="105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95280" y="4797360"/>
          <a:ext cx="4176720" cy="100800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00360"/>
                <a:gridCol w="9000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111640" y="4797360"/>
          <a:ext cx="2927520" cy="1000080"/>
        </p:xfrm>
        <a:graphic>
          <a:graphicData uri="http://schemas.openxmlformats.org/drawingml/2006/table">
            <a:tbl>
              <a:tblPr/>
              <a:tblGrid>
                <a:gridCol w="911160"/>
                <a:gridCol w="1008000"/>
                <a:gridCol w="1008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3164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276360" y="1952280"/>
            <a:ext cx="3636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844640"/>
            <a:ext cx="25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4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836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600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456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1280" y="533700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533700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92720" y="540864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8000" y="533700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1080" y="537372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655640" y="2491920"/>
            <a:ext cx="3672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640" y="2421000"/>
            <a:ext cx="3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84280"/>
            <a:ext cx="9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42920" y="1915920"/>
            <a:ext cx="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584360" y="3465360"/>
            <a:ext cx="0" cy="9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188136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640" y="3357720"/>
            <a:ext cx="90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997360"/>
            <a:ext cx="826920" cy="115236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1700280"/>
            <a:ext cx="1439640" cy="122400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116000" y="2529000"/>
            <a:ext cx="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297000"/>
            <a:ext cx="26636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3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гадай ре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104760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84720" y="260280"/>
            <a:ext cx="104796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047960" cy="1871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16360" y="225360"/>
            <a:ext cx="5076720" cy="201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04000" y="16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72360" y="47628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кота 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72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2023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1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708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21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35772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33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461628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465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2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58920" y="4653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6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 один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емь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27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32000" y="2816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40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 два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58920" y="4113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сем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3681360"/>
            <a:ext cx="1513080" cy="172728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1727280"/>
              <a:gd name="textAreaBottom" fmla="*/ 1653480 h 1727280"/>
            </a:gdLst>
            <a:ahLst/>
            <a:rect l="textAreaLeft" t="textAreaTop" r="textAreaRight" b="textAreaBottom"/>
            <a:pathLst>
              <a:path w="21600" h="24657">
                <a:moveTo>
                  <a:pt x="3600" y="0"/>
                </a:moveTo>
                <a:arcTo wR="3600" hR="3600" stAng="16200000" swAng="-5400000"/>
                <a:lnTo>
                  <a:pt x="0" y="21057"/>
                </a:lnTo>
                <a:arcTo wR="3600" hR="3600" stAng="10800000" swAng="-5400000"/>
                <a:lnTo>
                  <a:pt x="18000" y="24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72000" y="3500280"/>
            <a:ext cx="1836720" cy="2052720"/>
          </a:xfrm>
          <a:custGeom>
            <a:avLst/>
            <a:gdLst>
              <a:gd name="textAreaLeft" fmla="*/ 89640 w 1836720"/>
              <a:gd name="textAreaRight" fmla="*/ 1747080 w 1836720"/>
              <a:gd name="textAreaTop" fmla="*/ 89640 h 2052720"/>
              <a:gd name="textAreaBottom" fmla="*/ 1963080 h 2052720"/>
            </a:gdLst>
            <a:ahLst/>
            <a:rect l="textAreaLeft" t="textAreaTop" r="textAreaRight" b="textAreaBottom"/>
            <a:pathLst>
              <a:path w="21600" h="24140">
                <a:moveTo>
                  <a:pt x="3600" y="0"/>
                </a:moveTo>
                <a:arcTo wR="3600" hR="3600" stAng="16200000" swAng="-5400000"/>
                <a:lnTo>
                  <a:pt x="0" y="20540"/>
                </a:lnTo>
                <a:arcTo wR="3600" hR="3600" stAng="10800000" swAng="-5400000"/>
                <a:lnTo>
                  <a:pt x="18000" y="24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716280"/>
            <a:ext cx="1476360" cy="1765440"/>
          </a:xfrm>
          <a:custGeom>
            <a:avLst/>
            <a:gdLst>
              <a:gd name="textAreaLeft" fmla="*/ 72000 w 1476360"/>
              <a:gd name="textAreaRight" fmla="*/ 1404360 w 1476360"/>
              <a:gd name="textAreaTop" fmla="*/ 72000 h 1765440"/>
              <a:gd name="textAreaBottom" fmla="*/ 1693440 h 1765440"/>
            </a:gdLst>
            <a:ahLst/>
            <a:rect l="textAreaLeft" t="textAreaTop" r="textAreaRight" b="textAreaBottom"/>
            <a:pathLst>
              <a:path w="21600" h="25828">
                <a:moveTo>
                  <a:pt x="3600" y="0"/>
                </a:moveTo>
                <a:arcTo wR="3600" hR="3600" stAng="16200000" swAng="-5400000"/>
                <a:lnTo>
                  <a:pt x="0" y="22228"/>
                </a:lnTo>
                <a:arcTo wR="3600" hR="3600" stAng="10800000" swAng="-5400000"/>
                <a:lnTo>
                  <a:pt x="18000" y="25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9280" y="3933720"/>
            <a:ext cx="1332000" cy="1332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03640" y="43657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5553000"/>
            <a:ext cx="180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41497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5640" y="393372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573880" y="3716280"/>
            <a:ext cx="1596960" cy="1765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4508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43640" y="2924280"/>
            <a:ext cx="151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оро в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43640" y="56246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а Р 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7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, РЫБА, ОКУНЬ, ЛЕС, ИГЛА, 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03372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8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крась каждую букву своим цветом. Зашифруй цветными квадратиками слова: ДЕЛО, КИНО, М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55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068640"/>
            <a:ext cx="85327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000" y="3682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306864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8560" y="3500280"/>
            <a:ext cx="54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16000" y="4005360"/>
            <a:ext cx="71928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4005360"/>
            <a:ext cx="72072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7080" y="4005360"/>
            <a:ext cx="68256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368360" y="4005360"/>
            <a:ext cx="64764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661000"/>
            <a:ext cx="53964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661000"/>
            <a:ext cx="57636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71640" y="5661000"/>
            <a:ext cx="468360" cy="5763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5661000"/>
            <a:ext cx="53964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5661000"/>
            <a:ext cx="57492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67640" y="5661000"/>
            <a:ext cx="54108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2000" y="5661000"/>
            <a:ext cx="540000" cy="576360"/>
          </a:xfrm>
          <a:prstGeom prst="rect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40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ЧАШКА, ЕНОТ, БАРС, НОТА, ИРИС, К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303372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чти слова, зашифрованные цветными квадра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5661000"/>
          <a:ext cx="159372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920"/>
                <a:gridCol w="50292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068640"/>
            <a:ext cx="853272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0920" y="4005360"/>
            <a:ext cx="68436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4005360"/>
            <a:ext cx="68400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0360" y="4005360"/>
            <a:ext cx="71928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368360" y="4005360"/>
            <a:ext cx="68256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12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5661000"/>
            <a:ext cx="54144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661000"/>
            <a:ext cx="54000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5280" y="5661000"/>
            <a:ext cx="541080" cy="57636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7640" y="5661000"/>
            <a:ext cx="54108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12000" y="5661000"/>
            <a:ext cx="57636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9280" y="512136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Е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5049720"/>
            <a:ext cx="21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К  Н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64360" y="5013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Л  А   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5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448000" y="2852640"/>
          <a:ext cx="4186080" cy="3651120"/>
        </p:xfrm>
        <a:graphic>
          <a:graphicData uri="http://schemas.openxmlformats.org/drawingml/2006/table">
            <a:tbl>
              <a:tblPr/>
              <a:tblGrid>
                <a:gridCol w="262080"/>
                <a:gridCol w="288720"/>
                <a:gridCol w="287280"/>
                <a:gridCol w="324000"/>
                <a:gridCol w="360360"/>
                <a:gridCol w="360360"/>
                <a:gridCol w="395280"/>
                <a:gridCol w="396720"/>
                <a:gridCol w="360360"/>
                <a:gridCol w="395280"/>
                <a:gridCol w="397080"/>
                <a:gridCol w="358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863640" y="512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по клеточ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3640" y="512640"/>
            <a:ext cx="576360" cy="46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476280"/>
            <a:ext cx="32400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4905360"/>
            <a:ext cx="10800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9280" y="141300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328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236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11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5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000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1233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31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04256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726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410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95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70800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427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11164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56360" y="188136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90400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192720" y="1665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600360" y="5336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600360" y="504936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764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492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9640" y="5300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9640" y="501336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964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5056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4836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7128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558972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35564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78764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18436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0836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23820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63492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95892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276720" y="5552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0" y="562464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6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1844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, 46, 49 стр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11280" y="981000"/>
            <a:ext cx="608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50000">
                      <a:srgbClr val="a603ab"/>
                    </a:gs>
                    <a:gs pos="100000">
                      <a:srgbClr val="a603ab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50000">
                    <a:srgbClr val="a603ab"/>
                  </a:gs>
                  <a:gs pos="100000">
                    <a:srgbClr val="a603ab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800360" y="184464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0920" y="1125360"/>
            <a:ext cx="86770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У каждого ученика на столе карточки (зеленая, желтая, красная). Уходя из класса, нужно оставить на столе учителя одну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Я удовлетворен уроком, урок был полезен для меня, я много, с пользой работал на уроке получил заслуженную оценку, я понимал все, о чем говорилось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Желтая</a:t>
            </a: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- Урок был интересен, я принимал в нем активное участие, урок был в определенной степени полезен для меня, я отвечал с места, я сумел выполнить ряд заданий, мне было на уроке достаточно комфор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Пользы от урока я получил мало, я не очень понимал, о чем идет речь, мне это не очень нужно, домашнее задание я не буду выполнять, к ответам на уроке я не был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6836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7:19:18Z</dcterms:created>
  <dc:creator>122</dc:creator>
  <dc:description/>
  <dc:language>en-US</dc:language>
  <cp:lastModifiedBy>122</cp:lastModifiedBy>
  <dcterms:modified xsi:type="dcterms:W3CDTF">2011-02-25T21:53:16Z</dcterms:modified>
  <cp:revision>13</cp:revision>
  <dc:subject/>
  <dc:title>Слайд 1</dc:title>
</cp:coreProperties>
</file>