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349A-3452-4718-8117-FB6B0971E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421-92AB-4F78-A44B-23ED4C13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59A-E75F-48F8-8028-A35B7090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5EB-0504-46D9-BB67-8C42650C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6F7F-4B9D-47DE-B720-13C79194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A90-1074-4E5A-9C94-84D83976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AB4-E874-455A-B8E9-2473250B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02B-587B-43F9-8901-0A36BDB0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EF16-6718-4147-937F-1B3BCB5C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35E-8224-41ED-8217-20E8FFAA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F00-0A3E-425C-9538-3FB6615C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683-6463-4E49-9FA1-03EB1DEA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D61F-0EA1-4080-BEC9-7F368B80D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zhivotnye/Domashnie-5.files/0009-009-Korova.jpg" TargetMode="External"/><Relationship Id="rId3" Type="http://schemas.openxmlformats.org/officeDocument/2006/relationships/hyperlink" Target="http://art5.karelia.ru/photo/16/161/8963.jpg" TargetMode="External"/><Relationship Id="rId4" Type="http://schemas.openxmlformats.org/officeDocument/2006/relationships/hyperlink" Target="http://www.doodoo.ru/uploads/posts/2009-04/fox-54.jpg" TargetMode="External"/><Relationship Id="rId5" Type="http://schemas.openxmlformats.org/officeDocument/2006/relationships/hyperlink" Target="http://www.myjulia.ru/data/cache/2010/04/21/396815_8221-800x600.jpg" TargetMode="External"/><Relationship Id="rId6" Type="http://schemas.openxmlformats.org/officeDocument/2006/relationships/hyperlink" Target="http://dic.academic.ru/pictures/wiki/files/80/Passer_domesticus_m.jpg" TargetMode="External"/><Relationship Id="rId7" Type="http://schemas.openxmlformats.org/officeDocument/2006/relationships/hyperlink" Target="http://www.kinfolksacrosstheriver.com/000802_c815_0056_cslp.jpg" TargetMode="External"/><Relationship Id="rId8" Type="http://schemas.openxmlformats.org/officeDocument/2006/relationships/hyperlink" Target="http://podari-ulibku.narod.ru/os18088.jpg" TargetMode="External"/><Relationship Id="rId9" Type="http://schemas.openxmlformats.org/officeDocument/2006/relationships/hyperlink" Target="http://bird.geoman.ru/books/item/f00/s00/z0000003/st027.shtml" TargetMode="External"/><Relationship Id="rId10" Type="http://schemas.openxmlformats.org/officeDocument/2006/relationships/hyperlink" Target="http://www.collection-figurines.com/images/schleich-chevrenaine13601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7760" y="3808440"/>
            <a:ext cx="8543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дирование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68280"/>
            <a:ext cx="9144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98320" indent="-34272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в А. В., Горина К. И., Волкова Т. О. Информатика в играх и задачах. 2-й класс в 2-х частях: Учебник-тетрадь, часть 2. – М.: Баласс, 2005. – 80с.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5-85939-135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900igr.net/datas/zhivotnye/Domashnie-5.files/0009-009-Korova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art5.karelia.ru/photo/16/161/8963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с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oodoo.ru/uploads/posts/2009-04/fox-54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myjulia.ru/data/cache/2010/04/21/396815_8221-800x600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dic.academic.ru/pictures/wiki/files/80/Passer_domesticus_m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kinfolksacrosstheriver.com/000802_c815_0056_cslp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podari-ulibku.narod.ru/os18088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bird.geoman.ru/books/item/f00/s00/z0000003/st027.shtm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collection-figurines.com/images/schleich-chevrenaine13601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labirint.ru/images/comments_pic/0838/02lab949v1221627212.jpg кур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ocgaus.ru/pictures/010/379_1.jpg  бегем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48.jpg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7referats/tiger/014.jpg т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фруй слова и закрась соответству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9640" y="297000"/>
            <a:ext cx="774036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592280"/>
          <a:ext cx="4068720" cy="254952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504720"/>
                <a:gridCol w="576360"/>
                <a:gridCol w="574560"/>
                <a:gridCol w="613080"/>
                <a:gridCol w="5760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928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18464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4172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1736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68136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176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70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592280"/>
            <a:ext cx="148896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96000" y="2924280"/>
            <a:ext cx="1050840" cy="115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2384280"/>
            <a:ext cx="1560600" cy="18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451640" y="16653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920000" y="2997360"/>
            <a:ext cx="689040" cy="10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4797360"/>
          <a:ext cx="417672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00360"/>
                <a:gridCol w="9000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11640" y="4797360"/>
          <a:ext cx="2927520" cy="1000080"/>
        </p:xfrm>
        <a:graphic>
          <a:graphicData uri="http://schemas.openxmlformats.org/drawingml/2006/table">
            <a:tbl>
              <a:tblPr/>
              <a:tblGrid>
                <a:gridCol w="911160"/>
                <a:gridCol w="1008000"/>
                <a:gridCol w="1008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3164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360" y="1952280"/>
            <a:ext cx="3636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4464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533700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533700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720" y="540864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8000" y="533700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537372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655640" y="2491920"/>
            <a:ext cx="3672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242100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8428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42920" y="1915920"/>
            <a:ext cx="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84360" y="3465360"/>
            <a:ext cx="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881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335772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997360"/>
            <a:ext cx="826920" cy="115236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1700280"/>
            <a:ext cx="1439640" cy="122400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16000" y="252900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97000"/>
            <a:ext cx="26636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гадай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104760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4720" y="260280"/>
            <a:ext cx="104796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047960" cy="1871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16360" y="225360"/>
            <a:ext cx="5076720" cy="201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04000" y="16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4762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кота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72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023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1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21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577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3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461628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653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 оди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ем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28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0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два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8920" y="41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3681360"/>
            <a:ext cx="1513080" cy="172728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1727280"/>
              <a:gd name="textAreaBottom" fmla="*/ 1653480 h 172728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1836720" cy="205272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2052720"/>
              <a:gd name="textAreaBottom" fmla="*/ 1963080 h 2052720"/>
            </a:gdLst>
            <a:ahLst/>
            <a:rect l="textAreaLeft" t="textAreaTop" r="textAreaRight" b="textAreaBottom"/>
            <a:pathLst>
              <a:path w="21600" h="24140">
                <a:moveTo>
                  <a:pt x="3600" y="0"/>
                </a:moveTo>
                <a:arcTo wR="3600" hR="3600" stAng="16200000" swAng="-5400000"/>
                <a:lnTo>
                  <a:pt x="0" y="20540"/>
                </a:lnTo>
                <a:arcTo wR="3600" hR="3600" stAng="10800000" swAng="-5400000"/>
                <a:lnTo>
                  <a:pt x="18000" y="24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716280"/>
            <a:ext cx="1476360" cy="1765440"/>
          </a:xfrm>
          <a:custGeom>
            <a:avLst/>
            <a:gdLst>
              <a:gd name="textAreaLeft" fmla="*/ 72000 w 1476360"/>
              <a:gd name="textAreaRight" fmla="*/ 1404360 w 1476360"/>
              <a:gd name="textAreaTop" fmla="*/ 72000 h 1765440"/>
              <a:gd name="textAreaBottom" fmla="*/ 1693440 h 1765440"/>
            </a:gdLst>
            <a:ahLst/>
            <a:rect l="textAreaLeft" t="textAreaTop" r="textAreaRight" b="textAreaBottom"/>
            <a:pathLst>
              <a:path w="21600" h="25828">
                <a:moveTo>
                  <a:pt x="3600" y="0"/>
                </a:moveTo>
                <a:arcTo wR="3600" hR="3600" stAng="16200000" swAng="-5400000"/>
                <a:lnTo>
                  <a:pt x="0" y="22228"/>
                </a:lnTo>
                <a:arcTo wR="3600" hR="3600" stAng="10800000" swAng="-5400000"/>
                <a:lnTo>
                  <a:pt x="18000" y="25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3933720"/>
            <a:ext cx="1332000" cy="13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03640" y="43657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55300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149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9337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73880" y="3716280"/>
            <a:ext cx="1596960" cy="17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4508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292428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ро в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43640" y="5624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Р 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7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, РЫБА, ОКУНЬ, ЛЕС, ИГЛА,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337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8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каждую букву своим цветом. Зашифруй цветными квадратиками слова: ДЕЛО, КИНО, 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5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068640"/>
            <a:ext cx="8532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" y="3682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06864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560" y="3500280"/>
            <a:ext cx="54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4005360"/>
            <a:ext cx="71928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005360"/>
            <a:ext cx="72072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4005360"/>
            <a:ext cx="68256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368360" y="4005360"/>
            <a:ext cx="64764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661000"/>
            <a:ext cx="53964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661000"/>
            <a:ext cx="57636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5661000"/>
            <a:ext cx="468360" cy="5763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661000"/>
            <a:ext cx="53964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661000"/>
            <a:ext cx="57492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7640" y="5661000"/>
            <a:ext cx="54108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5661000"/>
            <a:ext cx="540000" cy="57636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ЧАШКА, ЕНОТ, БАРС, НОТА, ИРИС,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3372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ти слова, зашифрованные цветными квадра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5661000"/>
          <a:ext cx="159372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920"/>
                <a:gridCol w="5029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853272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4005360"/>
            <a:ext cx="68436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005360"/>
            <a:ext cx="68400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0360" y="4005360"/>
            <a:ext cx="71928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368360" y="4005360"/>
            <a:ext cx="68256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2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661000"/>
            <a:ext cx="54144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61000"/>
            <a:ext cx="54000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5661000"/>
            <a:ext cx="541080" cy="57636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7640" y="5661000"/>
            <a:ext cx="54108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0" y="5661000"/>
            <a:ext cx="57636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" y="512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Е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504972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  Н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436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Л  А 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448000" y="2852640"/>
          <a:ext cx="4186080" cy="3651120"/>
        </p:xfrm>
        <a:graphic>
          <a:graphicData uri="http://schemas.openxmlformats.org/drawingml/2006/table">
            <a:tbl>
              <a:tblPr/>
              <a:tblGrid>
                <a:gridCol w="262080"/>
                <a:gridCol w="288720"/>
                <a:gridCol w="287280"/>
                <a:gridCol w="324000"/>
                <a:gridCol w="360360"/>
                <a:gridCol w="360360"/>
                <a:gridCol w="395280"/>
                <a:gridCol w="396720"/>
                <a:gridCol w="360360"/>
                <a:gridCol w="395280"/>
                <a:gridCol w="397080"/>
                <a:gridCol w="35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63640" y="51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по клет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512640"/>
            <a:ext cx="576360" cy="46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476280"/>
            <a:ext cx="3240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905360"/>
            <a:ext cx="10800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" y="141300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236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11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000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23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31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256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26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10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5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0800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27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1164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6360" y="188136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0400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192720" y="166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00360" y="5336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00360" y="504936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492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9640" y="5300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9640" y="501336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964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5056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7128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8972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5564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8764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8436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0836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820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3492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5892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5552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0" y="562464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 46, 49 стр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11280" y="981000"/>
            <a:ext cx="60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50000">
                      <a:srgbClr val="a603ab"/>
                    </a:gs>
                    <a:gs pos="100000">
                      <a:srgbClr val="a603ab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50000">
                    <a:srgbClr val="a603ab"/>
                  </a:gs>
                  <a:gs pos="100000">
                    <a:srgbClr val="a603ab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125360"/>
            <a:ext cx="86770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</a:t>
            </a: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7:19:18Z</dcterms:created>
  <dc:creator>122</dc:creator>
  <dc:description/>
  <dc:language>en-US</dc:language>
  <cp:lastModifiedBy>122</cp:lastModifiedBy>
  <dcterms:modified xsi:type="dcterms:W3CDTF">2011-02-25T21:53:16Z</dcterms:modified>
  <cp:revision>13</cp:revision>
  <dc:subject/>
  <dc:title>Слайд 1</dc:title>
</cp:coreProperties>
</file>