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9B1D-E64A-40B5-8B9A-79DE79B7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3C89-C7D0-4530-BDC6-AD5A2B37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1EC6-3A8F-4026-9B38-424E30E0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F0BA-5746-463C-AFBD-C2FC11FD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DAE8-3652-4250-A8CA-601411E1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31C3-E548-41CC-ADCA-51838A2D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B85E-DB4C-4A1A-9A3A-BD75BF3E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FF1D-CCF7-4B65-9BA0-069E73C7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7563-5D67-43EF-8CF9-BD5BA64B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E926-86AE-4690-8018-00A564B4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C577-F5FB-4A0E-BB8D-1D8E90FF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A5FB-DBEB-40E1-AC9B-A407BE16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A124-796A-4DB4-94E8-95EFAB71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1A8D-A70D-4097-B862-C0B21886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7749-22F0-4CD3-A8F6-57617350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42FC-D199-4F2B-A09E-DB34EFDC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C628-2278-4A56-8B87-797B0FD6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99A75-D27B-49B8-838A-63EFC480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27571-2E32-41FE-8816-B9500DB8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154F6-2C4A-4902-917E-01B0426D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C5594-D82A-49E8-AD32-A6F607EE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33350-4D68-4AC9-BE05-F7CAB39C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9F4A-B6BF-4A5D-AA46-D0629550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C18F6-0F79-4E50-BEA7-14B6A016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5D6E8-7C1E-4482-BD06-5461EF41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B4F40-F228-4721-B123-1C362EA2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CD904-881A-4E3F-ADCA-18285E2C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F236E-E1CB-4F50-8E88-B76ABCDF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53CB6-1E67-4A6A-89D5-0D34E26C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A14A7-C340-4A0E-9A89-C90BF5F9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9A676-6631-4FC8-B773-44508512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9B8FD-71C1-4016-B7E5-61DFD70E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48347-DC03-4A66-B1E8-1E5DF7E2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212A-B453-41A3-BCF1-3F28EC35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DCBC2-5AA1-4941-94EE-30A960F0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C4F61-F4CF-4B91-9BF2-556160AF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CD58E-FA2D-4734-AC91-059100A7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7FF14-3C7D-4500-9F6D-62FAF7F4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D82E3-22BC-4A5C-97F4-99F2E9A2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04882-1359-40FD-A935-1D25CF25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9F507-9CAF-4E2C-8413-690980A0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4FABD-F2CF-4C8F-A449-17B7D998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0FB23-EEC4-4103-9350-C6970AD27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E8EC-A7C9-471B-AE41-2F2B0A11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AB01-5205-4982-8B59-38298780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3D0D-F6EA-4748-9C85-C6BC0DF4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66FA-9B92-490A-AD22-6208AAE8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1B81-25B8-4A52-B1BB-5E48100A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B3CD-A7A1-413B-9514-D114723E08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6B5D-3076-449B-9E6B-BDA1CBC008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A34F-67EE-414F-94EC-97D84BDC6D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B1BD-4938-49D0-9C1D-D6591AAC9B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сетевого этикета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9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итесь прощать другим их ошиб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D8D28-F378-45AC-AF42-CACE34A1CE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users.kpi.kharkov.ua/lre/bde/rus/ode/netetique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ru.wikipedia.org/wiki/%D0%A1%D0%B5%D1%82%D0%B5%D0%B2%D0%BE%D0%B9_%D1%8D%D1%82%D0%B8%D0%BA%D0%B5%D1%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letopisi.ru/index.php/%D0%A1%D0%B5%D1%82%D0%B5%D0%B2%D0%BE%D0%B9_%D1%8D%D1%82%D0%B8%D0%BA%D0%B5%D1%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proverim.net/etika.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www.fio.vrn.ru/2005/6/7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CCC21-A95B-4289-92C8-52B23EB63B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ните, что вы общаетесь с человек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E3565-1B23-414C-A114-44996E4D00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держивайтесь тех же стандартов поведения, что и в реальной жиз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A370A-AFBB-47E2-B14C-185428BE29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ните, где вы находитесь в Се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980D0-370D-4B0D-A8FE-E890914378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4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ажайте время и возможности друг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8659B-CA51-43AB-B60C-A4830E278B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5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вершайте поступков, за которые потом вам будет стыд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413A7-5632-457E-A45C-4831B407DE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6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огайте другим там, где вы это можете дела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854CF-F121-490F-AAAF-34B0CC61D4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7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вступайте в конфликты и не допускайте 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D9210-DC74-4591-BB24-BFC5441ABD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8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ажайте право людей на частную переписк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8F492-0D9A-4121-A933-A1A617B819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4:47Z</dcterms:modified>
  <cp:revision>12</cp:revision>
  <dc:subject/>
  <dc:title>Язык поисковых запросов</dc:title>
</cp:coreProperties>
</file>