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BA099-A400-4D25-9B82-7654DCE3A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6FE0F-89D8-4B87-90B8-D72CFAA9B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DBBC6-5D3B-42C7-9304-E320E8EA2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10980-2195-4802-AD6C-3831852EC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692F9-D4C8-4DDE-9E7E-96400A5C7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0A1C8-4B05-408D-9E22-748BF3B15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5CF12-A861-475B-84E3-7059D1477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A292D-CA1D-4CAD-A038-0C150BB3B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31359-2AE8-4DD5-8679-65635C90D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C213B-B9CB-4167-B89B-699BF99B1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A48F2-1D11-4312-9D90-37551D1F0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0232B-7228-4133-BDFB-090B61B7D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FF543-DAC8-4A39-BBEF-F76EC9C31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F2C49-3496-4283-B363-9171D82B2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30991-7CFA-4303-A082-743062890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E4F1C-B75E-4B25-849F-0ED78B039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32AAA-252C-49DA-BDB6-36A3960AD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699123-E0FF-4E07-9BE6-F19A72931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F29E7E-A4A2-4874-9A5E-7F6F4D0BE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F310C0-39B8-4C05-BBC0-C318F9E60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794B6D-062F-43C6-B252-4F42E3E74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DD2DD3-24D6-42F7-B97E-C892DAFCD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44F6E-A4BC-423E-9AC4-7D8B63ECB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8E173F-68B1-4121-AD16-6CBCD8D4E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F487B5-9955-4982-B292-624284861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382071-1852-4B55-A70C-7597987F0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B3A0FD-51DB-42BB-8406-8292C1BF8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A6F9D9-910C-4C05-BF1F-257C47A1A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D1CE80-A1F3-4FBF-B959-C5C7F90D0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22AB74-4933-465D-A458-21382A43A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A7C2C1-4288-4468-9B80-2E9FBF02C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48215A-8143-497A-943A-7CCEC84F3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F6CD65-E252-4813-8F39-B232DA89F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462E6-F40E-46E8-B1CB-AD86759A7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F8ECB8-0AC0-492A-A0E7-79A96B2FB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960E28-443A-4976-A7E7-4E902367B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66EBF7-C0F9-4318-8111-D9C6FEDBA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90B0C0-BF6E-4CF5-BF60-71100D784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6B53E9-C8B4-42DB-9AB7-AC9D53C87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C6D87A-8055-4275-92A3-E174A146A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5D8E36-77A8-4E7B-B12D-4B29FA578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73C030-222B-480E-9FC0-E79C49C06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6F4D1F-5C36-4E91-92A4-22D5EDD1D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F1A15-B7B6-47C3-A42E-C91816BA3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5199C-6C30-46B2-B637-A7897657A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638AA-968E-41CD-95EB-B4DF7AA0A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F99B0-AF26-4677-AF90-DB3F42F0B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E5332-2CDD-4FFB-AC48-839022AD0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2851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89B6F-122A-46DE-BE99-78F6ED12237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2851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0D3C0-6F24-4E93-8708-479E3D95352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4784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896040" algn="ctr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3438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792080" algn="ctr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792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792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7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8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9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7BAAE-3B72-4C51-8BD3-87619E8FC8B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137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138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40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141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43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dt" idx="10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ftr" idx="11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 type="sldNum" idx="12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B5B06-D9CF-4CD8-B188-FA02E40943E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45760" y="2276280"/>
            <a:ext cx="8597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ffff00"/>
                </a:solidFill>
                <a:latin typeface="Arial"/>
              </a:rPr>
              <a:t>Правила сетевого этикета</a:t>
            </a:r>
            <a:endParaRPr b="0" lang="en-US" sz="6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684000" y="3860640"/>
            <a:ext cx="8134200" cy="259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Борисов Владимир Анатольевич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расноармейский филиал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ГОУ ВПО «Академия народного хозяйства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и Правительстве РФ»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расноармейск 2010 г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Правило 9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94920" y="2017800"/>
            <a:ext cx="8559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Учитесь прощать другим их ошибки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DA90D4-690B-412F-8E4C-A53F04EA2FA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Ресурсы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23640" y="2017800"/>
            <a:ext cx="863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http://users.kpi.kharkov.ua/lre/bde/rus/ode/netetique.h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http://ru.wikipedia.org/wiki/%D0%A1%D0%B5%D1%82%D0%B5%D0%B2%D0%BE%D0%B9_%D1%8D%D1%82%D0%B8%D0%BA%D0%B5%D1%8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http://letopisi.ru/index.php/%D0%A1%D0%B5%D1%82%D0%B5%D0%B2%D0%BE%D0%B9_%D1%8D%D1%82%D0%B8%D0%BA%D0%B5%D1%8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http://proverim.net/etika.ph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http://www.fio.vrn.ru/2005/6/7.h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.Ю.Заславская, И.В.Левченко – Информатика. Весь курс для подготовки к ЕГЭ – М, Эксмо, 2010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3D78B8-7964-4CB4-A841-9B80AC95E80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Правило 1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23640" y="2017800"/>
            <a:ext cx="863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Помните, что вы общаетесь с человеком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099C9A-B228-426F-901B-2039B8AD328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Правило 2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23640" y="2017800"/>
            <a:ext cx="863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Придерживайтесь тех же стандартов поведения, что и в реальной жизни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8DBD67-8F24-4B15-8425-638307CC2F9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Правило 3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23640" y="2017800"/>
            <a:ext cx="863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Помните, где вы находитесь в Сети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29020F-7292-440A-9EAC-1D2F8721F6C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Правило 4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23640" y="2017800"/>
            <a:ext cx="863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Уважайте время и возможности других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061A35-71FB-4CFA-93DD-5C4E0C7CB8C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Правило 5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23640" y="2017800"/>
            <a:ext cx="863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Не совершайте поступков, за которые потом вам будет стыдно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75A0F1-71C5-40BF-8870-506BE702E28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Правило 6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68360" y="2017800"/>
            <a:ext cx="8486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Помогайте другим там, где вы это можете делать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8921AF-D1EE-42B5-849F-A9CCBDA1478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Правило 7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23640" y="2017800"/>
            <a:ext cx="863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Не вступайте в конфликты и не допускайте их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D3A644-F0AD-4ED7-B595-8845716D153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Правило 8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23640" y="2017800"/>
            <a:ext cx="863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Уважайте право людей на частную переписку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97B7DB-BF3E-4A06-BBF9-B267541B419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6T09:14:33Z</dcterms:created>
  <dc:creator>БВА</dc:creator>
  <dc:description/>
  <dc:language>en-US</dc:language>
  <cp:lastModifiedBy>БВА</cp:lastModifiedBy>
  <dcterms:modified xsi:type="dcterms:W3CDTF">2010-11-06T10:24:47Z</dcterms:modified>
  <cp:revision>12</cp:revision>
  <dc:subject/>
  <dc:title>Язык поисковых запросов</dc:title>
</cp:coreProperties>
</file>