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CB23-88B2-4768-B4C7-26D81385B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D294-3C99-4026-80C3-91D83EA50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8256-59DF-407B-AB30-FB797DB41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53C1-8B53-4C01-8DAE-B24BC167D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FC021-124C-4079-AFD0-1A178D29C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058EE-3082-41BE-A94C-6C8DB1BDD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8E191-E9AA-44F8-9077-149E1E341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D0E7D-0F0C-4C3E-BAAC-EC1D413D7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B7CE0-668B-4B33-822F-4CD1EA169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FFDE4-7AD8-4B99-A9B0-607B33F24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F1549-48B3-4360-9318-E634EDCE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400D-C855-4CA3-B077-7CF4ABD8A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63C3E-7785-4E1C-ADC2-B98D7675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B3BBB-C6B1-4AE2-AA16-FB58A25A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35E73-BD7F-4B58-B159-FC558640A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94F78-81A7-4288-8DFE-41680FC8B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2D221-3451-4ED7-8243-64325C369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D15D7-E9F5-4CAC-BC67-2BB575E83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B5EFF-0F25-4D45-9312-37911F8E2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EE9B6-4F96-4D7C-A904-5AC08C602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3C604-40DE-4C3F-A96C-F02F4EBD9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4C70B-796E-4B9B-A869-143F6E4CB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8931-F55C-4EA4-9A0C-75EEC94D8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3E2E7-5E30-4188-B324-09E7C3F8E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CD156-F75E-468C-88E8-4FB29708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84150-9383-45EA-AE84-7C8FBF18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76216-2BAF-4346-AAA9-674C9D9B0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62135-9EA3-4C9F-BCBE-9A76125F2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739E0-4303-4295-9587-EDA6661D0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68DC9-6A98-4DAE-9066-68347F01F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955A3-0EBC-46BC-9F0C-F1B50C432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62354-5F8A-485E-A5BD-C0584B3F7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AD224-1E77-4350-B8FA-B4655AACC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D3F8-5AB1-41B9-B3DE-334363E1E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67C83-0AF2-4C14-A6C8-E33FBD7E6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DC919-71F0-44E7-8E48-311F997D5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7068F-39CD-43E6-919B-D2207339C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2D550-E993-49DC-8741-925EB6CF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382B8-636A-48B1-92E0-6AB8A1F40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3A4DF-20C5-44A2-A80A-BE635066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B09DD-5C5D-42CC-8A92-6096CF263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E6C49-CA2E-4E6E-819A-EAAF7A6DA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B9833-5B48-4CB6-B368-04D3D78BE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9FD0-E80C-4702-BB5A-2EE137409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6C5B-B033-426A-8D75-C4CA95A07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CAFD-0003-4F4D-9DDE-CCBCB385D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8DEB-8BA6-40B5-B049-7AB2CB2B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5265-5107-448C-961B-C6DA51AD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B6CE1-805A-48F1-93AD-7467434CD2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106F0-A664-4D58-890A-9193A1F6E7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FF3B7-2008-415A-831C-1244D27E7E9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37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38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41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FB049-46EC-4A91-91B5-08FC1622900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45760" y="2276280"/>
            <a:ext cx="8597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00"/>
                </a:solidFill>
                <a:latin typeface="Arial"/>
              </a:rPr>
              <a:t>Правила сетевого этикета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684000" y="3860640"/>
            <a:ext cx="8134200" cy="25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рисов Владимир Анатольеви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асноармейский филиал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У ВПО «Академия народного хозяйств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Правительстве РФ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асноармейск 2010 г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9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читесь прощать другим их ошибк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C3876-19BD-4CB0-B9FC-F580DA1692E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Ресурс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http://users.kpi.kharkov.ua/lre/bde/rus/ode/netetique.h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http://ru.wikipedia.org/wiki/%D0%A1%D0%B5%D1%82%D0%B5%D0%B2%D0%BE%D0%B9_%D1%8D%D1%82%D0%B8%D0%BA%D0%B5%D1%8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http://letopisi.ru/index.php/%D0%A1%D0%B5%D1%82%D0%B5%D0%B2%D0%BE%D0%B9_%D1%8D%D1%82%D0%B8%D0%BA%D0%B5%D1%8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http://proverim.net/etika.ph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http://www.fio.vrn.ru/2005/6/7.h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.Ю.Заславская, И.В.Левченко – Информатика. Весь курс для подготовки к ЕГЭ – М, Эксмо, 2010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98593-525F-4A64-998A-FCEF85727F5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1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мните, что вы общаетесь с человеко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7ECBF-1CC7-471E-87C2-E19745C3330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2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идерживайтесь тех же стандартов поведения, что и в реальной жизн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0F616-E7DB-40CD-813A-7B3CCCF0EC0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3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мните, где вы находитесь в Сет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C4F7D-C586-4169-BD5B-F756611B90D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4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важайте время и возможности других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B9442-EA0A-4897-8FA1-68630615BF5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5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 совершайте поступков, за которые потом вам будет стыдно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B96D3-7A2E-44E8-BA77-B3107DC24FE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6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могайте другим там, где вы это можете делат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A41CF-C5E2-436B-97B4-5F7754F6E0D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7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 вступайте в конфликты и не допускайте их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67621-C185-4DE4-8984-00DEDC2E717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8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важайте право людей на частную переписку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5BFB6-D89B-4080-B975-C27C0E33B58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6T09:14:33Z</dcterms:created>
  <dc:creator>БВА</dc:creator>
  <dc:description/>
  <dc:language>en-US</dc:language>
  <cp:lastModifiedBy>БВА</cp:lastModifiedBy>
  <dcterms:modified xsi:type="dcterms:W3CDTF">2010-11-06T10:24:47Z</dcterms:modified>
  <cp:revision>12</cp:revision>
  <dc:subject/>
  <dc:title>Язык поисковых запросов</dc:title>
</cp:coreProperties>
</file>