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9677-DD1A-450A-A8F9-EDA5BBC32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B391-B2BA-4C56-8B96-3F2C6917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6F5E-A34A-4BA6-83C3-4EAF131C5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8333-0412-4876-B640-377304E90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29CC-394C-4B49-A2A0-75133BA31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B2F0-EFA7-485A-A380-50C3C074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C85D-AE96-420C-9716-CBC25A75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8341-CB6D-4067-9C89-F942BE7A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8663-7039-47EE-B38C-019E8CF4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6BB0-E306-4D11-B032-95B71FD0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2B96-B653-43B3-9A89-ECE6ACC3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37A2-AEE4-47F2-B213-79B149FB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4EF4-3E74-4B4C-A3D4-B3804A25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6291-CE14-4F24-A4E0-91BE2DDA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F6BA-2C1B-4B08-A3C7-A0971140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CAEF-77B6-40D8-BEED-7FCA30CA5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2141-5410-4CA3-82B7-80F45B35B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7686E-CB74-470C-8E95-C08843900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A9851-15B0-4E49-B73F-46841A59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46DA8-22F0-498B-88B2-3E14F578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8719B-A092-4950-9ABF-86236F46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A129A-E123-47DD-93BC-303B3269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7E4F-0F40-4228-A586-33979FFE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84793-9380-4839-BAFD-01E11D23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02012-6612-43EF-A168-8D1D935E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113D3-7A71-4155-AD8D-6D981968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75B5A-ADE8-491C-BD2A-32C0540D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68648-083C-4FDA-B445-D1FF1628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D312E-25DC-491F-9366-36A13E543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72EFF-4A5A-4566-B62E-D9E99435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4A887-822E-415B-A1FD-DA4B5B0D4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8E5C0-3DC1-4255-A2DC-1E27B75F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D3B2B-CDD1-445B-88C3-7DF8A548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359F-FF40-46FA-BB2D-98200CF5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55ECD-83CB-4947-BFF9-A1170849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32746-D9EE-42F9-9CB7-76E73B8B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72C03-97EE-431C-9811-66471F9D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2A72B-9BFB-4BEC-96A1-DFEC9CA2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34FC9-06C8-4E60-9D1D-4F887DA0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9A9E6-32FE-4A5E-98BE-3D05972C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DBDFA-38CA-4444-A1F4-2F359CBF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82A10-C2CA-4FD7-B8E6-48B48874F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AE14E-2792-4088-82AB-89763F04C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D3F7-9FBF-4A68-8170-233B9929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1482-11A0-469F-B3A1-3E59AD35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CC8A-58C6-4297-9BEC-8D5FD246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7BE7-991B-40E4-9CF4-C4099342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221A-9018-4A40-B277-69C523BB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E362-2874-4705-B374-2BED0BA129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592C-8518-48D9-9B87-56AE407BB3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E1C0-E242-410E-B10C-8C5521F9A2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CBAA-01AA-4006-B616-1530F4E0D0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5760" y="2276280"/>
            <a:ext cx="859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Правила сетевого этикета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4000" y="3860640"/>
            <a:ext cx="8134200" cy="25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исов Владимир Анатолье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ий филиа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У ВПО «Академия народного хозяйст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Правительстве РФ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 2010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9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итесь прощать другим их ошибк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408AD-126B-4A60-94A0-77AD6C17C2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users.kpi.kharkov.ua/lre/bde/rus/ode/netetique.h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ru.wikipedia.org/wiki/%D0%A1%D0%B5%D1%82%D0%B5%D0%B2%D0%BE%D0%B9_%D1%8D%D1%82%D0%B8%D0%BA%D0%B5%D1%8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letopisi.ru/index.php/%D0%A1%D0%B5%D1%82%D0%B5%D0%B2%D0%BE%D0%B9_%D1%8D%D1%82%D0%B8%D0%BA%D0%B5%D1%8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proverim.net/etika.ph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www.fio.vrn.ru/2005/6/7.h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.Ю.Заславская, И.В.Левченко – Информатика. Весь курс для подготовки к ЕГЭ – М, Эксмо, 2010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4BF50-11FC-4BE8-BD99-5C9E0975A5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мните, что вы общаетесь с человек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B596D-30AA-42A6-BCC4-4822751FB8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держивайтесь тех же стандартов поведения, что и в реальной жизн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E35FF-BBA6-4DEC-85B7-EEC5C21206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мните, где вы находитесь в Сет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8DB59-2B9F-44D2-960A-A7A625D3DA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4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важайте время и возможности други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ECC75-7509-4569-9F78-3A2FECC296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5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совершайте поступков, за которые потом вам будет стыд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5AFEE-C8B5-417D-AF28-C58EDE2F23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6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могайте другим там, где вы это можете дела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4AD94-C4F9-4B98-AC17-FE098EC017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7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вступайте в конфликты и не допускайте и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8F355-BCD3-4BC7-AD36-07C60B7A15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8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важайте право людей на частную переписк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E9DA1-3002-47F2-B06F-3A3C3A034F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9:14:33Z</dcterms:created>
  <dc:creator>БВА</dc:creator>
  <dc:description/>
  <dc:language>en-US</dc:language>
  <cp:lastModifiedBy>БВА</cp:lastModifiedBy>
  <dcterms:modified xsi:type="dcterms:W3CDTF">2010-11-06T10:24:47Z</dcterms:modified>
  <cp:revision>12</cp:revision>
  <dc:subject/>
  <dc:title>Язык поисковых запросов</dc:title>
</cp:coreProperties>
</file>