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41A-B0A5-4993-A9FE-0C98A302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399-181F-40D9-878D-0B04EAF4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7F5-BFB0-4E44-B80F-4441CE33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4E9-650E-4D59-B067-CB53B35A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685E-5A51-4901-A247-5DAFCCBD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37DD-4130-4051-BFAD-4F7227C1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C5A5-2041-47A9-8368-74DFCA2D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A9A5-B9E9-48CC-8BF0-37FBC04D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D2E4-047C-4482-9115-C6AAA019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9B48-38AA-47CC-BEE8-36312C45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0B23-930D-4494-A55A-248CC014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4192-64E1-48CF-848F-04098314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D037-4693-491E-9657-D094EE40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7F3A-6A8E-4BF6-8086-A6148960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420B-F1EC-43FA-A2C1-32040B04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CA2D-E771-4FDD-9CE6-E0852204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966C-72CF-4BF1-B6E8-59674A45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83D25-A321-460F-83EC-469C016A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2D4AC-5AC4-4756-8C0A-BDC9EC62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708B3-9F28-4B1D-9718-EE180597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7B653-D9B1-493F-961E-A6242B9D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5E22D-1BFD-4FDF-BC05-27056C44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CFA-43AF-4803-8610-8E185AE8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FCCF-3BF3-43ED-BCDC-6EC43451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BD73C-FCA8-42C8-8470-EBE3AE6B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1AA8F-171B-4C37-A362-FD8557FD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7C67C-C546-455E-B835-0055219D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F6209-F1C9-4F9E-853D-927301D2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FB181-B149-4ED9-A10E-65D038DC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C366-8916-40E3-B250-9D8FB657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7DEC9-4A73-416D-A906-150C8CE9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D6471-0241-4FAC-9C5D-7A909336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A2528-C267-42B7-83DF-DACBBD83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F9CF-67CE-4EDB-AECC-0CE21A2A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49A2C-B7B1-4168-9575-4DD50505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38D01-1CCD-4B50-8D79-CAFFAEF1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D6D97-E3C0-49BA-AAAC-334FAC06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C29AF-06FB-43FB-8552-374F1EDD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2BBF3-FCCB-4C57-96A1-82575128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C3C0E-FDCA-4D81-BB34-0E09B7F1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D45F8-3739-4D9C-9BF6-43772700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81392-47E9-4ADF-8311-EAC0F2EA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C0708-4CDF-4BC4-9BE0-3D106C80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7C5-0A6E-4694-81D8-8C8F1E08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9E54-72B5-421F-8FD6-6426ED47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1D8-EB55-4738-9CC7-7CC52AFF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F79-BB1F-49BE-BA0D-052DA4A6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E5A8-E7D1-4A63-A10B-CCFCBEBF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52B5-879D-457C-99FE-6B6AA68B6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5CBE-E261-42FB-8693-DF7FC53E1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96D9-57C2-4EF7-B809-71EFFB7EFD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8A42-1F3E-4035-99EC-ED17F9C079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сетевого этикет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9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сь прощать другим их ошиб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05D11-4EAF-46D6-9D49-223C699C0C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users.kpi.kharkov.ua/lre/bde/rus/ode/netetique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ru.wikipedia.org/wiki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letopisi.ru/index.php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proverim.net/etika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www.fio.vrn.ru/2005/6/7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3FF2E-E10E-4763-8D5E-D827B06566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что вы общаетесь с челове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77703-AE2F-4F25-9EC1-232EA9259D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держивайтесь тех же стандартов поведения, что и в реальной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90B53-E701-4A10-808D-A2428E8430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где вы находитесь в Се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F9A7A-A14D-4DE1-9AD5-EFA2564DC0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время и возможности друг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F3875-3F72-462F-9755-8BEC6B3E5F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5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вершайте поступков, за которые потом вам будет сты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4D472-20A8-483C-956D-2D03645535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6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огайте другим там, где вы это можете дел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950D9-92E5-404E-BADB-786AD6E9AB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7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вступайте в конфликты и не допускайте 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0B9AE-2FE5-4D5A-9353-B2EFF98EF6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8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право людей на частную переписк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D6F85-39AB-42DF-9E56-8BC9C14FB8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47Z</dcterms:modified>
  <cp:revision>12</cp:revision>
  <dc:subject/>
  <dc:title>Язык поисковых запросов</dc:title>
</cp:coreProperties>
</file>