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B0C7-2D89-4F21-86F1-BFACE281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ECB1-B770-41F1-8493-29EA9F2A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9D0C-DC27-4CB6-BCC0-538D50CFD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34C-2B65-4493-9BCD-28E5888E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A775C-F0CA-4FB7-9560-EE5DC4521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36049-B710-4F6A-AB77-E6ADEF23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F87C-14F9-465F-BD0A-16668123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F4016-5404-4687-B966-206513DA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203F-AE15-4D4E-86E1-842B2C21E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5A7C-BF0D-4E98-ABD1-777AC89C9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C3E3-58FF-4F57-A888-86C05B7E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862-FDEB-42AE-8183-A421B5A5F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A7C66-61F7-485D-8B74-DE3F5F556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FE97A-2182-4982-958E-7406FA61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EB3C8-27DE-4B09-BA80-642CC406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B8E5-C7A8-46EB-91D0-22FCA8F9F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A8C70-CFE2-4988-94BC-B18921A6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55B32-E833-4CE8-8455-D83A0845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BEABD-73E0-4833-9911-E5F49B23F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14715-4C43-4ED8-B12C-36ECF791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DE6ED-746C-4E6D-9069-E7667437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6C653-2733-4782-B766-A7C3F71D4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9770-E65C-4DA6-8CEC-5CA42D05D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4E5DE9-9096-4EC2-A24D-F8BEB9DBA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B0BED-87FD-4054-92F2-638EDAA84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E3966-A9D8-4CB2-9D8F-64873D14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2E6BF-C714-4558-90AC-90A521EC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E95AF-6C83-4712-A1A6-E767A67FF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81CDE-D327-4D80-8044-D9ECC5FE4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2A60C-7670-4289-9AD5-13A6BC39E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EB32C-8F89-43C7-8962-5FC91DFC1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CA5F6-9FD1-4CA4-9486-B0D0B452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2D028C-4593-4ACD-B811-7085CF285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6464-9A6E-42FB-9D69-07C006F90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613FC-7BE7-4CDC-A8DC-3CD57FE12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41BEEB-8701-49DF-9A58-D2CF9C23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4BA73-8CD0-4552-B482-9BA703D9B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B5B41E-8184-45FB-BBAF-D6FDE6C78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F1046-F279-47C5-A74B-E3B7AF92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8D3A3-921E-417F-9368-53E9F0420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63CCE8-8461-4D67-95A5-25D66A1D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EA4D4B-22D2-42E0-A8DC-BA01DF929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F9E51-9060-4671-842F-5B9A0F0D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CFB2-9C25-4C05-9520-82329C6F1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F40E-FE7B-48DC-8211-9B308B251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F28F-495D-453D-A803-2F280393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C54C-2CBF-4AAC-B6AE-23DD0EF6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9529-9984-4918-893F-2FF5F52E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B538-ECB6-4171-9AB8-ED2A4B7B4BC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2851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A0FB-5BB9-4F3B-835B-69BEFA0BEB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4784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9604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343880" algn="ctr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792080" algn="ctr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792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DFAA9-0BF8-4FDC-AB7D-E6EE413FBE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7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8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41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E198-0CA9-4822-8822-E5E3EAB115D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45760" y="2276280"/>
            <a:ext cx="8597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00"/>
                </a:solidFill>
                <a:latin typeface="Arial"/>
              </a:rPr>
              <a:t>Правила сетевого этикета</a:t>
            </a:r>
            <a:endParaRPr b="0" lang="en-US" sz="6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684000" y="3860640"/>
            <a:ext cx="8134200" cy="25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рисов Владимир Анатольевич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ий филиал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ОУ ВПО «Академия народного хозяйств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Правительстве РФ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расноармейск 2010 г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9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читесь прощать другим их ошиб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EDF668-88C7-4FB8-98BB-25AD2482EAD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Ресурс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users.kpi.kharkov.ua/lre/bde/rus/ode/netetique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ru.wikipedia.org/wiki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letopisi.ru/index.php/%D0%A1%D0%B5%D1%82%D0%B5%D0%B2%D0%BE%D0%B9_%D1%8D%D1%82%D0%B8%D0%BA%D0%B5%D1%8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proverim.net/etika.ph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http://www.fio.vrn.ru/2005/6/7.h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.Ю.Заславская, И.В.Левченко – Информатика. Весь курс для подготовки к ЕГЭ – М, Эксмо, 2010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43ADF9-7CFD-43DB-9EDF-484DAE470D8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1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что вы общаетесь с человеко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719C8-5F0B-4CF8-9125-D78B2D00C28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2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держивайтесь тех же стандартов поведения, что и в реальной жизн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1BDCD-33CB-48F1-B7AE-BFA15194A6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3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ните, где вы находитесь в Се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7AF6F-2AF2-46DF-9727-B1F62510641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4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время и возможности друг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CC8F2-D5E3-40E8-9F52-7E378874270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5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совершайте поступков, за которые потом вам будет сты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DBFD2-3CA1-4760-9750-50EE58A4B7C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6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могайте другим там, где вы это можете делат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AF7A97-7CDD-422B-9B87-92F5599586C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7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е вступайте в конфликты и не допускайте 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A08929-560B-4992-978C-6E5769A67F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Правило 8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Уважайте право людей на частную переписк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599FA-74F2-44EE-86CB-172987DA65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06T09:14:33Z</dcterms:created>
  <dc:creator>БВА</dc:creator>
  <dc:description/>
  <dc:language>en-US</dc:language>
  <cp:lastModifiedBy>БВА</cp:lastModifiedBy>
  <dcterms:modified xsi:type="dcterms:W3CDTF">2010-11-06T10:24:47Z</dcterms:modified>
  <cp:revision>12</cp:revision>
  <dc:subject/>
  <dc:title>Язык поисковых запросов</dc:title>
</cp:coreProperties>
</file>