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7EE0-CA1B-417A-9757-A9B55E18F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BCBA-566B-4193-BB93-0CF690232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E92C-4B72-4774-9862-0E958148D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A936-52D6-4AA5-9FD5-A2C71C7CD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8D40C-1CD6-4FFC-83C5-DB382C6E9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BF193-FC55-471C-8FE5-D90C7EAB4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629D9-5C1B-4836-B60C-3A5BC3D80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8DCCA-3E38-4202-AA94-22721EBC1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D3286-B53B-4FDC-A36A-8BB69FAB0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DC2BA-6CE4-4239-8158-B9D11730B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3A2F3-1AAA-4334-8FDB-AD479BCF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049B-17E4-4E3D-A968-1E8DBB24B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545DE-B418-4065-A40C-B234BFCD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45124-B725-4672-8E82-5CD0901D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BE6C2-57BA-4FC9-B4C7-0091C296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E7F99-35DF-4D6D-8250-BC919B1EC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14E18-8536-4BED-B252-FABA39686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D2B6F-1FBB-4D74-AFB9-153F0AC78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79374-99B6-46CF-917D-7116C4B6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05DC8-66DA-4416-8059-2AA3003E6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E194D-E3E2-4044-BA51-C3129EB17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A0C0D-21DD-4B0A-90B9-E1D50BA22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E529-B5C0-48A6-A392-D09FC5466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473B3-5709-41FA-B7CC-F0E7FDACB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E6AE8-1507-4058-8FE9-E70FA9CA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1F33D-EFC4-4208-A115-1D96D39D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DE0C8-D3BE-4D07-A72F-BFD269D5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2C363-DDAE-4ED4-AA5E-FD6D16E48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F7DB8-67E8-4034-A950-EA4F72D9A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C1DA9-15D8-49B8-AE7F-24D97A07D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3A835-32B6-43F5-8692-322D83825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2094D-43B5-4F6F-A2BB-330333952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59301-6613-4380-84FE-7A2335460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D5F5-95BB-469D-88BC-B4407C980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FDBA1-57A6-4DAB-9FB0-9DEFE3727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3F535-0F8F-4FC2-9C90-CA547DACA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686FA-995D-4CDC-BB37-B7913E4E6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9C1BF-2CD5-400C-9DAB-84D207C5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E0A8C-B0CC-4A31-8CBA-00FDD661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320AF-65CF-493B-A704-7B93A038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AE23E-186F-45B3-986C-7CE015E9D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2E5C5-EE5C-4CA4-8DC0-7D167D387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B40C7-E46B-440B-929D-C93B8C239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9F2B-91BE-4D9C-ADAF-0FAB1123B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E0A6-DB0D-4DFE-82EF-9953B5F3F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570E-2F92-408A-9F7E-AB5DCCB9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4E3D-0671-49E8-B683-E96B0331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3F2C-D307-4DD8-9F03-1AD25F81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BA217-596C-445E-B38B-F01F874510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E310-5B07-47A2-8786-9D99602751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87625-4E5E-447F-92A5-EB23EA13633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37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38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41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BB231-8903-4D78-983A-719429C7895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45760" y="2276280"/>
            <a:ext cx="8597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00"/>
                </a:solidFill>
                <a:latin typeface="Arial"/>
              </a:rPr>
              <a:t>Правила общения по электронной почте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684000" y="3860640"/>
            <a:ext cx="8134200" cy="25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рисов Владимир Анатольеви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сноармейский филиал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У ВПО «Академия народного хозяйств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Правительстве РФ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сноармейск 2010 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отправляйте с письмом большие файл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0C794-8425-4F36-83EA-ACC6C091678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сю входящую почту необходимо проверять антивирусной программо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B719B-77DC-45BC-8AC4-02067F3B841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читайте письма, пришедшие от неизвестных отправител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DADEE-4143-4389-99AA-21B4E9F3DB8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открывайте вложения, полученные от неизвестного вам отправител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97DF4-64BB-476C-85C8-2DEEA0F0206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посылайте по электронной почте информацию секретного или личного характер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01141-6882-44D9-A682-2950B88C0EE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сообщайте своих парол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ACEC6-66A7-4217-B659-B0B235FF8A8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и регистрациях в сети Интернет не оставляйте своих личных данны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F1300-75BD-4CB8-A8B8-89AA39A3A1E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сообщайте о себе ту информацию, которая может быть использована против вас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6A125-2B46-4C01-B936-39D4830B8FB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Если вы просите что-либо, не забывайте говорить «пожалуйста». Аналогично, если некто делает что-нибудь для вас, никогда не бойтесь сказать «спасибо»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DA758-372E-44BA-A6C0-202D0E85EBD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ля компенсации эмоциональной недостаточности можно использовать «смайлики», но не в деловой переписк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E626F-B3C2-4D91-AA90-0F726142D12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50752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Регулярно читайте свою почту. Отвечайте на письма не позже чем на следующий ден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4177C-6CF0-42D4-9DAB-763F1C6F31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тексте сообщения не следует использовать прописные буквы, так как ТЕКСТ, ВЫДЕЛЕННЫЙ ТАКИМ ОБРАЗОМ, рассматривается как «крик»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9AFC7-9432-4F88-A4B2-9D07FE072B8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бращаться к незнакомым людям по электронной почте можно только в том случае, если адрес был опубликован его владельцем. Отправка незатребованной корреспонденции является нарушением правил сетевого этикета и называется электронным спамо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263D3-774A-4586-A142-4DC1EEC3030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и неполучении ответа от незнакомых людей повторять обращение не следуе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A858D-702B-41A2-B47E-8110771A957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Ресурс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http://comp-science.narod.ru/pr_nab.ht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http://monogramma.ru/design/nabor_text.ht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http://www.ugatu.ac.ru/ddo/stuff/met_avtora/8.ht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.Ю.Заславская, И.В.Левченко – Информатика. Весь курс для подготовки к ЕГЭ – М, Эксмо, 2010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A71F7-E45F-48FC-A501-FD238A7F6D2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Если обращение поступило от незнакомого человека и оно обосновано, то следует ответить в течение трех суток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86609-2D91-47B4-8679-9CECF00924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поле «Тема» нужно отразить суть письма с учетом того, как его может воспринять адреса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A0DE6-9B86-4927-8323-4C414030276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ишите грамотн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64C4F-1C03-437B-8AE1-FDC667A1128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отправляйте письма, написанные «под горячую руку». Перечитайте их в спокойном состояни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110F9-30E9-4F9D-B4D2-D4AF4377E6E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нимательно относитесь к заполнению полей «Кому» и «Копия», чтобы текст письма или чужой электронный адрес не попали тем, кому они не предназначен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42E57-EF5A-4469-B30F-86E11C7267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Цитируйте в своем письме оригинальное сообщение в объеме, достаточном для того, чтобы можно было правильно восстановить контекст данного ответ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A27A1-E231-4C49-A23C-D62E58FE673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спользуйте подпись: указывайте несколько способов связи (обычно это номера телефонов и факса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AFDBE-588C-4591-AC76-E1911BC02B1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09:14:33Z</dcterms:created>
  <dc:creator>БВА</dc:creator>
  <dc:description/>
  <dc:language>en-US</dc:language>
  <cp:lastModifiedBy>БВА</cp:lastModifiedBy>
  <dcterms:modified xsi:type="dcterms:W3CDTF">2010-11-06T10:25:08Z</dcterms:modified>
  <cp:revision>9</cp:revision>
  <dc:subject/>
  <dc:title>Язык поисковых запросов</dc:title>
</cp:coreProperties>
</file>