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E9C-F0F4-4FFC-99EB-AC227473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007-9469-438E-A6F4-DDB10B3C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BC8-DCD6-4C27-BFA2-92C4E8A9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4239-A263-4A19-8849-EE7410B2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DFDA-6B8D-4B68-B740-C77CE751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C921-7D2D-49F9-BB18-300088C7A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1F99-C329-4374-A1C2-D18E654DF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1B81-1C00-464B-99B5-D79F6ECA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7848-CFDC-4D7A-AF78-5285626D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DEA54-5CF9-48D1-851E-6AA6D6F71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6A4F5-7045-406F-A987-BD9A14E5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1E1F-7D45-479A-9C6E-69DA0329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BEAD5-626D-4373-8D0B-CD46EC6C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27D1-1406-43E0-9EDA-92272699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2909-6E69-46C2-8091-61CB969DE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007D-3C49-4469-A04D-ABB598B4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5E26-009B-4C56-A733-E14BF6F4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EAD60-30E8-4449-AAA8-2FD9DA3B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468F-C876-425A-BB0E-157FD18F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C3A48-CC95-44DE-8FF2-0F05521C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BEF0C-9CE5-436B-B267-22ABB2A3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033C-DA6F-4710-BCDA-36E09D12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1FE4-2F12-494C-AA8E-4FC806F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E3DB6-B69E-4B66-88EA-7CA0DA67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6D14A-2E35-495C-94D1-FCDF8EFDF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6DBA-762B-4373-B210-3E165FF0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F9040-35E9-4077-BAFA-75F422F6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22AC-F1A4-4197-96E1-4C5A0D1AC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25B45-CE77-4F21-B46D-F337ACC9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2AF4F-3040-4C95-856C-11045691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718F5-1C98-4E6F-9C5E-DDD5535A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A5802-A15B-4ED4-8083-1FFE07A2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23F8F-F9BD-44C0-AF71-C3F87DFA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790-9B75-4432-BCBF-7BBD24CB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C84DD-CA58-4DA2-9D08-8A1590F4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B50E-7B4C-4110-A588-346EB0E5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D1E1-F566-4DCA-89E3-30369587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F17E84-8FF1-46FA-B4A4-FB91433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8A663-19B6-4FEB-93F4-D59E3909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14980-16DA-4E3A-B9DB-3BD5E4D9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FA288-A4AE-49E2-AFFD-705B852B5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2A95C-570F-491B-BAB3-618C5975E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3793A-BC98-4B2C-91E6-52AC9AAF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0575-9CA6-4336-89B7-CA4DDD2E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630-0A27-4DDD-A42D-8D63735F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CB1B-1CA7-4336-902C-8A655B1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8C7-9A0B-4C20-80C8-BD105767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DB31-40F2-4106-8045-86B63022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1552-8464-4EDE-A056-92BD7DD8C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B997-3FFB-4081-8C39-BAB5A0E3B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7467-2487-4F69-8540-408B87471A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48FE-D4DA-415D-91DC-C01BA0116A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общения по электронной почте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с письмом большие файл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AE352-4E8A-4731-84A1-802C433DD2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сю входящую почту необходимо проверять антивирусной программо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1AB01-C8FB-42BC-B0E5-789CD8D150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читайте письма, пришедшие от неизвестных отправите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D145F-5469-453B-848A-87369B6ED1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крывайте вложения, полученные от неизвестного вам отправител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7ABD-5125-4438-A4FD-55BAB3A7B1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посылайте по электронной почте информацию секретного или личного характер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B2AFC-22DC-41E9-8412-3C4DE53BBF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своих парол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F4D1D-1886-4FF9-A6B9-59E6645AC43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гистрациях в сети Интернет не оставляйте своих личных данны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9002-5214-47EE-80F2-785C852D98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общайте о себе ту информацию, которая может быть использована против вас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A1B4-C957-471A-85E7-C8CD3F3B87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вы просите что-либо, не забывайте говорить «пожалуйста». Аналогично, если некто делает что-нибудь для вас, никогда не бойтесь сказать «спасибо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221EE-C59B-4AA9-A015-C836CE49E1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ля компенсации эмоциональной недостаточности можно использовать «смайлики», но не в деловой переписк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0C0AC-E9B9-4062-8CD7-37E8196BC2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егулярно читайте свою почту. Отвечайте на письма не позже чем на следующий ден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537D5-FB08-4679-9CA4-A97940DB08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тексте сообщения не следует использовать прописные буквы, так как ТЕКСТ, ВЫДЕЛЕННЫЙ ТАКИМ ОБРАЗОМ, рассматривается как «крик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89D97-2F6C-4E3E-A0C0-8C6E77CA3D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щаться к незнакомым людям по электронной почте можно только в том случае, если адрес был опубликован его владельцем. Отправка незатребованной корреспонденции является нарушением правил сетевого этикета и называется электронным спам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3B5DC-2611-42D3-96E4-E95538514E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неполучении ответа от незнакомых людей повторять обращение не следу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D8D96-137F-4E48-AE41-DEC121B31F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comp-science.narod.ru/pr_nab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monogramma.ru/design/nabor_text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http://www.ugatu.ac.ru/ddo/stuff/met_avtora/8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B0F1-18BB-4A49-A5E5-9BABDD4D841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Если обращение поступило от незнакомого человека и оно обосновано, то следует ответить в течение трех суток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D4BCE-DAF9-4A86-8BC8-A263EBA893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поле «Тема» нужно отразить суть письма с учетом того, как его может воспринять адреса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7667-95B5-4167-9D13-CC4C32E83C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шите грамот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8DC08-51C5-4EC8-AA9E-57524C3A7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отправляйте письма, написанные «под горячую руку». Перечитайте их в спокойном состоян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24EFD-12C4-4432-8449-667250E7EA5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нимательно относитесь к заполнению полей «Кому» и «Копия», чтобы текст письма или чужой электронный адрес не попали тем, кому они не предназначен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15E49-7D36-4747-9333-07CFD8AEB7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Цитируйте в своем письме оригинальное сообщение в объеме, достаточном для того, чтобы можно было правильно восстановить контекст данного отве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AD4E6-68D5-4891-8BFE-2B4B35E672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ользуйте подпись: указывайте несколько способов связи (обычно это номера телефонов и факс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7EA7-773B-47ED-B4AC-E83568C419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5:08Z</dcterms:modified>
  <cp:revision>9</cp:revision>
  <dc:subject/>
  <dc:title>Язык поисковых запросов</dc:title>
</cp:coreProperties>
</file>