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268-6817-4769-99C3-660301FD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A19-107F-41E2-9039-186E6294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864-852A-4439-BE6E-8AC10B2E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9C4-BAD5-4396-BFA5-2994F7BD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14FB-DD35-4DF8-97D1-1D42247F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888B-32B6-4BB1-BD29-70ED1120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20A9-6C02-4440-8889-7E09F0DB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BB36-521D-4173-80FB-C234E9D1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28E0-0F0B-47E0-AF9C-B72EFA89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44FA-1A38-4B47-B862-0A9857EA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DD60-2EC7-49B0-99A4-E3295FA4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5E5-153F-4400-B6E0-166BD84D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4380-3DA3-4EB9-9488-18437B43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8D25-8246-4B48-A30F-9295EFB3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6A8D-A443-4211-896A-F7488A15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177D-01DB-427F-81CF-3E72225C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279D-A3B1-43D5-B668-DAF7E666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06989-64B5-416E-A9BB-B6171F73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F9BA1-0191-42D8-A9CB-D851459E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83D22-51E5-46A4-845E-A6265668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C36B0-4554-474E-A0C2-271BD550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63CC6-7319-4BAF-8A22-43E2F043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A67-AEBA-40EA-9B76-9200822B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77143-AF1C-4A5C-BA41-58B8C481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4659C-BB55-4F25-B62B-37715E5D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38EF-E7B0-4A5A-9793-C3219356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8472B-C141-4580-B692-C167CD86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714F-7E4C-4074-BC9A-C5D30154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F12DC-8DC5-4A67-B61E-63EA2DC2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21E82-DBAA-4A52-A57F-8D2E893D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E5F16-93BA-46FA-BE29-257BD6B2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8FD8A-1C27-4DBA-875F-257E418F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BBF08-2A90-45A1-B122-AD61E55D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9481-2075-4BE9-9C35-B7FD91CD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613CC-B882-4222-9E28-1FB0B9A9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A398E-09F9-4F26-8C1C-B5FE52A3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5C95-C803-459A-B62A-C6457A6F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DF004-1B91-4B31-812E-A6CE48DF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9C9DF-A1E7-4DD2-ADE0-91A03C62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C6ADD-FA4C-4836-8401-24780E57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5BCE-5B92-497D-A345-D41422B8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3FA33-0946-44DE-8091-4C7D1E05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55678-D65E-431A-85D0-7EEDCB1D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A01-21E8-47F8-BD0D-1BB3A5FC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F29-9EFA-4DFD-B932-5D9CA6A4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CC6-F53C-4519-84E6-8E7D3C14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F3B-BCBB-45C1-8CA5-8ADE2B56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382-9C97-4FB0-AE6E-197FA03E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32E8-068C-46EF-BC58-B719E4293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D981-3744-4162-B54E-081AD62F7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2637-0A07-42A3-B410-9E8810889D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F867-5505-48EF-9AC7-0691BE2A6A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общения по электронной почте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с письмом большие файл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765EC-D790-4F2B-8415-3985F7081C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ю входящую почту необходимо проверять антивирусной программ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70AF2-E906-4F71-AB2D-DC494DFEDB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читайте письма, пришедшие от неизвестных отправите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C7FA4-A3BD-468E-8474-04D077D57C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крывайте вложения, полученные от неизвестного вам отправ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E9745-6513-4797-AE23-FF6D69D000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посылайте по электронной почте информацию секретного или личного характе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3F6CB-DF4D-4671-BD13-AA8B85791B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своих паро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A56A7-6E56-4430-A9AB-3760A0302B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гистрациях в сети Интернет не оставляйте своих личных данн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4A57F-1C02-4B46-9A42-CB5101C8B2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о себе ту информацию, которая может быть использована против ва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008F-6640-41BA-A317-54B8B74784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ы просите что-либо, не забывайте говорить «пожалуйста». Аналогично, если некто делает что-нибудь для вас, никогда не бойтесь сказать «спасибо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EA679-1E65-460A-BC58-C29D836549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компенсации эмоциональной недостаточности можно использовать «смайлики», но не в деловой перепис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C3509-36DF-4B8F-BBC2-382F9D257F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гулярно читайте свою почту. Отвечайте на письма не позже чем на следующий д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CFFE0-8AEF-47BD-BC89-9F72B45C0E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тексте сообщения не следует использовать прописные буквы, так как ТЕКСТ, ВЫДЕЛЕННЫЙ ТАКИМ ОБРАЗОМ, рассматривается как «крик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01683-4073-48AF-8A5A-EEB2288EE8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щаться к незнакомым людям по электронной почте можно только в том случае, если адрес был опубликован его владельцем. Отправка незатребованной корреспонденции является нарушением правил сетевого этикета и называется электронным спам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516D0-081B-497C-8642-03831A4A31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неполучении ответа от незнакомых людей повторять обращение не следу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78B6A-0928-421A-B451-DE3FA1D0C0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C781E-BD45-4F0C-8521-3524B863BC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обращение поступило от незнакомого человека и оно обосновано, то следует ответить в течение трех сут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74968-19EC-4D84-B7CF-5DE2A07263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оле «Тема» нужно отразить суть письма с учетом того, как его может воспринять адрес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26F7-3C28-454A-824F-C403AC70A6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шите грамот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21C2A-D859-4274-B267-B2F0ED6774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письма, написанные «под горячую руку». Перечитайте их в спокойном состоя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C948-6593-4176-B0ED-B9EBD21BE1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нимательно относитесь к заполнению полей «Кому» и «Копия», чтобы текст письма или чужой электронный адрес не попали тем, кому они не предназначе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DA392-A5CF-4DF5-BDE3-2F3411F15F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тируйте в своем письме оригинальное сообщение в объеме, достаточном для того, чтобы можно было правильно восстановить контекст данного отв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CA18-C0A3-422B-ABA1-AC2C963CB9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йте подпись: указывайте несколько способов связи (обычно это номера телефонов и факс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E05A6-7037-48A9-901E-753A2EBE4F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5:08Z</dcterms:modified>
  <cp:revision>9</cp:revision>
  <dc:subject/>
  <dc:title>Язык поисковых запросов</dc:title>
</cp:coreProperties>
</file>