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8CE1-206D-4228-88CD-DE5654301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53F9-769A-47A2-92EF-EF729B584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B82B-04D5-4BA6-82C8-5F7EC8D16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7D76-BF27-4AEB-8517-05F96F13E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FD683-7237-4517-B884-024C83B6C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316B2-F63D-48CB-8361-56A3D0846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2266B-818A-4AFC-BC52-1144852C2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A7385-D443-48A5-B66F-8B5FB4C27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99EAD-F36F-45BE-9E76-813AD1AF8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14948-BBBA-4775-B7D2-10C04E434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9D5FF-2B0D-4004-AA49-8EA47B2A3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D529-BCDD-4F5B-8FC7-208380313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5A875-6EB9-424B-A662-AFD7761A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8B835-6A08-4091-9C3F-D34AAD400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8C6A9-3089-49FB-8DC3-10E9C3154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2C3E3-F2E7-4C69-97AA-121E3C80E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412C4-198F-4CB2-8A58-2D11B2999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F84EB-AD22-4FAC-9271-B76319831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76661-B0D5-4DD2-8253-5EE225EB9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D75DC-B57B-4BB5-8D78-13AF28B39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B062B-184A-44D7-AB9B-4ED054453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5195C-D8C6-463C-A3A5-8B0422CDB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AA11-CA07-4BD7-835A-C49208BE8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A2C94-B846-4509-885F-2F862F85D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C4B4F-80FE-4C3E-9777-49C25FF36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659B7-C2C8-4539-8239-8E646115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73F36-0140-45E2-8801-41099491F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DDF15-855A-4249-A406-D0A04901F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2073C-A883-44B6-90CC-DD7A27400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25F48-287F-42A5-BFC4-5AE110F74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91963-9DD1-425A-916A-342FACCF6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5474A-BCCA-4E3B-8FBC-BBDC459FE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C1B11-B659-4AAD-A171-C6325C9A9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BAE1-4865-487A-9D88-099CA0888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2EBC7-27CD-441A-BD4D-D6CDB4A01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B64A5-41A5-4865-A25C-AEBE18ECD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95CD6-A9FB-40B4-A843-98B0C9D52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CAB79-0376-4E1C-BF39-0CED6873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74353-42B0-4405-8F2A-0CBED508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AB18C-D285-4BFD-9AD7-508180E5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5C4CA-2D3B-47F8-ADDE-A217D98A7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C6A5C-F06E-485A-AAA3-788EEE93F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66636-0654-4DE5-A960-973FA496A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F8FD-5AE0-42DB-8936-56899CDC5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62FB-C935-4752-A385-CA8CC97BB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F443-A75B-460D-8C9D-138F4FF39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CD3B-37CF-405B-A277-C5C073A10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C28B-E00D-40BA-8B33-5A09E770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E4B62-89BD-44D0-ADCF-D8BDB661B5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1FE33-C611-4F48-B545-DD03EF598C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13478-EEA3-4978-9EA0-CE781B683EF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37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38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41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606C8-AD59-43EA-B6C7-4577CE1A9F5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45760" y="2276280"/>
            <a:ext cx="8597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00"/>
                </a:solidFill>
                <a:latin typeface="Arial"/>
              </a:rPr>
              <a:t>Правила общения по электронной почте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684000" y="3860640"/>
            <a:ext cx="8134200" cy="25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рисов Владимир Анатольеви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асноармейский филиал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У ВПО «Академия народного хозяйств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Правительстве РФ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асноармейск 2010 г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 отправляйте с письмом большие файл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BCEF2-809D-4D57-B10E-BC18B081D79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сю входящую почту необходимо проверять антивирусной программо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E5B01-CAEA-4596-98EB-76EB6A57C45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 читайте письма, пришедшие от неизвестных отправителе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24310-EEA1-4C93-B165-71C76565B45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 открывайте вложения, полученные от неизвестного вам отправител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F0BAF-F9F8-4CE2-9428-3C729F5BE2B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 посылайте по электронной почте информацию секретного или личного характер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FA4BF-2CA6-4CDF-ABE3-990E0001EB3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 сообщайте своих пароле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2C019-15EA-432C-9B5C-5EF80289EB1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и регистрациях в сети Интернет не оставляйте своих личных данных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9043C-4E2B-495C-9AC7-91321A18C8E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 сообщайте о себе ту информацию, которая может быть использована против вас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A9C17-3B95-47F1-8474-16F576AE89A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Если вы просите что-либо, не забывайте говорить «пожалуйста». Аналогично, если некто делает что-нибудь для вас, никогда не бойтесь сказать «спасибо»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521A3-57D4-4122-A3D1-E7F6997B8FD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Для компенсации эмоциональной недостаточности можно использовать «смайлики», но не в деловой переписк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59268-5458-45C6-8A5F-34423D61115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50752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Регулярно читайте свою почту. Отвечайте на письма не позже чем на следующий ден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287F7-0A0B-492E-88C9-D4C4A8E4BC2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 тексте сообщения не следует использовать прописные буквы, так как ТЕКСТ, ВЫДЕЛЕННЫЙ ТАКИМ ОБРАЗОМ, рассматривается как «крик»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7803D-1A18-4DDA-B4F3-B9893AB981A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бращаться к незнакомым людям по электронной почте можно только в том случае, если адрес был опубликован его владельцем. Отправка незатребованной корреспонденции является нарушением правил сетевого этикета и называется электронным спамо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7C76E-13FE-4F0D-9C52-2DC7BE1DC4F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и неполучении ответа от незнакомых людей повторять обращение не следует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7F197-DA5B-4E5E-9363-125E436CE51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Ресурс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http://comp-science.narod.ru/pr_nab.ht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http://monogramma.ru/design/nabor_text.ht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http://www.ugatu.ac.ru/ddo/stuff/met_avtora/8.ht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.Ю.Заславская, И.В.Левченко – Информатика. Весь курс для подготовки к ЕГЭ – М, Эксмо, 2010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3858B-DACB-4D36-892B-CA7055689E1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Если обращение поступило от незнакомого человека и оно обосновано, то следует ответить в течение трех суток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67426-7A59-4768-BBAA-0454C1B8836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 поле «Тема» нужно отразить суть письма с учетом того, как его может воспринять адресат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2E77C-44E2-49B3-8300-55578B78023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ишите грамотно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01918-90E0-44FF-9158-F62217A45E8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 отправляйте письма, написанные «под горячую руку». Перечитайте их в спокойном состояни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14AD2-9075-400C-976F-164FFDC0AA6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нимательно относитесь к заполнению полей «Кому» и «Копия», чтобы текст письма или чужой электронный адрес не попали тем, кому они не предназначен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85DE9-C89F-4458-BEF6-A1AB1E8F2BB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Цитируйте в своем письме оригинальное сообщение в объеме, достаточном для того, чтобы можно было правильно восстановить контекст данного ответ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86082-C513-4249-95C5-7118AB976DB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спользуйте подпись: указывайте несколько способов связи (обычно это номера телефонов и факса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22E83-0EA7-4807-96F9-69D0D762FEC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6T09:14:33Z</dcterms:created>
  <dc:creator>БВА</dc:creator>
  <dc:description/>
  <dc:language>en-US</dc:language>
  <cp:lastModifiedBy>БВА</cp:lastModifiedBy>
  <dcterms:modified xsi:type="dcterms:W3CDTF">2010-11-06T10:25:08Z</dcterms:modified>
  <cp:revision>9</cp:revision>
  <dc:subject/>
  <dc:title>Язык поисковых запросов</dc:title>
</cp:coreProperties>
</file>