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4153-62F3-4F6D-BD9A-DDF272E8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54DC-6578-43C0-8D0F-9C577DDA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32F7-970A-47FD-8890-50273423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84E1-DF7B-48B8-BABF-35817E9A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6EA9-1244-4E1D-941F-188606DF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8594-FF77-48F6-873D-96DFE0A5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219D-2944-420C-BFF4-C7E873D7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450B-FDEC-42CB-9AED-0049BDDB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C810-60FE-4D56-8F27-18BD0001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60C7-4497-4BFD-B545-2A524A34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1889-4272-4DD0-830B-136751B7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548D-8F09-4FB9-862E-B8A6D5B9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198A-2F52-40DE-AA39-FB732143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14C6-8969-4E66-A389-473BC20C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CB0D-C7F5-4BAB-BFE4-1BE98A11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33B9-A6D5-4F82-8C8B-16CD4B8F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FB29-D343-4D6C-9DDC-5A09D9D7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BFBF7-0E23-4AD9-B403-F627AEC9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18915-9FCE-438B-B903-27F5E815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9683F-64A2-45E6-B263-B846572B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412D1-96C0-42E8-BEAF-D3EA8959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E60F0-9919-4A59-8894-8AB9F5A6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EF6B-0A5A-4D3F-A9CF-0CFFE105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69F3F-9A03-48FE-9533-557E8743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6D775-A6D9-477F-8EEF-6C3053C3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6C737-2AE7-46BC-8B6A-FF5A64FD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FE5BE-7A68-41E4-9F97-20024F8C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263F4-FF8B-47B3-B87B-58B93CE6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1F325-CFAC-4099-A85F-F1350836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D6F8C-4F5C-4572-AB5D-2B7A53BB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B286C-0559-4F95-BBD4-151DADA2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27C18-7228-4835-97CC-8562BA06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DFC99-ED00-4BB1-A602-58571518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95E9-4FAF-4787-B8D7-EB4C6831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4FABA-E497-4B47-8EF2-14ADDBD5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79F28-7DB7-4DD9-9A58-3A4F04E9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7E2BA-DDF0-4C9C-89F0-0F0AA8DC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8D101-B11A-4974-8A5A-628C9F21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2418B-DDFB-4C59-893C-0D8C421F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FD11F-C122-4B73-920B-3E6437F9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05C74-7893-49D0-A99D-CA25EEAA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976CE-1D53-456E-A2E2-12069990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52FA3-D327-46BD-8116-2B4E2323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B542-98E9-4AA0-8B4E-78C29255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000C-7849-4ED3-BC1B-59B3CC6A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FFD8-D753-4E81-87B4-F7809EF9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D20A-0D10-4F25-8703-A34A3AB7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ED2C-87DC-4E49-B8F3-09A3E9C6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8D30-ED59-40BD-A385-2057241707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E5E6-5647-4BC6-93B5-C863AC36BB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20B4-BEF7-460C-8DAD-E3B0878254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B603-131C-4CAA-ABE2-A32946D2E0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общения по электронной почте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правляйте с письмом большие файл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1229B-E3EC-4EB9-AC89-C532C03FE7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сю входящую почту необходимо проверять антивирусной программ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D960F-4EE4-4D10-9714-F8A11AF824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читайте письма, пришедшие от неизвестных отправите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42DD7-C206-4F72-BB03-A5A4519B58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крывайте вложения, полученные от неизвестного вам отправител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EDB7A-ADD7-46D8-AB09-85A87DD16B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посылайте по электронной почте информацию секретного или личного характер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AFDF6-35AA-47B8-86E7-DFE4783E5A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общайте своих паро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C181E-E156-4EA3-B8C8-42D9E80C6C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регистрациях в сети Интернет не оставляйте своих личных данны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FAE79-C57F-49FD-91F1-21C0C55EA0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общайте о себе ту информацию, которая может быть использована против вас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7E8EB-985B-4D1D-BBE5-7293B5426F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вы просите что-либо, не забывайте говорить «пожалуйста». Аналогично, если некто делает что-нибудь для вас, никогда не бойтесь сказать «спасибо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DC136-4AC5-4104-87F7-7520BEE29E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ля компенсации эмоциональной недостаточности можно использовать «смайлики», но не в деловой перепис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65ABC-A220-47A5-8133-E15BE63E0D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егулярно читайте свою почту. Отвечайте на письма не позже чем на следующий ден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34A5D-8FC5-41FD-AD53-B240A027D1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тексте сообщения не следует использовать прописные буквы, так как ТЕКСТ, ВЫДЕЛЕННЫЙ ТАКИМ ОБРАЗОМ, рассматривается как «крик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83050-A64B-4CD8-95A3-7B11046AB7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ращаться к незнакомым людям по электронной почте можно только в том случае, если адрес был опубликован его владельцем. Отправка незатребованной корреспонденции является нарушением правил сетевого этикета и называется электронным спам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E8E8F-238E-4875-BCCD-B41DD8A2F3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неполучении ответа от незнакомых людей повторять обращение не следу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5DA36-0785-4CF6-9442-38EC36EE75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omp-science.narod.ru/pr_nab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monogramma.ru/design/nabor_text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www.ugatu.ac.ru/ddo/stuff/met_avtora/8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5EE54-339A-470E-9F0D-F9E6ADBF2B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обращение поступило от незнакомого человека и оно обосновано, то следует ответить в течение трех суто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52CA9-6869-4E25-BB38-3912C5D4AC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поле «Тема» нужно отразить суть письма с учетом того, как его может воспринять адреса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A21D7-0E58-46BA-A6BC-11A509DD23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шите грамот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AB929-2831-4663-92C4-928085C8A6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правляйте письма, написанные «под горячую руку». Перечитайте их в спокойном состоян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E925E-7EB2-46C6-A4F9-E62490FF0D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нимательно относитесь к заполнению полей «Кому» и «Копия», чтобы текст письма или чужой электронный адрес не попали тем, кому они не предназначе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43C36-1BFA-46DC-9063-003DF32AF5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итируйте в своем письме оригинальное сообщение в объеме, достаточном для того, чтобы можно было правильно восстановить контекст данного отве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17107-EBD2-4769-9A1B-53074A9844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спользуйте подпись: указывайте несколько способов связи (обычно это номера телефонов и факса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19BD2-338A-4D23-BE6E-5C149BE234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5:08Z</dcterms:modified>
  <cp:revision>9</cp:revision>
  <dc:subject/>
  <dc:title>Язык поисковых запросов</dc:title>
</cp:coreProperties>
</file>