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BF6D-40C3-4409-AC59-1624A803D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ED6E-B539-4504-8E08-DFEC07827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EDA5-6791-4487-997B-68B0D2DB0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55FA-6A02-4196-BD5B-EC7DFAE3A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540B0-87B6-40E1-BC4E-0C8D703FF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56B05-CFE6-4D90-83B6-F942AFA6F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2D8F2-1014-4B3D-920F-4C34861D3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E8065-FE39-445C-8A2F-6C800E1CB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EFE20-9DE0-45A7-939E-378461EF7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C4561-71C3-4016-8D14-3930E366A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91128-EB76-4A8F-8D98-00448639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5F86-31FE-4B21-82F0-97615FBE6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F871A-48F0-4071-8592-0DB38FD2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9AEBF-E471-4CA0-9CEA-AEBE5897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A10E4-3A70-4551-8CCA-593A239F7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5009C-71F6-4075-AA4E-E23D6E755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3365F-C03F-43D6-96FC-C34D27BEB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A1DA4-7BC9-4BA7-8DBA-E70F7AF8E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40B3C-BA24-42FB-B1A8-B08328142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2653C-2D2E-487E-AAD3-2EC436467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EAF77-3BE5-42E2-A1E2-0EB04BF18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2509F-65B2-4D07-A479-BE2700557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F6DD-5724-4A3A-9060-0E81D0568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0A3BE-15F2-417E-BFD9-BF74458DA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47C5C-52EE-44CC-AE3C-63205AD5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B27CB-4327-46F2-A337-4723F6BD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B165D-BCF1-47D9-A8DB-9834D132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5605E-3C5F-4E26-AAB5-87D213EF4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D54BB-076E-4A3C-8783-8FE97F629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E0D97-A60A-4B7E-AF3C-8AA269765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73502-72B3-4823-8156-849FD322F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62E83-9BB1-4B94-BC9F-D597F3DFA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21D33-D75C-4628-8E34-375B07F27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53DD-99E1-47A3-A439-79145CFFE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D1C0A-9A44-4EFD-83BF-454999985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C34B3-AC37-4038-9548-BB260E09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0A62B-6364-4295-A90A-AEF2ACF19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17A5F-A219-4F65-B805-E073FF65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51154-4B00-4EBE-8A4E-ACC25D48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8C49C-E752-4404-B3E8-F68947F2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51795-CD9B-4467-AE54-943144B2B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29FB7-F91E-4351-B73C-AD44AB836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81971-6E2A-49EC-AA85-45CA107DC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A147-1F05-45A1-8A8C-1B42910C5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205F-E3B5-4CF5-8FD0-AF1187107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13EC-2871-40E6-B583-E568711C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DA84-F353-4FCA-863F-1D9B5513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2049-D8B5-4406-BA37-D79F097F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EAB3B-486F-4E3D-9DB0-128ADCE02E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90012-A4A0-4C9C-A781-8635233D71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4F434-4D6B-4648-B856-015833133A1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37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38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41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805A5-4023-4223-9A46-44825E4D6D3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45760" y="2276280"/>
            <a:ext cx="8597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00"/>
                </a:solidFill>
                <a:latin typeface="Arial"/>
              </a:rPr>
              <a:t>Правила общения по электронной почте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684000" y="3860640"/>
            <a:ext cx="8134200" cy="25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рисов Владимир Анатольеви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сноармейский филиал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У ВПО «Академия народного хозяйств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Правительстве РФ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сноармейск 2010 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отправляйте с письмом большие файл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C7DD0-7FE7-4C8F-B40C-D3E273578F1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сю входящую почту необходимо проверять антивирусной программо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3718D-0EDB-4C07-98F5-DE1E6B12647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читайте письма, пришедшие от неизвестных отправител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13FDE-1275-4910-A0AE-46775BD442E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открывайте вложения, полученные от неизвестного вам отправител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26BBE-FD3B-41A1-AD7B-9E8CC576218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посылайте по электронной почте информацию секретного или личного характер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F9805-ABB6-490E-9687-04969BB7AF2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сообщайте своих парол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70B54-2BAE-4A4D-84D0-73EF786AD68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и регистрациях в сети Интернет не оставляйте своих личных данны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CF5EC-7DC1-426C-8603-8298082D08E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сообщайте о себе ту информацию, которая может быть использована против вас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AF53E-7718-48DD-95AB-9DE2AFE3B42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Если вы просите что-либо, не забывайте говорить «пожалуйста». Аналогично, если некто делает что-нибудь для вас, никогда не бойтесь сказать «спасибо»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8036C-61E4-4C54-A69C-F08F56775C4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ля компенсации эмоциональной недостаточности можно использовать «смайлики», но не в деловой переписк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E1EA7-0021-4630-9E57-FF0C6C2FD17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50752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Регулярно читайте свою почту. Отвечайте на письма не позже чем на следующий ден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0AB78-720D-4D8D-B2DC-368752D5DE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тексте сообщения не следует использовать прописные буквы, так как ТЕКСТ, ВЫДЕЛЕННЫЙ ТАКИМ ОБРАЗОМ, рассматривается как «крик»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AFB70-DAF8-4247-9DC1-5013058581F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бращаться к незнакомым людям по электронной почте можно только в том случае, если адрес был опубликован его владельцем. Отправка незатребованной корреспонденции является нарушением правил сетевого этикета и называется электронным спамо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0C724-A42E-45A3-A235-27146BFD2B6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и неполучении ответа от незнакомых людей повторять обращение не следуе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DD75F-CE5A-4D4A-8DFE-3C57CAACDFF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Ресурс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http://comp-science.narod.ru/pr_nab.ht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http://monogramma.ru/design/nabor_text.ht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http://www.ugatu.ac.ru/ddo/stuff/met_avtora/8.ht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.Ю.Заславская, И.В.Левченко – Информатика. Весь курс для подготовки к ЕГЭ – М, Эксмо, 2010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D2B18-05B0-43E5-BE9A-C784EC4761A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Если обращение поступило от незнакомого человека и оно обосновано, то следует ответить в течение трех суток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D9638-7E47-4539-8A9B-8BC7F826E08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поле «Тема» нужно отразить суть письма с учетом того, как его может воспринять адреса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95F16-5AA5-4908-8DA5-1875717248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ишите грамотн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A6DF5-CCE8-4453-9919-2297B66E2C3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отправляйте письма, написанные «под горячую руку». Перечитайте их в спокойном состояни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63905-1973-4700-BF11-3986DBE2AD3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нимательно относитесь к заполнению полей «Кому» и «Копия», чтобы текст письма или чужой электронный адрес не попали тем, кому они не предназначен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1C89F-E8CF-40CD-AAE4-EA8ACF679D8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Цитируйте в своем письме оригинальное сообщение в объеме, достаточном для того, чтобы можно было правильно восстановить контекст данного ответ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F0732-D526-44A6-BEF6-E10AC13E470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спользуйте подпись: указывайте несколько способов связи (обычно это номера телефонов и факса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C0F3A-B004-43D4-94CC-480D8AFC449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09:14:33Z</dcterms:created>
  <dc:creator>БВА</dc:creator>
  <dc:description/>
  <dc:language>en-US</dc:language>
  <cp:lastModifiedBy>БВА</cp:lastModifiedBy>
  <dcterms:modified xsi:type="dcterms:W3CDTF">2010-11-06T10:25:08Z</dcterms:modified>
  <cp:revision>9</cp:revision>
  <dc:subject/>
  <dc:title>Язык поисковых запросов</dc:title>
</cp:coreProperties>
</file>