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BD3-90C7-4E50-9B9F-FD792FCF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69F-75FA-43D9-9627-6E9163F3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29A-F18D-4D36-B4F2-E469AAA6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C492-3751-43A8-9079-602092DF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4BEA-B7CB-4FA9-9A35-8F348244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8832-6E7C-4639-B9B3-E8658A4A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90C5-98B6-4B21-BF2F-1E7F4D80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C1B8-C3DD-4B79-9AA2-E554FF2A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70DC-0D94-4E81-B3CD-09BD32D7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76AC-AC53-44EB-BF15-923408BA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29AD-7614-41C6-9B30-856C07DB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2B4-E296-4E6D-B95E-00774644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E2A7-09DD-4370-B650-D886476B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E053-3247-464A-9FD7-72C472B6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CF8E-0034-4D41-B1BB-7FACC375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35BD-B062-4E79-9FB5-8F79BA41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FE82-C683-4EDC-8997-FD494E29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24F40-B2A9-4516-9E37-1BA53C2D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40DAA-8314-49BB-BCDA-A963D32B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746C2-D227-4B45-B7AF-E3E620C0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948CA-06AA-430D-A62A-78784DCC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8817F-0C32-4C6C-826E-B564F3D1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56C-600A-4A16-AF57-DF7785AE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0025D-2855-4B4E-A634-02F94F9C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13ADC-27F4-4FFC-A663-277DECB8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F5E51-664A-4403-A945-984C2AFF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5BFB6-44D6-401E-B287-2CCCF114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D9E57-D9B8-4A21-B3E1-94E46788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81151-0FAD-426B-80CA-E379FB00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AE77-42F1-4459-95CB-7368E9FA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8DA1D-0371-4856-974A-DDBC755E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59E2E-EDEE-4F68-B461-5F5AFD3F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985F6-5E55-4641-97D2-B22D6F80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BB5-4D59-4938-9B31-1282BB68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F6E8F-2D0E-4A02-8B85-91355884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4A361-91AD-4174-BAC1-36E30256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775D3-D60D-427D-B32A-CDDB8265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0F021-192C-46A9-A3DD-9BE09E71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29E7E-D9E6-4F58-A8DC-AB5C3A44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5D5D5-0A8B-4AD1-880A-44773EAF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E8F6E-A160-4B20-8C12-A837FF6C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6086A-B6FE-4F5A-847D-6A346517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F27CD-838A-4132-A53B-94B7EE03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F9EF-BA53-4FE1-8588-30A2B2B2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CF0-711C-4BD6-8636-CD71A9FD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9CD-5CCD-45F3-B6DE-513E09FB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D699-4702-4AAC-8388-DBF859EB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F4E4-0B33-421E-A02D-5B7FB6DD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7606-418F-4F6C-9641-3C12304FB7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4F95-F044-4A8C-A816-040C43FFA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4B5C-ECA0-422A-90CB-7B3F771962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3788-CFFB-4F40-A771-8F6CEB1924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общения по электронной почте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с письмом большие файл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39E68-D5C5-4989-AB51-923334ADB0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ю входящую почту необходимо проверять антивирусной программ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9C076-33AE-478A-9351-E8888EFDE0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читайте письма, пришедшие от неизвестных отправите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C856F-98CD-4749-B3B4-20842CCCFF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крывайте вложения, полученные от неизвестного вам отправи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00B29-EC5B-41A6-9A1E-525AF58C59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посылайте по электронной почте информацию секретного или личного характе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B45CE-F67B-4CD8-A0C4-3E860B51DF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своих паро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5B28B-6141-43DC-80A3-D77462E6FD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регистрациях в сети Интернет не оставляйте своих личных данны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FE5DB-0562-4A75-8755-5FC6474102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о себе ту информацию, которая может быть использована против ва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01423-D6C7-4EBA-9C49-49F46820D7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вы просите что-либо, не забывайте говорить «пожалуйста». Аналогично, если некто делает что-нибудь для вас, никогда не бойтесь сказать «спасибо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EF24A-A375-4450-A3CD-9002CC76EC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ля компенсации эмоциональной недостаточности можно использовать «смайлики», но не в деловой перепис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213A9-51DF-4B5E-9098-30DCB568F1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гулярно читайте свою почту. Отвечайте на письма не позже чем на следующий ден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53DBF-1EA7-4EF9-8020-C4F3842733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тексте сообщения не следует использовать прописные буквы, так как ТЕКСТ, ВЫДЕЛЕННЫЙ ТАКИМ ОБРАЗОМ, рассматривается как «крик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0809A-E78F-4EB4-AB3F-C89E7D68D9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ращаться к незнакомым людям по электронной почте можно только в том случае, если адрес был опубликован его владельцем. Отправка незатребованной корреспонденции является нарушением правил сетевого этикета и называется электронным спам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340B5-9881-482F-A047-DAC5375516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неполучении ответа от незнакомых людей повторять обращение не следу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EAD23-B5D7-43DF-B84B-E267874A60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D05FF-517E-4CE3-9041-5B0174A628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обращение поступило от незнакомого человека и оно обосновано, то следует ответить в течение трех сут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B4AD4-FB9C-4E1F-B0AB-3D807AE5A3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поле «Тема» нужно отразить суть письма с учетом того, как его может воспринять адреса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94EFD-96CF-49FA-9B2A-447A13910A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шите грамот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802A5-5734-4898-A489-0F95DA4EEB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письма, написанные «под горячую руку». Перечитайте их в спокойном состоя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F7AAF-5E9F-4B9E-A953-3AF8D8A624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нимательно относитесь к заполнению полей «Кому» и «Копия», чтобы текст письма или чужой электронный адрес не попали тем, кому они не предназначе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AF3E6-9D56-4E8B-AC5D-39DE1E7ED6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тируйте в своем письме оригинальное сообщение в объеме, достаточном для того, чтобы можно было правильно восстановить контекст данного отве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11AF9-CE25-4556-9CA3-0FB5F31048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ользуйте подпись: указывайте несколько способов связи (обычно это номера телефонов и факс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854AB-8B4F-48EB-AF18-56AAB84CC6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5:08Z</dcterms:modified>
  <cp:revision>9</cp:revision>
  <dc:subject/>
  <dc:title>Язык поисковых запросов</dc:title>
</cp:coreProperties>
</file>