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230-482E-49DB-8632-625DE630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02F-A5BD-498B-8763-254646DB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E8D-3770-4995-8D05-6EB83BC7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8223-609B-41E4-AB29-7681B69F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0F04-F9D1-46D8-8093-AFB86200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E2C4-ABF7-4105-820D-EC6DB54B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678D-4D88-428C-BAED-BD0BC197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63A8-A36B-4800-A10A-D87ACFC2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921B-B9B2-4C10-8822-52406D5A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8FDA-F15B-466C-93DF-C6B5584B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A730-2810-47DE-83FE-CCECD29B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516-40BD-4C58-8862-A2240FD5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1C1E-0131-43DC-A3E5-9A352A2F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50E2-911B-4221-B102-766F185D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BADE-0404-4A1A-B847-147F04F4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62DC-1DA3-49F2-8F79-4458DFB3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2FB9-3FCA-4979-90AC-FDC7C749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581BF-078E-4767-8CC1-9AD46987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3A033-8B18-4299-ABD5-5ADB2B0A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57FB5-E16C-4B66-90B3-64D5C652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A98D1-0478-4D26-80F0-F0A59517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E9596-4270-42BC-A343-125D7E7A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93A9-0BE6-498E-A61E-9E5BDFC5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C5588-BD69-4730-BD29-0D7D8404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E57BA-73F0-41AF-A456-148B03C2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E8412-02ED-41C5-AB78-DA2772FA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04F0F-CA19-4930-BDD3-680A94B8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05E11-9B75-4A36-BD67-9DC79B72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EC3F9-714E-40E3-AF02-C922A294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E3670-73CB-471D-950B-F9AC8698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85076-33D0-4083-BB66-555B350A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D7296-AF94-46AD-B379-7D2DF04A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AE338-F06E-4326-8CFE-FFC8A5FE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A37A-7F61-447D-ADDC-60BD7308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711B2-733D-4F15-A74D-A4DAF7A3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FD376-11F8-4D26-9448-80514BE0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41CD3-DED1-477B-89B3-7BD7667C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3B75D-FBEC-4F1B-8DC1-40201D0D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B65EC-D40D-45AC-8553-240095C2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71E6F-4E27-406D-BE96-F50CF7CD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ED847-5094-48D4-9896-AB342399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211E6-9599-45A3-884E-FF89754E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96C23-1F48-430D-878D-D75C8203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AEE7-ABD6-4565-85D1-EAE79039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BB6-C67D-4790-97FA-963E92BB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CD0-DC12-4994-AD9E-88621444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1C06-363D-4D85-98CA-03C36E1A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B0A1-B494-48D2-88B6-91046BC4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2267-A3CA-4FEC-9D51-370F1302B4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4015-DE35-4CAA-BBD2-78957319F4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22D6-052A-4ABA-9C7F-677F7A8F5B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3E83-3613-4F5D-A00D-752D534A90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компьютерного набора текста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разрывный пробел ставят при вводе дат (которые не принято располагать на двух строчках), фамилий с инициалами и т.п.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01F04-E8EE-4593-AFAF-B7BBD96A7C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конце общеупотребительных сокращений «кг», «т», «ц», «км» точка не стави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5BBD7-5058-4F6C-93A0-4C72444923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типа «т.д.» и «с.г.» записываются без пробел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CA3B0-6D9E-4C26-B70F-AE18118A80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кращения «и др.», «и т.д.», «и т.п.» могут применяться только в конце предложения, в середине предложения их нужно записывать полностью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A7CFB-CC5D-43A0-A642-29A130D4E7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пробел, но недопустим перенос на следующую строку, ставить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5471B-CB74-4603-A57A-D0B860DB0D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ам, где нужен дефис и недопустим перенос на следующую строку, необходимо ставить неразрывный дефис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D23E8-1260-44D8-97F9-CFB048C29A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жимать клавишу 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e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 только для начала нового абза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71DD6-0BFE-495F-AC6D-4BA887920D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8DBF3-0D4D-4261-A4EA-C4E25F016B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препинания не отделяются пробелом от предшествующего текста (допускается отделять пробелом только вопросительный знак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1BA96-83D6-4D1A-A3B1-8C83A43B5C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наки «процент», «градус», «минута», «секунда» от цифр не отделяются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FB0A9-E4FC-48F5-89E4-781CE7D1DF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фры отделяются от № и § одним неразрывным пробелом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D204B-C7B5-48FA-8BED-566508873B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фис не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4A54A-1534-4032-A53B-C28B122603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ире (&lt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trl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&gt;+ минус на числовой клавиатуре) отделяется пробелом от предшествующего и последующего текста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03D1A-2978-40A8-9F25-ED08E16379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ова, заключенные в кавычки или скобки, не должны отделяться от них пробелам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438FD-F675-4E8C-ACF3-46487708A7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очки в конце заголовков не ставят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FA6B2-950E-4A7E-9877-118002D0C5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сле предлога, с которого начинается предложение, ставится неразрывный пробел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CCB62-865B-4904-ACB3-9E7D886AF6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28Z</dcterms:modified>
  <cp:revision>7</cp:revision>
  <dc:subject/>
  <dc:title>Язык поисковых запросов</dc:title>
</cp:coreProperties>
</file>