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B33-2A8F-4B08-99D5-F0E0CE9C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8E0C-531E-408D-9455-86CDD727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7842-7F16-4F7F-A601-1B43F197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BD6-BDFB-4819-9424-17A9588B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47D4-BF03-4C7A-BC0A-36AED779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A860-6AE9-4DE1-9988-1885C67F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35A3-D56A-4D94-94BE-37DD9A78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D474-4B1B-4E50-9F20-11467A7F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2DC4-6BC4-4053-B301-0FD4F896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042A-DF8F-4C72-8ED4-63FC648F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0B38-D219-471C-9E88-884F2260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1A7C-3FCA-4858-8D7D-FD7B55EC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0564-D731-42A1-9DFC-9D0403A9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9D52-9F2B-4BDA-A0DD-51DB4ED3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11A9-06D9-43B3-B4D2-09574CDD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A9C1-B7FD-4246-AF66-D6A41517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AEF3-662C-46BC-AD6A-B93E339C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EF133-1232-46C9-8753-9064D84E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9D3DE-4869-482D-B4EC-7A0E808D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A39E5-F2CD-4B49-8B1E-03E155AE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FF8AD-CF3B-44E1-AF29-5765AB41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FCD46-9166-48DE-BE62-35C0D9C0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686-849E-4611-948A-C1813B40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B0687-33BC-472D-A0A1-80648C27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B730F-4472-4608-98B9-CBEDA538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36CE4-3B69-4677-A1AC-C75ECE6E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97B73-CCF6-44C2-8D43-D32840CD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5F14C-FD6A-462C-9FAD-AA4C4C1C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4B193-BBAD-4F60-8F2A-6AB5C967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14E2E-C8FB-4D83-A725-F8C46B4F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61296-6615-4CF1-9ABB-2F36C7E5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7042F-F681-4333-980F-C03A6AF9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674A3-77A4-45FC-8E7F-1CCB2E90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799-AEF5-48D8-97C2-42A77B1E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FCD64-00C6-4CEA-9C62-2E823E9A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CF0C3-D1CB-4E3F-9924-C97EF444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B7DA4-6168-48BA-9DBA-5C71B7A7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67C8E-B13B-4A37-9034-B8431F20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E4A7D-D6FC-4FB1-B107-927B113A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C0C4F-20DD-4D86-B488-311203E8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CB247-FDDF-4E92-ADA1-00521E52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C3567-490A-443C-BA5C-6590E637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8B3F0-5B17-4990-A671-520086CE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AAB-67C1-4AC5-A5A8-E15424BF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02CE-777A-4BE5-ADDD-623DADA8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664-9E48-4731-836C-D79D7B8A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D42-A617-4EDF-A460-EBB2A8C5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6078-0437-4F8D-82E7-973BEFD6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993B-EF6B-4292-9A86-3A21435745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BB1B-2EE4-4F13-B44C-640DB7998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D66D-FE8C-4F16-8920-F6A8334A27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4559-40D3-4640-A67F-1AC0495F29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компьютерного набора текста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разрывный пробел ставят при вводе дат (которые не принято располагать на двух строчках), фамилий с инициалами и т.п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45529-F420-4CF7-AE24-97050E5ADD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конце общеупотребительных сокращений «кг», «т», «ц», «км» точка не стави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CF008-3ADF-403D-A1E4-7E49F63C8E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типа «т.д.» и «с.г.» записываются без пробел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E4A05-D5FD-488E-AF2C-BC38D1558B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«и др.», «и т.д.», «и т.п.» могут применяться только в конце предложения, в середине предложения их нужно записывать полностью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E5C05-EF43-4671-A162-531307772C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пробел, но недопустим перенос на следующую строку, ставить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5BE7B-3AD0-4B77-BA4B-170139B588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дефис и недопустим перенос на следующую строку, необходимо ставить неразрывный дефис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A4A15-597E-4CD5-9ACB-1D7D192679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жимать клавишу 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e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 только для начала нового абза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1938C-8A90-40BE-9059-3DB77D6276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4C217-48DD-4075-AE9B-888036F2BA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препинания не отделяются пробелом от предшествующего текста (допускается отделять пробелом только вопросительный знак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908CD-7509-4279-B0B3-ADA5690EEE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«процент», «градус», «минута», «секунда» от цифр не отделяются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0EF16-4360-43B0-8CB2-4C3859BD34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фры отделяются от № и § одним неразрывным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7BF4A-4C38-4722-9608-3FE8BCCCDD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фис не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405E4-5C59-4215-AFA4-14A094CE58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ре (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tr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+ минус на числовой клавиатуре)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55A13-7687-416E-99DE-6018FDD1DE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ова, заключенные в кавычки или скобки, не должны отделяться от них пробелам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0103E-8A16-4975-8D28-F93F8DF560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очки в конце заголовков не ставя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A8BB0-A51F-4C38-A5A6-BB1DE67221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ле предлога, с которого начинается предложение, ставится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D552F-B7B0-4D36-B158-7519FEB813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28Z</dcterms:modified>
  <cp:revision>7</cp:revision>
  <dc:subject/>
  <dc:title>Язык поисковых запросов</dc:title>
</cp:coreProperties>
</file>