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DDA-0B70-4716-87A7-8B281029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C60-275A-4679-9197-9E490615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851-DC31-434C-996F-9C1A8DBD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167-8527-4069-9578-E891306A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3CE3-865B-40BD-95F6-2EE30E40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5E7A-EA5F-4430-BED7-8C37C959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A4B7-7123-425C-944B-419E433D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14CF-4641-42CF-93BC-DE7DB93C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2999-03DD-4E35-8AE2-5CB7B060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8D83-779C-423A-A9E6-AD16315A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B4FE-5B11-49E1-B58F-784C8A1C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1DE-4003-4481-A615-9BFC88EA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EC0B-F6AF-442E-B7C1-8F11344B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8E08-5892-4BA8-930B-50F9DEE2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7520-0DE8-4BED-90AC-AEB83F88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7FF0-00A7-4B3C-AD9C-2D713DD7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1B91-A0C8-4797-93FE-F4FC1453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53A74-17EE-42C3-83E5-DF63A98B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8EBB-DFB2-490F-A643-542C39FC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E4C15-E761-48E7-8782-5A9F532F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06AD-1E46-480E-ABD9-D0960AEF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582EA-D7DB-4643-A917-53B500EF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D3A-17AA-4096-987D-0AB525B2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B3DB7-1C1E-4595-AE76-937E079D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D8B09-64F2-4ACD-9818-8E8DB9EE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D76FC-C700-4E73-B2A4-CB0B9FED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6626-150E-4816-8541-DAA93618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3BEDE-22C0-446A-9404-84D3D911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FDA8A-4B82-4BF0-A9F5-19BB5BA8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4E1C-180C-47A8-BA4B-B6B20354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822DB-E000-4C43-8972-FE545DD0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7181D-6F2B-4F7B-91BC-850AD7BB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DFA07-F4A2-41C7-9AE5-B0C5D374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1B9-C3D3-4115-A407-089141CB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3858-6E1C-44E6-91A7-B60C53BB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B9D5A-170C-4C1C-8C1E-492089FB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C3F45-A4CA-430F-ACE6-C4EEA9B9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47A72-146E-457B-A8D7-85F10642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6AFB2-C778-4CE2-89BA-898C9DE7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A3CE6-D729-4287-B0AD-0C2425D0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CC514-EEEE-4DF0-B62B-655ABA5B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8E1E-015F-43E4-A2EF-5F214CBD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CBAA7-8802-4464-B1A9-5421C6E7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C70-76A6-42E9-BF08-1BBB91D4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615-B949-4F83-9E12-3025D295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E34-AE18-4D29-B807-7DC061E4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5F7-0379-46B4-BC09-0B3D7309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A28-0849-4563-ACD8-6545D757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18BE-1579-4B1B-B55A-FF9371532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481C-5E4F-4B29-9752-E6ED8D8C6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0226-7E2B-4108-8E12-527B73605A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5281-5B9B-46DF-9352-5474747F14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компьютерного набора текст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разрывный пробел ставят при вводе дат (которые не принято располагать на двух строчках), фамилий с инициалами и т.п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393B-E19C-49BF-97FA-8CBF5E306F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конце общеупотребительных сокращений «кг», «т», «ц», «км» точка не стави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5CAFB-E0E1-43CF-894D-13822A0DBE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типа «т.д.» и «с.г.» записываются без пробел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E4E2-B57D-4FC9-BBBD-17CD482F13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«и др.», «и т.д.», «и т.п.» могут применяться только в конце предложения, в середине предложения их нужно записывать полностью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DEA6E-A2CC-4D52-9916-4A8301E556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пробел, но недопустим перенос на следующую строку, ставить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3A62-2426-4A3F-855A-A69222F6F3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дефис и недопустим перенос на следующую строку, необходимо ставить неразрывный дефис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01BED-07C0-42DC-AD1D-5F0444EDA4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жимать клавишу 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 только для начала нового абза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C66B2-ABA6-4BB1-ACE7-D047A85DB8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7155-3B0F-42AA-88A0-A56AABB1CC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препинания не отделяются пробелом от предшествующего текста (допускается отделять пробелом только вопросительный знак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F5AA5-A74C-4FDE-BBDE-1E608713BD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«процент», «градус», «минута», «секунда» от цифр не отделяются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911E5-BDC7-4220-A72F-F62B542D16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фры отделяются от № и § одним неразрывным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161C-2DDA-4BB5-A682-60C91DD493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фис не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73FE8-EB9C-4CEB-B49E-6DE48C99C9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ре (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+ минус на числовой клавиатуре)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F3B19-F67B-4652-BE38-AC486E0C84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ова, заключенные в кавычки или скобки, не должны отделяться от них пробелам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FC2B4-44E9-4A95-B106-265CC18705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чки в конце заголовков не ставя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94FD2-870B-4D04-AF03-0F9D6AF06B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ле предлога, с которого начинается предложение, ставится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845A-2A38-403B-AC5F-524D03FBF4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28Z</dcterms:modified>
  <cp:revision>7</cp:revision>
  <dc:subject/>
  <dc:title>Язык поисковых запросов</dc:title>
</cp:coreProperties>
</file>