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235D-E3E6-4AB5-A622-18C105912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A781-14EB-447F-9F8F-7CECF23E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E496-D6A2-4459-8E4C-F92EFFDBC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21D2-B3A8-4D14-B083-23C56B48B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6BA8-86BF-4320-8DF5-B597B7635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98740-43C0-4AD0-8FD4-C630C79F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C5B2-CC60-4C8E-B4B9-A1E8FBCA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3409-711F-4261-A2C7-0D133707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59D5-A90F-4687-AF8B-092D5F8A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E1C6-62F5-4A65-9153-EB143F27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01B3-5118-4B96-9732-D988245D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B93F-7DFB-4304-BAA0-DD711DC7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396C-60E8-4E63-8F61-517E523C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CE901-832E-48FC-B19A-80D9A2B7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3CC8-E475-4884-9C66-213E2B43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B0A2-0666-4402-8361-6E05BD145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758C-1250-4BEC-BA3A-C55C239E9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1A0F8-CA86-4933-9FA7-9B2F09454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CFD91-D92D-4CBC-8E2E-1E651F48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D56D3-DB2D-4079-9089-152317A9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A07BF-B7F7-4A16-ABA9-5CDE06A9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F771A-2449-4E65-B73C-59418A73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4A90-B44B-45E8-B972-CA7EC7EB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DE63A-2756-4CDC-B4ED-18083AE3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D2518-06D5-4E0D-BA38-E07A93B2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14C6C-C2F2-43EB-8E9B-84DD5038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C9518-387F-4D3B-9DC7-97E8DC87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51A18-C427-4536-8754-E74F643F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A1B9A-47EB-47E3-B98B-C842D54D0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D26C8-D827-4A66-8345-573E1AEC7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76F37-E54B-48D9-B85C-05EB074FB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656AC-72B8-4704-AF60-9A912E80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BB007-3B34-4AB7-852A-5C884F15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F6F9-52DB-4FC2-9BB1-80484C69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8839B-C981-4D77-852F-AF2F3B4E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A17ED-FFD5-4B8D-BC85-B15EB084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B74AA-9BC0-485A-A146-96C10148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BA8B4-5C3E-453D-9B2C-FF9A3416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1066D-9840-471B-A713-67A0AF97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B10E7-399A-4E98-A9A3-9B0239D9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E0EEF-0E36-46D2-B2B1-F100FED7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F8478-F90F-4A21-87AE-C96D83A5E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321AF-0F44-472D-88F3-898C20840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E0C7-77E2-4451-9DEB-D29D78A4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744A-7598-4898-B668-17ED021F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71C7-1317-4288-B2A7-1741780B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5AC5-86E1-4737-9E49-6C25E14D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4D5D-10C5-4CE6-91E9-76C37543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123C-FD5D-463A-89A1-3F5DB054F4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6212-346B-41B5-A22B-37E029A036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A959-5850-43BF-AEDA-FAE8289D9E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61F3-9C4A-467B-8E93-9F0E8085FAD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45760" y="2276280"/>
            <a:ext cx="859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00"/>
                </a:solidFill>
                <a:latin typeface="Arial"/>
              </a:rPr>
              <a:t>Правила компьютерного набора текста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684000" y="3860640"/>
            <a:ext cx="8134200" cy="25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рисов Владимир Анатольеви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ий филиа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У ВПО «Академия народного хозяйств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Правительстве РФ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 2010 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разрывный пробел ставят при вводе дат (которые не принято располагать на двух строчках), фамилий с инициалами и т.п.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79120-7A98-407B-BF77-B8EBAA6966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конце общеупотребительных сокращений «кг», «т», «ц», «км» точка не ставится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51AA3-28E2-46BA-966E-848CB3E87F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окращения типа «т.д.» и «с.г.» записываются без пробела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4CCA4-D812-45E1-B835-7B76966513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окращения «и др.», «и т.д.», «и т.п.» могут применяться только в конце предложения, в середине предложения их нужно записывать полностью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B1C1D-2722-49EE-8CDF-04967F8C29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ам, где нужен пробел, но недопустим перенос на следующую строку, ставить неразрывный пробел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3F7AE-7044-4A7F-BE1A-CCF1E091003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ам, где нужен дефис и недопустим перенос на следующую строку, необходимо ставить неразрывный дефис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FEF9D-72E3-4633-887D-60BA4354D7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жимать клавишу &lt;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er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&gt; только для начала нового абзац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E3D47-01F0-48CF-A117-321DA1E7FB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Ресурс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comp-science.narod.ru/pr_nab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monogramma.ru/design/nabor_text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www.ugatu.ac.ru/ddo/stuff/met_avtora/8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.Ю.Заславская, И.В.Левченко – Информатика. Весь курс для подготовки к ЕГЭ – М, Эксмо, 2010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FE3D7-0A20-4BB3-83CE-4946480D33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50752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наки препинания не отделяются пробелом от предшествующего текста (допускается отделять пробелом только вопросительный знак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569E3-9194-47BC-AD90-7CB29E945D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наки «процент», «градус», «минута», «секунда» от цифр не отделяются пробелом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8529F-C961-40F2-B973-F7F1DA48FB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цифры отделяются от № и § одним неразрывным пробелом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59676-8809-4C69-8CD5-0635F949DE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ефис не отделяется пробелом от предшествующего и последующего текста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21298-A7BA-4977-9AC2-87601CFCEC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ире (&lt;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trl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&gt;+ минус на числовой клавиатуре) отделяется пробелом от предшествующего и последующего текста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61D4A-91A1-4433-A5FE-01681D523E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лова, заключенные в кавычки или скобки, не должны отделяться от них пробелами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E8588-38A6-4DE7-83E0-877B35F9E0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очки в конце заголовков не ставятся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9DBF5-1984-4CE0-84EA-E51BCE6B2F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сле предлога, с которого начинается предложение, ставится неразрывный пробел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A2084-C015-4D86-AD2E-01EFCAF22A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09:14:33Z</dcterms:created>
  <dc:creator>БВА</dc:creator>
  <dc:description/>
  <dc:language>en-US</dc:language>
  <cp:lastModifiedBy>БВА</cp:lastModifiedBy>
  <dcterms:modified xsi:type="dcterms:W3CDTF">2010-11-06T10:24:28Z</dcterms:modified>
  <cp:revision>7</cp:revision>
  <dc:subject/>
  <dc:title>Язык поисковых запросов</dc:title>
</cp:coreProperties>
</file>