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279D-C67C-4356-A3EA-144351A38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D41F-8CD3-4C71-8003-5564C44B2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3C0D-253C-4939-BB97-E1A27A3CB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454D-B564-453B-B789-077304223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E22D0-B539-4F1C-BE42-C81397346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B2317-8AC4-49BE-A807-4505B9ACD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FD89A-4A4A-4E7D-80D8-7DA98D66C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95105-7E50-4054-9D45-1CBC274D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2D542-4D8A-40E1-A72B-68F0E40C7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6A6FA-0730-4438-AD84-887748F46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6352A-7FA0-4511-BC8C-54FA8B8B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0B83-D773-4032-BA85-C5A12087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6C2FA-DBDD-4896-82CF-516B370D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FE25B-0B7C-4E0B-A6A6-33569D77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96DA5-5C6A-46FF-9D7D-AB263BF6A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90FD5-8F2A-4133-9035-68399A4F1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156E3-B96E-4191-96A3-950487D32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92173-EC82-44E4-A595-19F9400A6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3E40A-82DC-4224-B41C-D9B35F816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29D7D-F68C-4229-9D89-3B4EBF9B0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BEAEA-D18B-4A81-AEAB-275F0E80E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D437F-E67F-44B3-AB40-CABBF2C71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0376-F00C-4C05-9F1C-DA8B873E0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CCC19-2742-4263-928B-5284CEDBF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0F2F2-D944-4706-B709-380CA931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4B38A-D9DD-488D-8879-AA193147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C418F-D428-4580-92D3-54FF6C37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A10C5-29EE-483B-8B00-1F7CE90E6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8C538-4547-49C2-8D9D-7FF0E254C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E237E-F872-468D-8103-98666FB23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46020-FBE2-4B14-9F15-5BA1A7187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E3A2D-C029-4203-8325-B40BEDF0D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C181C-A62F-46BF-8B46-2BCDDED19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1F27-0142-4A14-8707-8455B0819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7E981-054F-43E0-97E7-3D1BE15E2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4B059-6303-4A4B-88E5-6AA22CCD5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DBF18-B233-453D-874C-D56F970D3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84D08-74DC-4290-A7E6-21E5C5BF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8B554-E0D4-4BF4-9DD7-8F35ED3F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C1BCB-1969-437D-977E-FEC7E4DE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7AC1F-44EA-4BE0-8D0E-340201A32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BFB06-CE54-4919-A638-E90F76F14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53AC6-F649-42B6-9819-BA221294C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375C-36F3-4E1A-9905-750086247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FAB2-E175-4BDC-9D51-B8622FDA7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F522-39F8-4D21-A91B-DB4282F7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E69C-97A2-46F1-8AA8-B2C73D07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87C4-585B-4FAD-A702-BE4A2B12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E2D4B-9864-4127-BB07-A9B808C2A6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EC481-3CB1-4B4B-8812-50AEFE2D4D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29612-8285-47E8-AFA8-AAC47021F7E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37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38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41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24229-5C2D-4CDD-996E-7B472A159DF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45760" y="2276280"/>
            <a:ext cx="8597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00"/>
                </a:solidFill>
                <a:latin typeface="Arial"/>
              </a:rPr>
              <a:t>Правила компьютерного набора текста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684000" y="3860640"/>
            <a:ext cx="8134200" cy="25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рисов Владимир Анатольеви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сноармейский филиал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У ВПО «Академия народного хозяйств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Правительстве РФ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сноармейск 2010 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разрывный пробел ставят при вводе дат (которые не принято располагать на двух строчках), фамилий с инициалами и т.п.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B78B3-52B2-4F03-AF02-41A1F6BD16F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конце общеупотребительных сокращений «кг», «т», «ц», «км» точка не ставится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73E98-B1AB-4C90-ADB1-21ED95A0BAA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окращения типа «т.д.» и «с.г.» записываются без пробела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C8F8E-DADB-4EB7-84E4-3F0630DD033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окращения «и др.», «и т.д.», «и т.п.» могут применяться только в конце предложения, в середине предложения их нужно записывать полностью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31FA7-831C-4A34-A0FC-1C8A00FB385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ам, где нужен пробел, но недопустим перенос на следующую строку, ставить неразрывный пробел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62248-58DF-47A1-9D9F-5E5B3E19A5F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ам, где нужен дефис и недопустим перенос на следующую строку, необходимо ставить неразрывный дефис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7A7ED-C84B-4074-9C41-9789055302D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жимать клавишу &lt;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ter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&gt; только для начала нового абзац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AB6A8-0306-46D0-9C26-0FA70ADDBAB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Ресурс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http://comp-science.narod.ru/pr_nab.ht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http://monogramma.ru/design/nabor_text.ht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http://www.ugatu.ac.ru/ddo/stuff/met_avtora/8.ht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.Ю.Заславская, И.В.Левченко – Информатика. Весь курс для подготовки к ЕГЭ – М, Эксмо, 2010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322A3-B762-4C49-AAD6-36D4281FCF1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50752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знаки препинания не отделяются пробелом от предшествующего текста (допускается отделять пробелом только вопросительный знак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5EAF5-D223-4646-86C7-37B94FD6A40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знаки «процент», «градус», «минута», «секунда» от цифр не отделяются пробелом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67CF1-C67B-4DBF-83AF-DAA91C26E54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цифры отделяются от № и § одним неразрывным пробелом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62154-D4E2-4790-BD0A-671AEFEB810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ефис не отделяется пробелом от предшествующего и последующего текста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16AD0-26E6-446C-9579-B60BDAF02D1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ире (&lt;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trl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&gt;+ минус на числовой клавиатуре) отделяется пробелом от предшествующего и последующего текста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B3AF2-8F21-4F9E-AA89-B1B00CDF2E6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лова, заключенные в кавычки или скобки, не должны отделяться от них пробелами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83F42-6A31-4EC2-9CA2-E9687B94FB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очки в конце заголовков не ставятся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8C312-2F20-4292-83AE-01A32DD083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сле предлога, с которого начинается предложение, ставится неразрывный пробел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46EF7-60A7-4275-B791-7A84598904D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09:14:33Z</dcterms:created>
  <dc:creator>БВА</dc:creator>
  <dc:description/>
  <dc:language>en-US</dc:language>
  <cp:lastModifiedBy>БВА</cp:lastModifiedBy>
  <dcterms:modified xsi:type="dcterms:W3CDTF">2010-11-06T10:24:28Z</dcterms:modified>
  <cp:revision>7</cp:revision>
  <dc:subject/>
  <dc:title>Язык поисковых запросов</dc:title>
</cp:coreProperties>
</file>