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784C-F1D6-4996-8BB6-07D1B31F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67F-DDBD-4DC5-9525-90C73AC1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8F5-B491-493E-AA30-62B54260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926-5600-415E-BCDD-302051E3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D986-FA3D-487C-9E41-349F9176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996C-37FE-4C05-A2CE-D7E43453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1F2E-38CF-45B7-B6A1-F91C04A0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3E8C-756C-4D5B-8D37-87DB7AD5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4B66-1770-4960-8437-2808CB76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2BA8-DB63-4C0F-B685-BE6E67DE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E450-EAE9-4993-9C24-A31EA4C7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56B-CD20-491F-B6AB-400BD9DD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92F5-7398-4B10-AF11-152FE811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17AC-AFBB-4E2C-9211-4A9C1594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4E60-F43D-42A3-8A46-C01DD3D2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912E-182F-4ACE-BE84-6B86849D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8DEF-39E2-4E02-AFE0-D388AEC4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2F6B3-4E8F-4303-900B-2AFFE7B8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C6FC9-412A-4C76-BC80-B6A08265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3056A-B3C0-4067-98CE-63EC55C6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B3F71-02B0-481F-80A6-0A53A2BF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3DF48-B6F1-4326-8EF0-9DC9AA86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EF6-EE02-42A6-AF62-93F450AD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D59B1-0F6F-4F22-AB09-8049665D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B3EF-28E1-4D86-9E62-29393976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E62EC-31EB-467F-933A-4E210BA0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A9763-17A9-47EF-B486-A725C49E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F50A8-3D9A-40DE-A50B-1B273BB1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B1A50-74D7-4434-8A93-EAF4989A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338DD-1E7A-410E-883F-645D0A51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6D19C-6C82-4ED5-9FF7-5C9EC66D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A05B7-FBA0-4CEA-8826-79D7A883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07688-185A-4681-B1AC-A2867A9B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4D7-3A4E-47E0-B0C6-3E461E76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06A09-4E6D-4E0F-9845-B06B2DD2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81983-9C55-4CAF-A2C6-79CBA928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B038A-AED3-41CF-85C6-79500A31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D395B-98B1-4F87-806A-A0977A80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21C6E-6D16-4AC0-9405-1D471792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E9E86-68F2-44A2-A1EA-B9720D8C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A918B-1606-42E2-906A-D26E6992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3D1BE-1B5B-4D0C-97B0-32442BC2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2B161-9A19-4D8D-9E52-42457C62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F74-C6B7-444F-99F4-BA303739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6B9-37F0-4757-B52F-8AC41B07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C74-81E4-482D-B152-66642E6E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0A7-576E-43C9-BA1A-4F666B91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C447-4693-473B-B92E-A9474546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E5D5-67F8-4D6A-A200-A517D8AA4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1061-769B-4404-B2FD-543B92C57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7C77-2C7A-4501-9288-4622DFB6E2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AF97-B676-483D-B4F7-BAE04A1CB9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компьютерного набора текст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разрывный пробел ставят при вводе дат (которые не принято располагать на двух строчках), фамилий с инициалами и т.п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CDF12-CF18-4CE9-9211-A8E314100D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конце общеупотребительных сокращений «кг», «т», «ц», «км» точка не стави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2CFC3-05D4-4F4F-A5A1-5DF12990F4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типа «т.д.» и «с.г.» записываются без пробел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61FDF-4D4E-40A3-B3C8-264C83798B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«и др.», «и т.д.», «и т.п.» могут применяться только в конце предложения, в середине предложения их нужно записывать полностью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26254-89F9-448E-8347-AE630AE57A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пробел, но недопустим перенос на следующую строку, ставить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0C282-4AC1-4065-8469-CA9CF2358A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дефис и недопустим перенос на следующую строку, необходимо ставить неразрывный дефис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F75E-C7C5-498A-A466-C55E03651A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жимать клавишу 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 только для начала нового абза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373D1-6729-4EF2-9805-BF59C58249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B03A-533D-4687-9DB2-A7A7E46D3A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препинания не отделяются пробелом от предшествующего текста (допускается отделять пробелом только вопросительный знак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9FE6A-DF8F-464E-BE43-E733901EAF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«процент», «градус», «минута», «секунда» от цифр не отделяются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F3A4A-B5E9-4F0E-B497-894A8C307F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фры отделяются от № и § одним неразрывным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5E1BA-C404-4B8D-BAC0-D3361AF356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фис не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E2B59-85B1-4E57-8D51-7991D9B68E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ре (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r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+ минус на числовой клавиатуре)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F49EB-87BC-4D65-9A78-8063A6A41E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ова, заключенные в кавычки или скобки, не должны отделяться от них пробелам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95944-1335-4684-8DAD-B562B465FB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чки в конце заголовков не ставя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1C16F-CABE-4A85-BC24-89D1D8AB79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ле предлога, с которого начинается предложение, ставится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8B613-57D8-4D73-95F3-8A7B997D5E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28Z</dcterms:modified>
  <cp:revision>7</cp:revision>
  <dc:subject/>
  <dc:title>Язык поисковых запросов</dc:title>
</cp:coreProperties>
</file>