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B175-A761-4D88-AAA7-B4A34612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F533-5D68-44EE-94E7-ECC7CD2A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F52-380F-4F14-89E9-EE34FB34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4D86-7F78-437F-9DC6-7D65FC71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9A16-ACAA-4F02-85F0-0567D1E7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C95B-A1DE-4940-A1D7-793C84D2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47BF-7B17-4F5B-A815-53F03129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2834-710A-4E2E-942C-F020848E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06E8-5FC8-42AB-B157-6D411475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16CE-29A6-4290-94F0-0B50FA61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D87D-6F37-4EF9-BB88-7FCF0E49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BCF-1E02-494D-B4BC-3EE04204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A105-2434-4A65-8E76-526650C0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E240-E68A-4982-A14E-D38D98D9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BB80-EDB7-4209-82AB-8327C958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BFC0-5E09-4BB1-866E-662BDF01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75EC-9DE8-4122-A232-4577DC3A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D1675-7B44-45ED-98A1-95D9E7C3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30B8B-A422-45FB-A500-8B0D8545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6049C-C4D6-4EEC-BD14-ED9551C2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EC9C3-BBC2-4F91-BAF3-242955EE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2E7B6-9F6F-4A2F-BB0A-888438CF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C95D-986B-46E3-A137-F744AE96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DBF66-A4EB-4FE9-8A4A-28828513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84C86-EAD7-4B1D-A6E9-ECE07D4F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D2A2A-CAED-43F3-8BE0-BA6BC73C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27D26-8FD4-4B48-801E-3C3BF6FC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713FB-B8E7-460C-82F6-E0E12686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C3874-66CA-49FB-B0EF-6B3AEF18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D8CD2-656C-4E42-8FB6-6FC86D24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88A07-C463-416F-BF8B-F8F2A124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B833D-8048-4B52-B61A-DD0A87BF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33CF5-DD69-4E50-A35A-3B7086EC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9410-067E-46A3-AA00-9576B6CC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C09B3-4915-4754-BDAE-31331812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009D2-8C45-4822-AA85-94CF5741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7B36B-0270-4C6E-8DD3-8780522E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4A39A-1678-46A0-B3CA-B91F10F2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F1949-529D-46B9-BEF1-2039F7A6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C08C6-4439-438A-93A6-FB49FBA1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31643-8A31-43E3-BD3A-9EE3F3A9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78975-7938-4D21-85B2-8758EF4B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A9B46-B36D-4F1D-A733-C45459DA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29B-8CF9-4FFA-9865-050DA79D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CFC-647D-4629-98B6-8A936256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B38F-7479-40E5-8F61-EA4F7392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3EDA-BCA7-47FA-932E-90604B41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FC57-E634-44AC-B22F-F7A79BD0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4D16-A55C-4D04-BCF5-6B2FAA8CC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B140-B200-47EA-8E5D-DBBA34307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0D89-5A27-4EA5-B127-62E8B947CC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3CA0-C7EC-4C82-BBE4-B700A0645D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компьютерного набора текста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разрывный пробел ставят при вводе дат (которые не принято располагать на двух строчках), фамилий с инициалами и т.п.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4B5FE-7005-4891-B524-7CB6091709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конце общеупотребительных сокращений «кг», «т», «ц», «км» точка не стави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44832-0CE1-4A96-9548-1EE86EFE78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типа «т.д.» и «с.г.» записываются без пробел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0BA11-E8AF-48A7-B59D-1DFC78A51F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«и др.», «и т.д.», «и т.п.» могут применяться только в конце предложения, в середине предложения их нужно записывать полностью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6CA29-AC06-4355-A15F-10DAA051AA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пробел, но недопустим перенос на следующую строку, ставить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0118B-A794-49F9-9ED0-4EA59007A9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дефис и недопустим перенос на следующую строку, необходимо ставить неразрывный дефис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49020-5CF6-485B-A55A-479D246154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жимать клавишу 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e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 только для начала нового абза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D4C9E-2151-4B37-B85B-EAAF453866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0C99F-ADCD-4FFD-9CD5-9D22FEDC50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препинания не отделяются пробелом от предшествующего текста (допускается отделять пробелом только вопросительный знак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05523-8D1A-49D1-95A8-F241D30D01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«процент», «градус», «минута», «секунда» от цифр не отделяются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D3B99-05CA-4AE3-B05E-FE8A613B0C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фры отделяются от № и § одним неразрывным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78F65-C181-4E5D-9786-0CF372FBB1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фис не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020C6-5EB1-47B9-869A-EF0E12D707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ре (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tr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+ минус на числовой клавиатуре)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45DB3-16E3-41A7-92C1-2332B7A7F4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ова, заключенные в кавычки или скобки, не должны отделяться от них пробелам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669E6-EE18-48D2-9F4A-3905265267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очки в конце заголовков не ставя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8B715-FE7A-47A2-9BB6-8533D813A4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сле предлога, с которого начинается предложение, ставится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7BEC5-E738-4923-B4CE-99BA94D38C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28Z</dcterms:modified>
  <cp:revision>7</cp:revision>
  <dc:subject/>
  <dc:title>Язык поисковых запросов</dc:title>
</cp:coreProperties>
</file>