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1236B-AC2B-42E6-AB5F-1B441FA2F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81E26-A726-496D-A687-006EAE557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7A52D-C399-42BC-8A0B-362FEC1BD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46DEC-7D8E-4EF6-9ABD-A02007A22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15C13-BF2F-4486-B853-BD3E256E5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04B15-5F7B-4FD3-AC11-B72C7B874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7EFBB-B41D-4BBF-BE0F-0662174C3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29346-6C99-42C0-AC25-07F801964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43BA9-4DC7-44ED-94C2-AEE4366E2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2E7EF-3988-49C0-8864-0EF92E91C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7A4A3-5B48-409E-BAF9-ECCDCED05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86E35-ACC6-41BF-83B3-2B937E3FA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11747-B801-44D9-910F-61E024D4C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1E775-DA3E-450D-B5F2-A30530AAA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6F7EE-76A3-4F60-917D-F9BB94E7D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21803-BE2A-4AF2-8E2C-96613D326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30155-1797-4840-AA8C-BECD4E99F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5B39E-A3A1-4F62-91C6-8C8FE9FA3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BDD39-609E-433B-B8F7-828AE3251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15B2D-FF8F-49FA-AF63-141A2657E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E2CFD-3014-4695-AFC1-995470268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B5FB4-2CF4-4028-8019-C65463C27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AAE2E-DEBA-4C74-A294-DB826CCA1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E7D26-F006-4F1E-B0F7-F54CBDBD6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C956E-E8A7-45B3-A840-4D39F65E4531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F49B8-B90A-4440-B10E-541C9CC1233B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989000"/>
            <a:ext cx="6585120" cy="1795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Векторная графика. 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Рисуем солнышко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971280" y="4051080"/>
            <a:ext cx="6769080" cy="21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80880"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Сегодня вы научитесь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Рисовать во встроенном графическом редакторе (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S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Word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OpenOffice.org Writer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Создавать и редактировать векторные рисунки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Использовать градиентные заливки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"/>
          <p:cNvSpPr/>
          <p:nvPr/>
        </p:nvSpPr>
        <p:spPr>
          <a:xfrm>
            <a:off x="4427640" y="189000"/>
            <a:ext cx="45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Трофимов П.В. учитель информат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школа № 8 г. Старая Рус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0F5EA-A0A7-4771-B0D1-2FDF09428AA2}" type="slidenum">
              <a:t>1</a:t>
            </a:fld>
          </a:p>
        </p:txBody>
      </p:sp>
    </p:spTree>
  </p:cSld>
  <p:transition spd="med">
    <p:cover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вернёмся к улыбке - закрасьте её, измените размер и переместите на мордочку: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4427640" y="1873080"/>
            <a:ext cx="4147920" cy="4077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3AD24-D9A3-43C5-9272-6F33F237CCF7}" type="slidenum">
              <a:t>10</a:t>
            </a:fld>
          </a:p>
        </p:txBody>
      </p:sp>
    </p:spTree>
  </p:cSld>
  <p:transition spd="med">
    <p:cover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2771640" y="1785960"/>
            <a:ext cx="6372360" cy="403704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80643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6. Создание градиентной заливки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 Рисуем солнечную корону: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24000" y="2276280"/>
            <a:ext cx="273672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выполните 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Автофигуры - Линии -   Полилиния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щелчками нарисуйте корону вокруг солнышка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выполните 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Действия - Порядок -   На задний план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35C55-7883-47A2-8D99-2094D6F17E90}" type="slidenum">
              <a:t>11</a:t>
            </a:fld>
          </a:p>
        </p:txBody>
      </p:sp>
    </p:spTree>
  </p:cSld>
  <p:transition spd="med">
    <p:cover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80643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6. Создание градиентной заливки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 Рисуем солнечную корону: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94920" y="2349360"/>
            <a:ext cx="352908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раскройте список </a:t>
            </a: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Цвет заливки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и выберите </a:t>
            </a: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Способы заливки…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в раскрывшемся окне установите опции согласно рисунку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3924360" y="2133720"/>
            <a:ext cx="5219640" cy="4003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B77EB-16B7-4CFB-B56A-B7B32DD47504}" type="slidenum">
              <a:t>12</a:t>
            </a:fld>
          </a:p>
        </p:txBody>
      </p:sp>
    </p:spTree>
  </p:cSld>
  <p:transition spd="med">
    <p:cover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1116000" y="260280"/>
            <a:ext cx="7632720" cy="6873840"/>
          </a:xfrm>
          <a:prstGeom prst="rect">
            <a:avLst/>
          </a:prstGeom>
          <a:ln w="0">
            <a:noFill/>
          </a:ln>
        </p:spPr>
      </p:pic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80643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6. Создание градиентной заливки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 Рисуем солнечную корону: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-360" y="3068280"/>
            <a:ext cx="331308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выберите для короны жёлтый цвет линий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Вот что должно получиться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5AA3F-4E63-495C-B7D0-665360AF2D5A}" type="slidenum">
              <a:t>13</a:t>
            </a:fld>
          </a:p>
        </p:txBody>
      </p:sp>
    </p:spTree>
  </p:cSld>
  <p:transition spd="med">
    <p:cover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23640" y="476280"/>
            <a:ext cx="784692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Для тех, кто справился с предыдущим заданием рекомендуем самостоятельно дополнить рисунок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-36360" y="1325520"/>
            <a:ext cx="9144000" cy="561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959E9-2A6A-4159-B21E-11B7B895B06E}" type="slidenum">
              <a:t>14</a:t>
            </a:fld>
          </a:p>
        </p:txBody>
      </p:sp>
    </p:spTree>
  </p:cSld>
  <p:transition spd="med">
    <p:cover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Выполнение упражнения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Включите </a:t>
            </a: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панель рисования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одним из следующих способов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выполните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Вид - Панели инструментов - Рисование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в контекстном меню любой панели (оно вызывается щелчком правой кнопки мыши) выберите </a:t>
            </a: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Рисование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нажмите кнопку </a:t>
            </a: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Рисование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на панели инструментов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В любом случае появится (или пропадёт, если она была включена) панель рисования. Обычно она располагается в нижней части окна. С ней мы сегодня и работаем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A6DC3-8D1B-47C2-8D76-3534EDA9DD9A}" type="slidenum">
              <a:t>2</a:t>
            </a:fld>
          </a:p>
        </p:txBody>
      </p:sp>
    </p:spTree>
  </p:cSld>
  <p:transition spd="med">
    <p:cover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2. Заливка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Нарисуйте жёлтый круг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68000" y="2349000"/>
            <a:ext cx="3598920" cy="28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нажмите кнопку </a:t>
            </a: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Овал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 нарисуйте круг диаметром около 4-5 см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раскройте список </a:t>
            </a: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Цвет заливки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  и выберите жёлтый цвет;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в списке </a:t>
            </a: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Цвет линий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  выберите </a:t>
            </a: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Нет линий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4140360" y="2637000"/>
            <a:ext cx="5003640" cy="1666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1A420-462E-44FB-9455-B2EA8A6135DD}" type="slidenum">
              <a:t>3</a:t>
            </a:fld>
          </a:p>
        </p:txBody>
      </p:sp>
    </p:spTree>
  </p:cSld>
  <p:transition spd="med">
    <p:cover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3. Группировка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 Рисуем глаз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79280" y="1828800"/>
            <a:ext cx="4321440" cy="41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изобразите рядом с жёлтым кругом белый эллипс;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нарисуйте рядом ещё один эллипс поменьше и залейте его чёрным цветом;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ереместите чёрный эллипс на белый;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выделите чёрный эллипс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удерживая нажатой клавишу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Comic Sans MS"/>
              </a:rPr>
              <a:t>Shift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, щёлкните по белому эллипсу - теперь выделены сразу оба эллипса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4211640" y="2649600"/>
            <a:ext cx="4932360" cy="1643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F392E-9F98-4748-A3A6-C2E74F81D21A}" type="slidenum">
              <a:t>4</a:t>
            </a:fld>
          </a:p>
        </p:txBody>
      </p:sp>
    </p:spTree>
  </p:cSld>
  <p:transition spd="med">
    <p:cover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3. Группировка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 Рисуем глаз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755280" y="2565000"/>
            <a:ext cx="359892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выполните 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Действия -   Группировать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ереместите глаз на мордочку;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с помощью клавиши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Comic Sans MS"/>
              </a:rPr>
              <a:t>Ctrl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скопируйте глаз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076720" y="2060640"/>
            <a:ext cx="3108600" cy="311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DEF63-8267-4FA3-AC46-7D64CB65A618}" type="slidenum">
              <a:t>5</a:t>
            </a:fld>
          </a:p>
        </p:txBody>
      </p:sp>
    </p:spTree>
  </p:cSld>
  <p:transition spd="med">
    <p:cover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50920" y="404640"/>
            <a:ext cx="8066160" cy="13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4. Дуга. Изменение формы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Рисуем носик: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5280" y="1773000"/>
            <a:ext cx="3741840" cy="28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выполните 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Автофигуры - Основные фигуры -   Дуга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нарисуйте дугу;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ухватите один из жёлтых ромбиков-маркеров и разверните дугу примерно на три четверти круга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2952720" y="2637000"/>
            <a:ext cx="6156360" cy="2315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68C1C-56EA-48C3-B2AE-77999D23B2BF}" type="slidenum">
              <a:t>6</a:t>
            </a:fld>
          </a:p>
        </p:txBody>
      </p:sp>
    </p:spTree>
  </p:cSld>
  <p:transition spd="med">
    <p:cover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50920" y="404640"/>
            <a:ext cx="8066160" cy="13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4. Дуга. Изменение формы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Рисуем носик: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94920" y="1773360"/>
            <a:ext cx="3814920" cy="37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ухватив за угловой белый маркер, измените размер и форму дуги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нажмите кнопку </a:t>
            </a: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Свободное вращение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 за один из зелёных круглых маркеров разверните дугу;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ереместите носик на мордочку, если требуется, залейте его жёлтым цветом: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572000" y="2008080"/>
            <a:ext cx="3994200" cy="3822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682D7-6433-45D4-84E3-974EE6AB407D}" type="slidenum">
              <a:t>7</a:t>
            </a:fld>
          </a:p>
        </p:txBody>
      </p:sp>
    </p:spTree>
  </p:cSld>
  <p:transition spd="med">
    <p:cover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3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5. Рисование и изменение линий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. 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Рисуем улыбку: 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50560" y="1828800"/>
            <a:ext cx="8281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выполните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Автофигуры - Линии -   Кривая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щелчками изобразите улыбку: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2998800"/>
            <a:ext cx="9144000" cy="3211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6AD8D-2AFF-4A4B-8D1C-E5B153835910}" type="slidenum">
              <a:t>8</a:t>
            </a:fld>
          </a:p>
        </p:txBody>
      </p:sp>
    </p:spTree>
  </p:cSld>
  <p:transition spd="med">
    <p:cover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-360" y="1052280"/>
            <a:ext cx="5148360" cy="32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скопируйте улыбку и выделите одну из них;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выполните 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Действия -   Начать изменение узлов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- в местах, где вы щёлкали мышкой, появились маленькие квадратики-маркеры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эти маркеры можно перемещать, и за ними будет следовать форма линии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5000760" y="768240"/>
            <a:ext cx="3747960" cy="208116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468360" y="3787920"/>
            <a:ext cx="4095720" cy="25207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3"/>
          <a:stretch/>
        </p:blipFill>
        <p:spPr>
          <a:xfrm>
            <a:off x="5003640" y="4076640"/>
            <a:ext cx="3621240" cy="2146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659D1-2764-4CB0-B222-961B67A6F0B8}" type="slidenum">
              <a:t>9</a:t>
            </a:fld>
          </a:p>
        </p:txBody>
      </p:sp>
    </p:spTree>
  </p:cSld>
  <p:transition spd="med">
    <p:cover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0T10:41:12Z</dcterms:created>
  <dc:creator>Trofimov</dc:creator>
  <dc:description/>
  <dc:language>en-US</dc:language>
  <cp:lastModifiedBy>Trofimov</cp:lastModifiedBy>
  <dcterms:modified xsi:type="dcterms:W3CDTF">2007-06-10T14:34:19Z</dcterms:modified>
  <cp:revision>15</cp:revision>
  <dc:subject/>
  <dc:title>Векторная графика </dc:title>
</cp:coreProperties>
</file>