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1CB-69B1-4133-B805-E09EEA4D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597-CB3B-4E89-81C4-0EA1A64E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FAD-D988-4081-8E31-BA68E347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890-B123-4D48-9712-2197023B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AF03-86FA-4CA8-B81A-CAA342F0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CC63-8F28-4C58-98A4-C79A6C0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BCF0-98EC-4899-A980-21B5ADB6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B494-9F0F-4D80-A5E9-F9F65584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4370-0532-486F-9011-5FD0944D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1926-0756-4393-A107-BAEC3338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E9B8-EE4D-4FAD-A0B5-1A582B85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D23-B45B-44E4-874D-7F437DCB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C186-3664-4689-8223-628A60E4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BF97-E548-49E0-9855-2EAE3C3D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2040-568D-43FD-83A3-528976CC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C73C-754A-4188-86FD-73608414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A1B1-370A-45A9-A0B3-7C8B9E93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57C-8095-4E32-AFE9-4B7A956E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A4F-5200-4E71-A80B-29EB3339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6F6-EA7F-488C-8572-57CECE07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E10-B057-4CBE-BA3F-2EF6A289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546-9FC9-42E3-95A3-414CAFC7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FA7-5196-48C2-868B-9C77161E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3D5-3ADF-4EFF-AD35-1FB83527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4E8E-4567-46A1-B47B-E52EFF625A3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23F6-F2BE-422E-B276-0C27FE9D85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6585120" cy="179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кторная графика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исуем солнышк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71280" y="4051080"/>
            <a:ext cx="676908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годня вы научитесь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исовать во встроенном графическом редакторе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OpenOffice.org Wri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вать и редактировать векторные рисун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ть градиентные залив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рофимов П.В. 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кола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C912-960C-4C86-A3F9-1BC927BDF916}" type="slidenum">
              <a:t>1</a:t>
            </a:fld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нёмся к улыбке - закрасьте её, измените размер и переместите на мордочк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873080"/>
            <a:ext cx="414792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F0E-3EFC-494B-B19C-FD3B4CC8B101}" type="slidenum">
              <a:t>10</a:t>
            </a:fld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1640" y="1785960"/>
            <a:ext cx="637236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273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Линии -   Полили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щелчками нарисуйте корону вокруг солнышк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Порядок -   На задний пл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5C7-31C0-4290-80FF-CE08AF9CEFBE}" type="slidenum">
              <a:t>11</a:t>
            </a:fld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52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Способы заливки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аскрывшемся окне установите опции согласно рисунку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5219640" cy="400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1BE-D485-4CB6-B2A5-8B12C32297C3}" type="slidenum">
              <a:t>12</a:t>
            </a:fld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632720" cy="6873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331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берите для короны жёлтый цвет ли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т что должно получитьс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44E-2E74-4426-A277-8889B5231625}" type="slidenum">
              <a:t>13</a:t>
            </a:fld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8469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тех, кто справился с предыдущим заданием рекомендуем самостоятельно дополнить рисун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36360" y="1325520"/>
            <a:ext cx="9144000" cy="561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8BB-7B3E-4FC1-B8D9-C5C80525BD99}" type="slidenum">
              <a:t>14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полнение упраж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ключ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панель рисова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ид - Панели инструментов - 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онтекстном меню любой панели (оно вызывается щелчком правой кнопки мыши)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на панели инструмен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любом случае появится (или пропадёт, если она была включена) панель рисования. Обычно она располагается в нижней части окна. С ней мы сегодня и работа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CDF-97D6-4D3D-A48E-DBC204C2C680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 Залив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рисуйте жёлтый кру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359892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ва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нарисуйте круг диаметром около 4-5 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и выберите жёлтый цвет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писк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выберит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5003640" cy="16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827-E1BA-47F1-A9D1-F27D102FADC3}" type="slidenum">
              <a:t>3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43214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образите рядом с жёлтым кругом белый эллипс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рядом ещё один эллипс поменьше и залейте его чёрным цветом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чёрный эллипс на белый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делите чёрный эллип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держивая нажатой клавиш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Shif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щёлкните по белому эллипсу - теперь выделены сразу оба эллипс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11640" y="2649600"/>
            <a:ext cx="4932360" cy="16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A01-7C75-43B2-B36F-B7873C8CDF7C}" type="slidenum">
              <a:t>4</a:t>
            </a:fld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3598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Группиров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глаз на мордочк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омощью клавиш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Ctr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копируйте глаз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10860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AC2-859E-4A75-A07A-DE188303B2A0}" type="slidenum">
              <a:t>5</a:t>
            </a:fld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7418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Основные фигуры -   Дуг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те один из жёлтых ромбиков-маркеров и разверните дугу примерно на три четверти круг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952720" y="2637000"/>
            <a:ext cx="6156360" cy="23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963-4805-4B66-B594-A6CFA1308A4B}" type="slidenum">
              <a:t>6</a:t>
            </a:fld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81492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в за угловой белый маркер, измените размер и форму дуг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вободное вращ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за один из зелёных круглых маркеров разверни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носик на мордочку, если требуется, залейте его жёлтым цветом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3994200" cy="38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4F7-77C9-467D-922E-279DDBA88088}" type="slidenum">
              <a:t>7</a:t>
            </a:fld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. Рисование и изменение линий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исуем улыбку: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28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фигуры - Линии -   Крива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щелчками изобразите улыбку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99880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D3A-C7F2-47F9-98C5-5400E7AF9945}" type="slidenum">
              <a:t>8</a:t>
            </a:fld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514836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пируйте улыбку и выделите одну из них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Начать изменение узл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в местах, где вы щёлкали мышкой, появились маленькие квадратики-марке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и маркеры можно перемещать, и за ними будет следовать форма лини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00760" y="768240"/>
            <a:ext cx="3747960" cy="2081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3787920"/>
            <a:ext cx="4095720" cy="252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362124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D64-7FE7-4FC0-BFF0-B098B4FB28F8}" type="slidenum">
              <a:t>9</a:t>
            </a:fld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0:41:12Z</dcterms:created>
  <dc:creator>Trofimov</dc:creator>
  <dc:description/>
  <dc:language>en-US</dc:language>
  <cp:lastModifiedBy>Trofimov</cp:lastModifiedBy>
  <dcterms:modified xsi:type="dcterms:W3CDTF">2007-06-10T14:34:19Z</dcterms:modified>
  <cp:revision>15</cp:revision>
  <dc:subject/>
  <dc:title>Векторная графика </dc:title>
</cp:coreProperties>
</file>