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F65-C0DB-43D6-9B2A-A635B9F0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79B-C405-4791-A88D-E4E1AB54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182C-4135-4757-8807-2B61DB1C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E26F-B8B3-45F8-96FA-31B5C691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1DC9-14D9-4CB0-8C41-AE07E708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02E5-8AB0-4FBA-89BE-BEE4B74C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98CD-C476-4019-8B7D-7B9BD5AE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AA2A-950E-4B50-AC07-6F51C7E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CDE6-1549-41B0-BB9F-DB8CB8AA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D883-CF65-42C2-9455-026FD46C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712C-A554-453A-ABA2-164E87F6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992-E3D4-44AB-8602-40301ACC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A17C-A20A-487B-BEFF-5798B84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CB5-75A8-44EE-8181-E9F93024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86C4-72C3-4A1D-84EE-4FED3804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7317-7E01-4953-8668-B0E532C8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C112-C044-4E39-AC0B-19EA9F03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25C-3527-416F-A7D1-87D5D235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32B-CAB6-42FC-95F0-189EACB6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415-71C4-4924-9D1D-CB61C9F7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306F-BA39-45FD-99F3-EF7DC5D0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247-1712-4C72-8BCF-093B4526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A9A9-46D0-4FBB-9B81-90F0477A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F52-6B49-47BA-924E-35DF4650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B3BF-2168-4176-A12A-77B146B55B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88ED-7AFA-4EA3-A438-89AC860A19D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6585120" cy="1795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Векторная графика.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Рисуем солнышко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71280" y="4051080"/>
            <a:ext cx="676908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егодня вы научитесь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исовать во встроенном графическом редакторе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S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Wor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OpenOffice.org Writ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вать и редактировать векторные рисун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пользовать градиентные зали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427640" y="18900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рофимов П.В. учитель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школа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187F-F980-4CC2-BFB4-300CDCEC9853}" type="slidenum">
              <a:t>1</a:t>
            </a:fld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рнёмся к улыбке - закрасьте её, измените размер и переместите на мордочку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27640" y="1873080"/>
            <a:ext cx="4147920" cy="40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F6ED-CEF2-491D-88F9-99D1C9D52B26}" type="slidenum">
              <a:t>10</a:t>
            </a:fld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771640" y="1785960"/>
            <a:ext cx="6372360" cy="4037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273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Линии -   Полилини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щелчками нарисуйте корону вокруг солнышк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Порядок -   На задний план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74B-12A6-422D-8C3E-00A3AFC94BB5}" type="slidenum">
              <a:t>11</a:t>
            </a:fld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3529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пособы заливки…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раскрывшемся окне установите опции согласно рисунку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133720"/>
            <a:ext cx="5219640" cy="400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152-18E8-4F5B-9E86-1204B1A0221A}" type="slidenum">
              <a:t>12</a:t>
            </a:fld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7632720" cy="6873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064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6. Создание градиентной заливки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Рисуем солнечную корону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3068280"/>
            <a:ext cx="3313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берите для короны жёлтый цвет лин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т что должно получитьс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CEE-BC75-4D9E-936F-DA95098A602E}" type="slidenum">
              <a:t>13</a:t>
            </a:fld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84692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ля тех, кто справился с предыдущим заданием рекомендуем самостоятельно дополнить рисун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6360" y="1325520"/>
            <a:ext cx="9144000" cy="561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1240-70E7-479E-A164-31521D5629F0}" type="slidenum">
              <a:t>14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полнение упражнения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ключ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панель рисовани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одним из следующих способов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ид - Панели инструментов - 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контекстном меню любой панели (оно вызывается щелчком правой кнопки мыши) выберите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Рисовани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на панели инструмент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любом случае появится (или пропадёт, если она была включена) панель рисования. Обычно она располагается в нижней части окна. С ней мы сегодня и работа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50E-A8EA-4C49-B89A-9DB362973BEF}" type="slidenum">
              <a:t>2</a:t>
            </a:fld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2. Залив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рисуйте жёлтый кру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359892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Ова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нарисуйте круг диаметром около 4-5 с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кройте списо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залив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и выберите жёлтый цвет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писк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Цв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выберит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Нет лини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140360" y="2637000"/>
            <a:ext cx="5003640" cy="16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114-D456-49AF-BDA1-F12D43676D37}" type="slidenum">
              <a:t>3</a:t>
            </a:fld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43214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образите рядом с жёлтым кругом белый эллипс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рядом ещё один эллипс поменьше и залейте его чёрным цветом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чёрный эллипс на белый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делите чёрный эллип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держивая нажатой клавишу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Shift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щёлкните по белому эллипсу - теперь выделены сразу оба эллипса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211640" y="2649600"/>
            <a:ext cx="4932360" cy="164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100B-B021-4740-A5E5-A5BD6978F5D9}" type="slidenum">
              <a:t>4</a:t>
            </a:fld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. Группиров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Рисуем гл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5280" y="2565000"/>
            <a:ext cx="359892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Группирова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глаз на мордочк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 помощью клавиш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Ctrl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скопируйте гла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076720" y="2060640"/>
            <a:ext cx="3108600" cy="31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F18-5A3B-4650-A7C9-19C61F683E9F}" type="slidenum">
              <a:t>5</a:t>
            </a:fld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7418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тофигуры - Основные фигуры -   Дуг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исуй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те один из жёлтых ромбиков-маркеров и разверните дугу примерно на три четверти круг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952720" y="2637000"/>
            <a:ext cx="6156360" cy="231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2BA-9C6C-481D-A89D-94329C5487E7}" type="slidenum">
              <a:t>6</a:t>
            </a:fld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06616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. Дуга. Изменение формы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исуем носик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3814920" cy="37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хватив за угловой белый маркер, измените размер и форму дуг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жмите кнопк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Свободное вращени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за один из зелёных круглых маркеров разверните дугу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местите носик на мордочку, если требуется, залейте его жёлтым цветом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2008080"/>
            <a:ext cx="3994200" cy="382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70C-CB32-4B5B-ADA0-CBCA907D0FC7}" type="slidenum">
              <a:t>7</a:t>
            </a:fld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5. Рисование и изменение линий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исуем улыбку: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281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фигуры - Линии -   Крива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щелчками изобразите улыбку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2998800"/>
            <a:ext cx="914400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5A8-62B1-4FCF-9DF8-D286264B5E22}" type="slidenum">
              <a:t>8</a:t>
            </a:fld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5148360" cy="32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пируйте улыбку и выделите одну из них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полните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йствия -   Начать изменение узлов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в местах, где вы щёлкали мышкой, появились маленькие квадратики-маркер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и маркеры можно перемещать, и за ними будет следовать форма линии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000760" y="768240"/>
            <a:ext cx="3747960" cy="2081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3787920"/>
            <a:ext cx="4095720" cy="2520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03640" y="4076640"/>
            <a:ext cx="3621240" cy="21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250-E501-4743-9A28-30747FADDFCC}" type="slidenum">
              <a:t>9</a:t>
            </a:fld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10:41:12Z</dcterms:created>
  <dc:creator>Trofimov</dc:creator>
  <dc:description/>
  <dc:language>en-US</dc:language>
  <cp:lastModifiedBy>Trofimov</cp:lastModifiedBy>
  <dcterms:modified xsi:type="dcterms:W3CDTF">2007-06-10T14:34:19Z</dcterms:modified>
  <cp:revision>15</cp:revision>
  <dc:subject/>
  <dc:title>Векторная графика </dc:title>
</cp:coreProperties>
</file>