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A2D2-5404-4FBA-AFA1-497FFDBD10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ABD9-86ED-4EA2-A769-C033116776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69EA-A863-43E1-9AA8-9F9AD7E1B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30F5-CA06-45E8-96F1-31AB0B2C7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BE3E-B91F-4844-81F5-333C36C34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0C1D-0107-4593-BE9E-30C1B31BE7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5407-5A86-4CDA-AB11-C8D2D1D072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5904-CBCC-47CD-988C-8D3DA50B9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2438-9FC0-4F2A-83AB-ABF4F038A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44FE-DCAA-49C3-9A1F-9D9A989F1D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A4A4-AB7C-46FC-93C4-74DE0E70D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47BE-9351-4640-BC2F-F0D63AD297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EE09-7A35-4E07-8EBB-DFAA52A28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F711-5DD6-4D64-B095-F871ED7D99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DC01-E383-4E6A-B054-C82DD1CEBE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EEB6-8336-4225-8906-6BFE6ED151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E9DE-59AB-4218-9D28-E6E0A5C630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A2AD-2867-47C9-940D-CA0DF61CB1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4A20-1426-4024-BD27-D951FCA867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E8FC-EBC0-4D7D-8F32-845489A2C4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579C-2BA7-4C1A-95A3-62F967F098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6FE3-DB81-4824-8350-FE4B1D3F2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F218-B25B-4EA5-8303-FE81D5209A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C64D-1EBD-460A-8E1F-4573AF2E2B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AC12-E7F5-4340-ABE9-5C96F0FA6D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F167-2E79-4257-992D-C76DBEA1C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C9D1-49E9-4484-A836-35D6D1904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21F1-AAA2-4C18-BEF6-1FF216E68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05D8-E39E-4512-A3B7-C6590999CB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D21E-9A2B-4F45-BED2-0DE982C72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EF7E-8329-4392-B667-BFB0E37CB7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CF7E-FD78-45DB-BA26-84B4E0562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F646-D906-42CD-94D6-08F63D8BF6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2210-ACC5-411E-B2AC-BDA5F2BC9E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828D-A42F-43AD-88B1-AC7C29116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05EA-BC97-4971-AE1F-D6C7A3B0F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B5D2-1024-4086-B0B8-13EAAF0790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585E-B117-4532-9CDF-78EBDE63C1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AF0F-17AF-4D97-8AB4-81369684DD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DF82-03E8-45BA-995E-9A95B9B5D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C51A-ED5E-4506-AF7E-08DAFBA5B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8ACA-F19A-415C-9EA0-705B3D22C1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2C9-02F4-4FE1-A700-48C6E65E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D66-CE8F-40FC-A2DB-9F8AFE9A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DEA-AB45-4807-B0E4-BA4DC988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5B6-40EF-4F80-B49C-70769E5E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94E1-4952-427A-BD1F-D7D0B9EC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BE5C-F8D7-4926-885D-7AFD5DDB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9E5F-05D3-4587-848F-1A5A7BC1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013D-E49B-4419-8341-C699C9DF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1DFA-BF02-4647-A810-279D86C8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6BF7-AFC6-464F-9A26-7DFB06CB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0CBB-4A1A-474F-9528-A27C2DC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A75-68B1-48CF-BBBC-D4DE7EBF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5721-52F8-4ABF-893B-0FE0E91A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1D19-ACEA-44A2-8309-144033F9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6650-AC5C-4370-9726-2ABDE165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C8AE-CC03-477C-875D-91DF6EE7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E6C1-A1F4-4D91-97E0-27F59635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0B1-43FB-4E1F-BB93-C8760F0E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1FA-8192-4464-9584-A430B94F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0E6-F8F2-4E04-8388-2F12DD9E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8DF-EB45-43DF-B49A-9D242130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F3A-5939-4CD2-96F3-69D414C9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E9CD-6EDB-456E-8ABF-C7D69BB9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042-EEB6-4BC9-8483-83BEA58D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B01E-8563-4352-A43B-961F14305B2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AAAE-7C9C-4562-98BE-00A98DD4C1A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8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00800" y="471492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а Гали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ерпу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ов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ground2"/>
          <p:cNvPicPr/>
          <p:nvPr/>
        </p:nvPicPr>
        <p:blipFill>
          <a:blip r:embed="rId1"/>
          <a:stretch/>
        </p:blipFill>
        <p:spPr>
          <a:xfrm>
            <a:off x="1042920" y="2852640"/>
            <a:ext cx="5545080" cy="370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132" name="Line 5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141" name="Line 4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162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7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150" name="Line 108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9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0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1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2"/>
          <p:cNvSpPr/>
          <p:nvPr/>
        </p:nvSpPr>
        <p:spPr>
          <a:xfrm>
            <a:off x="212616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3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4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6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159" name="Line 117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8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9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0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2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3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5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168" name="Line 126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7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8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9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0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1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2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3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34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177" name="Line 135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6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7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8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9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0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1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2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3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186" name="Line 144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5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46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7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8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9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0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1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2"/>
          <p:cNvSpPr/>
          <p:nvPr/>
        </p:nvSpPr>
        <p:spPr>
          <a:xfrm>
            <a:off x="5959800" y="4365720"/>
            <a:ext cx="18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001011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3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4560" y="1557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1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200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4764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1979640" y="3068640"/>
            <a:ext cx="360360" cy="504720"/>
            <a:chOff x="1979640" y="3068640"/>
            <a:chExt cx="360360" cy="504720"/>
          </a:xfrm>
        </p:grpSpPr>
        <p:sp>
          <p:nvSpPr>
            <p:cNvPr id="209" name="Line 15"/>
            <p:cNvSpPr/>
            <p:nvPr/>
          </p:nvSpPr>
          <p:spPr>
            <a:xfrm>
              <a:off x="197964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197964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7"/>
          <p:cNvSpPr/>
          <p:nvPr/>
        </p:nvSpPr>
        <p:spPr>
          <a:xfrm>
            <a:off x="20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154620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5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6192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549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218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2054160" y="357336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126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62728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8"/>
          <p:cNvSpPr/>
          <p:nvPr/>
        </p:nvSpPr>
        <p:spPr>
          <a:xfrm>
            <a:off x="1061640" y="5157720"/>
            <a:ext cx="129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13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 flipH="1" flipV="1">
            <a:off x="1042560" y="3429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500364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1"/>
          <p:cNvGrpSpPr/>
          <p:nvPr/>
        </p:nvGrpSpPr>
        <p:grpSpPr>
          <a:xfrm>
            <a:off x="5437080" y="2563920"/>
            <a:ext cx="360360" cy="504720"/>
            <a:chOff x="5437080" y="2563920"/>
            <a:chExt cx="360360" cy="504720"/>
          </a:xfrm>
        </p:grpSpPr>
        <p:sp>
          <p:nvSpPr>
            <p:cNvPr id="230" name="Line 72"/>
            <p:cNvSpPr/>
            <p:nvPr/>
          </p:nvSpPr>
          <p:spPr>
            <a:xfrm>
              <a:off x="5437080" y="2563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5437080" y="278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74"/>
          <p:cNvSpPr/>
          <p:nvPr/>
        </p:nvSpPr>
        <p:spPr>
          <a:xfrm>
            <a:off x="543708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5"/>
          <p:cNvSpPr/>
          <p:nvPr/>
        </p:nvSpPr>
        <p:spPr>
          <a:xfrm>
            <a:off x="493236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6"/>
          <p:cNvSpPr/>
          <p:nvPr/>
        </p:nvSpPr>
        <p:spPr>
          <a:xfrm>
            <a:off x="5005800" y="27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7"/>
          <p:cNvSpPr/>
          <p:nvPr/>
        </p:nvSpPr>
        <p:spPr>
          <a:xfrm>
            <a:off x="5003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8"/>
          <p:cNvSpPr/>
          <p:nvPr/>
        </p:nvSpPr>
        <p:spPr>
          <a:xfrm>
            <a:off x="5003640" y="306864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508720" y="2779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0"/>
          <p:cNvGrpSpPr/>
          <p:nvPr/>
        </p:nvGrpSpPr>
        <p:grpSpPr>
          <a:xfrm>
            <a:off x="5940360" y="2924280"/>
            <a:ext cx="360360" cy="504720"/>
            <a:chOff x="5940360" y="2924280"/>
            <a:chExt cx="360360" cy="504720"/>
          </a:xfrm>
        </p:grpSpPr>
        <p:sp>
          <p:nvSpPr>
            <p:cNvPr id="239" name="Line 81"/>
            <p:cNvSpPr/>
            <p:nvPr/>
          </p:nvSpPr>
          <p:spPr>
            <a:xfrm>
              <a:off x="5940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5940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83"/>
          <p:cNvSpPr/>
          <p:nvPr/>
        </p:nvSpPr>
        <p:spPr>
          <a:xfrm>
            <a:off x="60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506920" y="306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5"/>
          <p:cNvSpPr/>
          <p:nvPr/>
        </p:nvSpPr>
        <p:spPr>
          <a:xfrm>
            <a:off x="55105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80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5510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94036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5243400" y="515772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4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9"/>
          <p:cNvSpPr/>
          <p:nvPr/>
        </p:nvSpPr>
        <p:spPr>
          <a:xfrm flipH="1" flipV="1">
            <a:off x="4859280" y="342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0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умножать десятичную дробь и получаемые дробные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дробная часть не станет равна нулю или не будет достигнута необходимая точность перев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целые части произведений выразить цифрами алфавита новой системы счис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дробную часть числа в новой системе счисления начиная с целой части перв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8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8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0,35 из десятичной системы в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952920" y="2873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971640" y="3141720"/>
            <a:ext cx="71280" cy="71280"/>
            <a:chOff x="971640" y="3141720"/>
            <a:chExt cx="71280" cy="71280"/>
          </a:xfrm>
        </p:grpSpPr>
        <p:sp>
          <p:nvSpPr>
            <p:cNvPr id="256" name="Line 8"/>
            <p:cNvSpPr/>
            <p:nvPr/>
          </p:nvSpPr>
          <p:spPr>
            <a:xfrm flipH="1"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12607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97164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97380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971640" y="3718080"/>
            <a:ext cx="71280" cy="71280"/>
            <a:chOff x="971640" y="3718080"/>
            <a:chExt cx="71280" cy="71280"/>
          </a:xfrm>
        </p:grpSpPr>
        <p:sp>
          <p:nvSpPr>
            <p:cNvPr id="262" name="Line 33"/>
            <p:cNvSpPr/>
            <p:nvPr/>
          </p:nvSpPr>
          <p:spPr>
            <a:xfrm flipH="1"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35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6"/>
          <p:cNvSpPr/>
          <p:nvPr/>
        </p:nvSpPr>
        <p:spPr>
          <a:xfrm>
            <a:off x="97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9738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8"/>
          <p:cNvGrpSpPr/>
          <p:nvPr/>
        </p:nvGrpSpPr>
        <p:grpSpPr>
          <a:xfrm>
            <a:off x="971640" y="4292640"/>
            <a:ext cx="71280" cy="71280"/>
            <a:chOff x="971640" y="4292640"/>
            <a:chExt cx="71280" cy="71280"/>
          </a:xfrm>
        </p:grpSpPr>
        <p:sp>
          <p:nvSpPr>
            <p:cNvPr id="268" name="Line 39"/>
            <p:cNvSpPr/>
            <p:nvPr/>
          </p:nvSpPr>
          <p:spPr>
            <a:xfrm flipH="1"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0"/>
            <p:cNvSpPr/>
            <p:nvPr/>
          </p:nvSpPr>
          <p:spPr>
            <a:xfrm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41"/>
          <p:cNvSpPr/>
          <p:nvPr/>
        </p:nvSpPr>
        <p:spPr>
          <a:xfrm>
            <a:off x="1260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97164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973800" y="4581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971640" y="4869000"/>
            <a:ext cx="71280" cy="71280"/>
            <a:chOff x="971640" y="4869000"/>
            <a:chExt cx="71280" cy="71280"/>
          </a:xfrm>
        </p:grpSpPr>
        <p:sp>
          <p:nvSpPr>
            <p:cNvPr id="274" name="Line 45"/>
            <p:cNvSpPr/>
            <p:nvPr/>
          </p:nvSpPr>
          <p:spPr>
            <a:xfrm flipH="1"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7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97164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9"/>
          <p:cNvSpPr/>
          <p:nvPr/>
        </p:nvSpPr>
        <p:spPr>
          <a:xfrm>
            <a:off x="9738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0"/>
          <p:cNvGrpSpPr/>
          <p:nvPr/>
        </p:nvGrpSpPr>
        <p:grpSpPr>
          <a:xfrm>
            <a:off x="971640" y="5516640"/>
            <a:ext cx="71280" cy="71280"/>
            <a:chOff x="971640" y="5516640"/>
            <a:chExt cx="71280" cy="71280"/>
          </a:xfrm>
        </p:grpSpPr>
        <p:sp>
          <p:nvSpPr>
            <p:cNvPr id="280" name="Line 51"/>
            <p:cNvSpPr/>
            <p:nvPr/>
          </p:nvSpPr>
          <p:spPr>
            <a:xfrm flipH="1"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2"/>
            <p:cNvSpPr/>
            <p:nvPr/>
          </p:nvSpPr>
          <p:spPr>
            <a:xfrm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53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971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973800" y="58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755640" y="357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414360" y="6237360"/>
            <a:ext cx="192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010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37440" y="29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6"/>
          <p:cNvGrpSpPr/>
          <p:nvPr/>
        </p:nvGrpSpPr>
        <p:grpSpPr>
          <a:xfrm>
            <a:off x="3634920" y="3286080"/>
            <a:ext cx="72000" cy="71640"/>
            <a:chOff x="3634920" y="3286080"/>
            <a:chExt cx="72000" cy="71640"/>
          </a:xfrm>
        </p:grpSpPr>
        <p:sp>
          <p:nvSpPr>
            <p:cNvPr id="289" name="Line 127"/>
            <p:cNvSpPr/>
            <p:nvPr/>
          </p:nvSpPr>
          <p:spPr>
            <a:xfrm flipH="1">
              <a:off x="363492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8"/>
            <p:cNvSpPr/>
            <p:nvPr/>
          </p:nvSpPr>
          <p:spPr>
            <a:xfrm>
              <a:off x="363528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29"/>
          <p:cNvSpPr/>
          <p:nvPr/>
        </p:nvSpPr>
        <p:spPr>
          <a:xfrm>
            <a:off x="39247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0"/>
          <p:cNvSpPr/>
          <p:nvPr/>
        </p:nvSpPr>
        <p:spPr>
          <a:xfrm>
            <a:off x="3635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1"/>
          <p:cNvSpPr/>
          <p:nvPr/>
        </p:nvSpPr>
        <p:spPr>
          <a:xfrm>
            <a:off x="363744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2"/>
          <p:cNvGrpSpPr/>
          <p:nvPr/>
        </p:nvGrpSpPr>
        <p:grpSpPr>
          <a:xfrm>
            <a:off x="3634920" y="3862440"/>
            <a:ext cx="72000" cy="71280"/>
            <a:chOff x="3634920" y="3862440"/>
            <a:chExt cx="72000" cy="71280"/>
          </a:xfrm>
        </p:grpSpPr>
        <p:sp>
          <p:nvSpPr>
            <p:cNvPr id="295" name="Line 133"/>
            <p:cNvSpPr/>
            <p:nvPr/>
          </p:nvSpPr>
          <p:spPr>
            <a:xfrm flipH="1">
              <a:off x="363492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4"/>
            <p:cNvSpPr/>
            <p:nvPr/>
          </p:nvSpPr>
          <p:spPr>
            <a:xfrm>
              <a:off x="363528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35"/>
          <p:cNvSpPr/>
          <p:nvPr/>
        </p:nvSpPr>
        <p:spPr>
          <a:xfrm>
            <a:off x="39247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6"/>
          <p:cNvSpPr/>
          <p:nvPr/>
        </p:nvSpPr>
        <p:spPr>
          <a:xfrm>
            <a:off x="363528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7"/>
          <p:cNvSpPr/>
          <p:nvPr/>
        </p:nvSpPr>
        <p:spPr>
          <a:xfrm>
            <a:off x="3637440" y="414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38"/>
          <p:cNvGrpSpPr/>
          <p:nvPr/>
        </p:nvGrpSpPr>
        <p:grpSpPr>
          <a:xfrm>
            <a:off x="3634920" y="4437000"/>
            <a:ext cx="72000" cy="71640"/>
            <a:chOff x="3634920" y="4437000"/>
            <a:chExt cx="72000" cy="71640"/>
          </a:xfrm>
        </p:grpSpPr>
        <p:sp>
          <p:nvSpPr>
            <p:cNvPr id="301" name="Line 139"/>
            <p:cNvSpPr/>
            <p:nvPr/>
          </p:nvSpPr>
          <p:spPr>
            <a:xfrm flipH="1">
              <a:off x="363492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0"/>
            <p:cNvSpPr/>
            <p:nvPr/>
          </p:nvSpPr>
          <p:spPr>
            <a:xfrm>
              <a:off x="363528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41"/>
          <p:cNvSpPr/>
          <p:nvPr/>
        </p:nvSpPr>
        <p:spPr>
          <a:xfrm>
            <a:off x="39247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3635280" y="4726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3"/>
          <p:cNvSpPr/>
          <p:nvPr/>
        </p:nvSpPr>
        <p:spPr>
          <a:xfrm>
            <a:off x="363744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6"/>
          <p:cNvSpPr/>
          <p:nvPr/>
        </p:nvSpPr>
        <p:spPr>
          <a:xfrm>
            <a:off x="3419640" y="371808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7"/>
          <p:cNvSpPr/>
          <p:nvPr/>
        </p:nvSpPr>
        <p:spPr>
          <a:xfrm>
            <a:off x="3295440" y="6237360"/>
            <a:ext cx="167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263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8"/>
          <p:cNvSpPr/>
          <p:nvPr/>
        </p:nvSpPr>
        <p:spPr>
          <a:xfrm>
            <a:off x="6158520" y="306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59"/>
          <p:cNvGrpSpPr/>
          <p:nvPr/>
        </p:nvGrpSpPr>
        <p:grpSpPr>
          <a:xfrm>
            <a:off x="6156360" y="3357720"/>
            <a:ext cx="71280" cy="71280"/>
            <a:chOff x="6156360" y="3357720"/>
            <a:chExt cx="71280" cy="71280"/>
          </a:xfrm>
        </p:grpSpPr>
        <p:sp>
          <p:nvSpPr>
            <p:cNvPr id="310" name="Line 160"/>
            <p:cNvSpPr/>
            <p:nvPr/>
          </p:nvSpPr>
          <p:spPr>
            <a:xfrm flipH="1"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1"/>
            <p:cNvSpPr/>
            <p:nvPr/>
          </p:nvSpPr>
          <p:spPr>
            <a:xfrm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62"/>
          <p:cNvSpPr/>
          <p:nvPr/>
        </p:nvSpPr>
        <p:spPr>
          <a:xfrm>
            <a:off x="6302880" y="335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3"/>
          <p:cNvSpPr/>
          <p:nvPr/>
        </p:nvSpPr>
        <p:spPr>
          <a:xfrm>
            <a:off x="6156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4"/>
          <p:cNvSpPr/>
          <p:nvPr/>
        </p:nvSpPr>
        <p:spPr>
          <a:xfrm>
            <a:off x="6158520" y="364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65"/>
          <p:cNvGrpSpPr/>
          <p:nvPr/>
        </p:nvGrpSpPr>
        <p:grpSpPr>
          <a:xfrm>
            <a:off x="6156360" y="3933720"/>
            <a:ext cx="71280" cy="71640"/>
            <a:chOff x="6156360" y="3933720"/>
            <a:chExt cx="71280" cy="71640"/>
          </a:xfrm>
        </p:grpSpPr>
        <p:sp>
          <p:nvSpPr>
            <p:cNvPr id="316" name="Line 166"/>
            <p:cNvSpPr/>
            <p:nvPr/>
          </p:nvSpPr>
          <p:spPr>
            <a:xfrm flipH="1"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7"/>
            <p:cNvSpPr/>
            <p:nvPr/>
          </p:nvSpPr>
          <p:spPr>
            <a:xfrm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68"/>
          <p:cNvSpPr/>
          <p:nvPr/>
        </p:nvSpPr>
        <p:spPr>
          <a:xfrm>
            <a:off x="637452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9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0"/>
          <p:cNvSpPr/>
          <p:nvPr/>
        </p:nvSpPr>
        <p:spPr>
          <a:xfrm>
            <a:off x="6158520" y="422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9"/>
          <p:cNvSpPr/>
          <p:nvPr/>
        </p:nvSpPr>
        <p:spPr>
          <a:xfrm>
            <a:off x="5940360" y="3502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0"/>
          <p:cNvSpPr/>
          <p:nvPr/>
        </p:nvSpPr>
        <p:spPr>
          <a:xfrm>
            <a:off x="6087960" y="6257880"/>
            <a:ext cx="162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59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91"/>
          <p:cNvSpPr/>
          <p:nvPr/>
        </p:nvSpPr>
        <p:spPr>
          <a:xfrm>
            <a:off x="7812000" y="5877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ground2"/>
          <p:cNvPicPr/>
          <p:nvPr/>
        </p:nvPicPr>
        <p:blipFill>
          <a:blip r:embed="rId1"/>
          <a:stretch/>
        </p:blipFill>
        <p:spPr>
          <a:xfrm>
            <a:off x="3419640" y="2998800"/>
            <a:ext cx="5040000" cy="298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смешанных дробей отдельно по своим правилам переводятся целая и дробные части, результаты перевода разделяются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3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3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21440" y="32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3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2126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2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358" name="Line 33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4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6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7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8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9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0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1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367" name="Line 42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4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376" name="Line 51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3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4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6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9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385" name="Line 60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62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4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5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7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8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1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2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396" name="Line 103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4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05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6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7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08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02" name="Line 109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0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11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2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3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4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08" name="Line 115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6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17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8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9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20"/>
          <p:cNvGrpSpPr/>
          <p:nvPr/>
        </p:nvGrpSpPr>
        <p:grpSpPr>
          <a:xfrm>
            <a:off x="6229440" y="4581360"/>
            <a:ext cx="71280" cy="71640"/>
            <a:chOff x="6229440" y="4581360"/>
            <a:chExt cx="71280" cy="71640"/>
          </a:xfrm>
        </p:grpSpPr>
        <p:sp>
          <p:nvSpPr>
            <p:cNvPr id="414" name="Line 121"/>
            <p:cNvSpPr/>
            <p:nvPr/>
          </p:nvSpPr>
          <p:spPr>
            <a:xfrm flipH="1"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22"/>
            <p:cNvSpPr/>
            <p:nvPr/>
          </p:nvSpPr>
          <p:spPr>
            <a:xfrm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23"/>
          <p:cNvSpPr/>
          <p:nvPr/>
        </p:nvSpPr>
        <p:spPr>
          <a:xfrm>
            <a:off x="651852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4"/>
          <p:cNvSpPr/>
          <p:nvPr/>
        </p:nvSpPr>
        <p:spPr>
          <a:xfrm>
            <a:off x="6229440" y="4870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5"/>
          <p:cNvSpPr/>
          <p:nvPr/>
        </p:nvSpPr>
        <p:spPr>
          <a:xfrm>
            <a:off x="6231600" y="487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26"/>
          <p:cNvGrpSpPr/>
          <p:nvPr/>
        </p:nvGrpSpPr>
        <p:grpSpPr>
          <a:xfrm>
            <a:off x="6229440" y="5229360"/>
            <a:ext cx="71280" cy="71280"/>
            <a:chOff x="6229440" y="5229360"/>
            <a:chExt cx="71280" cy="71280"/>
          </a:xfrm>
        </p:grpSpPr>
        <p:sp>
          <p:nvSpPr>
            <p:cNvPr id="420" name="Line 127"/>
            <p:cNvSpPr/>
            <p:nvPr/>
          </p:nvSpPr>
          <p:spPr>
            <a:xfrm flipH="1"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28"/>
            <p:cNvSpPr/>
            <p:nvPr/>
          </p:nvSpPr>
          <p:spPr>
            <a:xfrm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29"/>
          <p:cNvSpPr/>
          <p:nvPr/>
        </p:nvSpPr>
        <p:spPr>
          <a:xfrm>
            <a:off x="65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0"/>
          <p:cNvSpPr/>
          <p:nvPr/>
        </p:nvSpPr>
        <p:spPr>
          <a:xfrm>
            <a:off x="6229440" y="55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1"/>
          <p:cNvSpPr/>
          <p:nvPr/>
        </p:nvSpPr>
        <p:spPr>
          <a:xfrm>
            <a:off x="6231600" y="55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2"/>
          <p:cNvSpPr/>
          <p:nvPr/>
        </p:nvSpPr>
        <p:spPr>
          <a:xfrm>
            <a:off x="6013440" y="32860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3"/>
          <p:cNvSpPr/>
          <p:nvPr/>
        </p:nvSpPr>
        <p:spPr>
          <a:xfrm>
            <a:off x="3564360" y="6256440"/>
            <a:ext cx="281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00100,101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5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50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90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95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4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4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16210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16210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4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2126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8"/>
          <p:cNvSpPr/>
          <p:nvPr/>
        </p:nvSpPr>
        <p:spPr>
          <a:xfrm flipH="1" flipV="1">
            <a:off x="1042920" y="3429000"/>
            <a:ext cx="1441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9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70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460" name="Line 71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3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4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6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66" name="Line 77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79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0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2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72" name="Line 83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85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6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 flipH="1">
            <a:off x="6012000" y="3286080"/>
            <a:ext cx="1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1"/>
          <p:cNvSpPr/>
          <p:nvPr/>
        </p:nvSpPr>
        <p:spPr>
          <a:xfrm>
            <a:off x="3562920" y="6256440"/>
            <a:ext cx="205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4,572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050920" y="2852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2484360" y="2924280"/>
            <a:ext cx="360360" cy="504720"/>
            <a:chOff x="2484360" y="2924280"/>
            <a:chExt cx="360360" cy="504720"/>
          </a:xfrm>
        </p:grpSpPr>
        <p:sp>
          <p:nvSpPr>
            <p:cNvPr id="483" name="Line 6"/>
            <p:cNvSpPr/>
            <p:nvPr/>
          </p:nvSpPr>
          <p:spPr>
            <a:xfrm>
              <a:off x="2484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2484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8"/>
          <p:cNvSpPr/>
          <p:nvPr/>
        </p:nvSpPr>
        <p:spPr>
          <a:xfrm>
            <a:off x="2484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1979640" y="30686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205308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2050920" y="3429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197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2627280" y="313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4"/>
          <p:cNvGrpSpPr/>
          <p:nvPr/>
        </p:nvGrpSpPr>
        <p:grpSpPr>
          <a:xfrm>
            <a:off x="3059280" y="3284640"/>
            <a:ext cx="360360" cy="504720"/>
            <a:chOff x="3059280" y="3284640"/>
            <a:chExt cx="360360" cy="504720"/>
          </a:xfrm>
        </p:grpSpPr>
        <p:sp>
          <p:nvSpPr>
            <p:cNvPr id="492" name="Line 15"/>
            <p:cNvSpPr/>
            <p:nvPr/>
          </p:nvSpPr>
          <p:spPr>
            <a:xfrm>
              <a:off x="3059280" y="3284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3059280" y="3508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306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2554200" y="342900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2627280" y="3789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62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13200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2"/>
          <p:cNvSpPr/>
          <p:nvPr/>
        </p:nvSpPr>
        <p:spPr>
          <a:xfrm flipH="1" flipV="1">
            <a:off x="205056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347440" y="272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34"/>
          <p:cNvGrpSpPr/>
          <p:nvPr/>
        </p:nvGrpSpPr>
        <p:grpSpPr>
          <a:xfrm>
            <a:off x="5365800" y="2997360"/>
            <a:ext cx="71280" cy="71280"/>
            <a:chOff x="5365800" y="2997360"/>
            <a:chExt cx="71280" cy="71280"/>
          </a:xfrm>
        </p:grpSpPr>
        <p:sp>
          <p:nvSpPr>
            <p:cNvPr id="503" name="Line 35"/>
            <p:cNvSpPr/>
            <p:nvPr/>
          </p:nvSpPr>
          <p:spPr>
            <a:xfrm flipH="1"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6"/>
            <p:cNvSpPr/>
            <p:nvPr/>
          </p:nvSpPr>
          <p:spPr>
            <a:xfrm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37"/>
          <p:cNvSpPr/>
          <p:nvPr/>
        </p:nvSpPr>
        <p:spPr>
          <a:xfrm>
            <a:off x="5510880" y="2995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5365800" y="3284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5294880" y="3284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0"/>
          <p:cNvGrpSpPr/>
          <p:nvPr/>
        </p:nvGrpSpPr>
        <p:grpSpPr>
          <a:xfrm>
            <a:off x="5365800" y="3573360"/>
            <a:ext cx="71280" cy="71640"/>
            <a:chOff x="5365800" y="3573360"/>
            <a:chExt cx="71280" cy="71640"/>
          </a:xfrm>
        </p:grpSpPr>
        <p:sp>
          <p:nvSpPr>
            <p:cNvPr id="509" name="Line 41"/>
            <p:cNvSpPr/>
            <p:nvPr/>
          </p:nvSpPr>
          <p:spPr>
            <a:xfrm flipH="1"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2"/>
            <p:cNvSpPr/>
            <p:nvPr/>
          </p:nvSpPr>
          <p:spPr>
            <a:xfrm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43"/>
          <p:cNvSpPr/>
          <p:nvPr/>
        </p:nvSpPr>
        <p:spPr>
          <a:xfrm>
            <a:off x="558216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4"/>
          <p:cNvSpPr/>
          <p:nvPr/>
        </p:nvSpPr>
        <p:spPr>
          <a:xfrm>
            <a:off x="5365800" y="386064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5367960" y="386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2"/>
          <p:cNvSpPr/>
          <p:nvPr/>
        </p:nvSpPr>
        <p:spPr>
          <a:xfrm flipH="1">
            <a:off x="5148360" y="342900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3562200" y="6256440"/>
            <a:ext cx="156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5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числа из системы счисления с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есят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представить это число в виде суммы произведений степе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его системы счис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оответствующие цифры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ить арифметические вы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8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011,1 из дво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254320" y="2727360"/>
            <a:ext cx="139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0  1  1, 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3205800" y="2492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2989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73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248616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2266920" y="2492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3674880" y="270828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0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,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1241640" y="24638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333080" y="2781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539640" y="3284640"/>
            <a:ext cx="8282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276,8 из восьмер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183040" y="4168800"/>
            <a:ext cx="114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7  6, 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8"/>
          <p:cNvSpPr/>
          <p:nvPr/>
        </p:nvSpPr>
        <p:spPr>
          <a:xfrm>
            <a:off x="2918520" y="3933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270216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"/>
          <p:cNvSpPr/>
          <p:nvPr/>
        </p:nvSpPr>
        <p:spPr>
          <a:xfrm>
            <a:off x="2413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>
            <a:off x="2197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3602880" y="4149720"/>
            <a:ext cx="416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7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6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5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90,6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1170360" y="390528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261440" y="422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539640" y="472428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из шестнадцатеричной 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2188440" y="5753160"/>
            <a:ext cx="97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270216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2413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2197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163320" y="5734080"/>
            <a:ext cx="353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5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3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9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3"/>
          <p:cNvSpPr/>
          <p:nvPr/>
        </p:nvSpPr>
        <p:spPr>
          <a:xfrm>
            <a:off x="1170360" y="54896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4"/>
          <p:cNvSpPr/>
          <p:nvPr/>
        </p:nvSpPr>
        <p:spPr>
          <a:xfrm>
            <a:off x="1261440" y="5807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>
            <a:off x="32400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Перевод чисел из одной системы счисления в друг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еревод из десятич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целое чис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б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правильная десятичная дроб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вещественное чи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Перевод в десятичную систе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Перевод из двоичной в восьмеричную и шестнадцатеричную_x000b_   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Перевод из восьмеричной и шестнадцатеричной системы в _x000b_    двоич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Перевод из восьмеричной в шестнадцатеричную систему и обрат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0" action="ppaction://hlinksldjump"/>
              </a:rPr>
              <a:t>Арифметические операции в позиционных системах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1" action="ppaction://hlinksldjump"/>
              </a:rPr>
              <a:t>сл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2" action="ppaction://hlinksldjump"/>
              </a:rPr>
              <a:t>вычит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3" action="ppaction://hlinksldjump"/>
              </a:rPr>
              <a:t>умн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4" action="ppaction://hlinksldjump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чисел в компьют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ые чис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еще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" action="ppaction://hlinkshowjump?jump=endshow"/>
          </p:cNvPr>
          <p:cNvSpPr/>
          <p:nvPr/>
        </p:nvSpPr>
        <p:spPr>
          <a:xfrm>
            <a:off x="7596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и шестнадцатеричной системы счисления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нить каждую цифру восьмеричного/шестнадцатеричного числа соответствующим трехразрядным/четырехразрядным двоичным к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05400" y="3284640"/>
            <a:ext cx="712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1629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2980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2771640" y="4221000"/>
            <a:ext cx="287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3276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378000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>
            <a:off x="4284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134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637440" y="38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4142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2771640" y="4292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27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78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28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573440" y="407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981720" y="4653000"/>
            <a:ext cx="72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141696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4127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>
            <a:off x="2554200" y="5661000"/>
            <a:ext cx="4334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>
            <a:off x="3132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>
            <a:off x="3780000" y="5661000"/>
            <a:ext cx="431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>
            <a:off x="4356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2987640" y="530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3637440" y="530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2145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2629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3205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3853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4427640" y="566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4789440" y="551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8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9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двоичной системы счисления в восьмеричную и шестнадцатер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хода от двоичной к восьмеричной/шестнадцатеричной системе счисления поступают следующим образом: двигаясь от запятой влево и вправо, разбивают двоичное число на группы по 3/4 разряда, дополняя при необходимости нулями крайние левую и правую группы. Затем каждую группу из 3/4  разрядов заменяют соответствующей восьмеричной/шестнадцатеричной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737280" y="39528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1173240" y="4240080"/>
            <a:ext cx="28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4"/>
          <p:cNvSpPr/>
          <p:nvPr/>
        </p:nvSpPr>
        <p:spPr>
          <a:xfrm>
            <a:off x="284328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34800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6"/>
          <p:cNvSpPr/>
          <p:nvPr/>
        </p:nvSpPr>
        <p:spPr>
          <a:xfrm flipH="1">
            <a:off x="219492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7"/>
          <p:cNvSpPr/>
          <p:nvPr/>
        </p:nvSpPr>
        <p:spPr>
          <a:xfrm flipH="1">
            <a:off x="161856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8"/>
          <p:cNvSpPr/>
          <p:nvPr/>
        </p:nvSpPr>
        <p:spPr>
          <a:xfrm flipH="1">
            <a:off x="1116000" y="4581360"/>
            <a:ext cx="501840" cy="142920"/>
          </a:xfrm>
          <a:custGeom>
            <a:avLst/>
            <a:gdLst>
              <a:gd name="textAreaLeft" fmla="*/ 90720 w 501840"/>
              <a:gd name="textAreaRight" fmla="*/ 350280 w 5018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9"/>
          <p:cNvSpPr/>
          <p:nvPr/>
        </p:nvSpPr>
        <p:spPr>
          <a:xfrm>
            <a:off x="234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0"/>
          <p:cNvSpPr/>
          <p:nvPr/>
        </p:nvSpPr>
        <p:spPr>
          <a:xfrm>
            <a:off x="2918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1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2"/>
          <p:cNvSpPr/>
          <p:nvPr/>
        </p:nvSpPr>
        <p:spPr>
          <a:xfrm>
            <a:off x="342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4"/>
          <p:cNvSpPr/>
          <p:nvPr/>
        </p:nvSpPr>
        <p:spPr>
          <a:xfrm>
            <a:off x="1044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5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6"/>
          <p:cNvSpPr/>
          <p:nvPr/>
        </p:nvSpPr>
        <p:spPr>
          <a:xfrm>
            <a:off x="1837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7"/>
          <p:cNvSpPr/>
          <p:nvPr/>
        </p:nvSpPr>
        <p:spPr>
          <a:xfrm>
            <a:off x="3931920" y="4221000"/>
            <a:ext cx="114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51,6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7"/>
          <p:cNvSpPr/>
          <p:nvPr/>
        </p:nvSpPr>
        <p:spPr>
          <a:xfrm>
            <a:off x="1187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9"/>
          <p:cNvSpPr/>
          <p:nvPr/>
        </p:nvSpPr>
        <p:spPr>
          <a:xfrm>
            <a:off x="1121400" y="5157720"/>
            <a:ext cx="317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0"/>
          <p:cNvSpPr/>
          <p:nvPr/>
        </p:nvSpPr>
        <p:spPr>
          <a:xfrm flipH="1">
            <a:off x="1978920" y="5516640"/>
            <a:ext cx="646200" cy="144360"/>
          </a:xfrm>
          <a:custGeom>
            <a:avLst/>
            <a:gdLst>
              <a:gd name="textAreaLeft" fmla="*/ 116640 w 646200"/>
              <a:gd name="textAreaRight" fmla="*/ 450360 w 6462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1"/>
          <p:cNvSpPr/>
          <p:nvPr/>
        </p:nvSpPr>
        <p:spPr>
          <a:xfrm>
            <a:off x="2771640" y="5516640"/>
            <a:ext cx="720720" cy="144360"/>
          </a:xfrm>
          <a:custGeom>
            <a:avLst/>
            <a:gdLst>
              <a:gd name="textAreaLeft" fmla="*/ 129960 w 720720"/>
              <a:gd name="textAreaRight" fmla="*/ 502200 w 720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2"/>
          <p:cNvSpPr/>
          <p:nvPr/>
        </p:nvSpPr>
        <p:spPr>
          <a:xfrm>
            <a:off x="212616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3"/>
          <p:cNvSpPr/>
          <p:nvPr/>
        </p:nvSpPr>
        <p:spPr>
          <a:xfrm>
            <a:off x="2989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4"/>
          <p:cNvSpPr/>
          <p:nvPr/>
        </p:nvSpPr>
        <p:spPr>
          <a:xfrm flipH="1">
            <a:off x="1258200" y="5516640"/>
            <a:ext cx="717480" cy="144360"/>
          </a:xfrm>
          <a:custGeom>
            <a:avLst/>
            <a:gdLst>
              <a:gd name="textAreaLeft" fmla="*/ 129600 w 717480"/>
              <a:gd name="textAreaRight" fmla="*/ 500040 w 7174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5"/>
          <p:cNvSpPr/>
          <p:nvPr/>
        </p:nvSpPr>
        <p:spPr>
          <a:xfrm>
            <a:off x="147816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6"/>
          <p:cNvSpPr/>
          <p:nvPr/>
        </p:nvSpPr>
        <p:spPr>
          <a:xfrm>
            <a:off x="3421080" y="5518080"/>
            <a:ext cx="719280" cy="142920"/>
          </a:xfrm>
          <a:custGeom>
            <a:avLst/>
            <a:gdLst>
              <a:gd name="textAreaLeft" fmla="*/ 129960 w 719280"/>
              <a:gd name="textAreaRight" fmla="*/ 501120 w 719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356652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9"/>
          <p:cNvSpPr/>
          <p:nvPr/>
        </p:nvSpPr>
        <p:spPr>
          <a:xfrm>
            <a:off x="3637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0"/>
          <p:cNvSpPr/>
          <p:nvPr/>
        </p:nvSpPr>
        <p:spPr>
          <a:xfrm>
            <a:off x="4152600" y="5157720"/>
            <a:ext cx="11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8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81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системы счисления в шестнадцатеричную и обратн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ходе из восьмеричной системы счисления в шестнадцатеричную и обратно вначале производится перевод чисел из исходной системы счисления в двоичную, а затем – в конечную систем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30120" y="3284640"/>
            <a:ext cx="82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естнадцат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197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479520" y="4724280"/>
            <a:ext cx="775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113112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2348280" y="3860640"/>
            <a:ext cx="22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010111,0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6"/>
          <p:cNvSpPr/>
          <p:nvPr/>
        </p:nvSpPr>
        <p:spPr>
          <a:xfrm flipH="1">
            <a:off x="3203640" y="4149720"/>
            <a:ext cx="503280" cy="142920"/>
          </a:xfrm>
          <a:custGeom>
            <a:avLst/>
            <a:gdLst>
              <a:gd name="textAreaLeft" fmla="*/ 90720 w 503280"/>
              <a:gd name="textAreaRight" fmla="*/ 35064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7"/>
          <p:cNvSpPr/>
          <p:nvPr/>
        </p:nvSpPr>
        <p:spPr>
          <a:xfrm>
            <a:off x="3349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9"/>
          <p:cNvSpPr/>
          <p:nvPr/>
        </p:nvSpPr>
        <p:spPr>
          <a:xfrm>
            <a:off x="3851280" y="4149720"/>
            <a:ext cx="504720" cy="14436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39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414180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2"/>
          <p:cNvSpPr/>
          <p:nvPr/>
        </p:nvSpPr>
        <p:spPr>
          <a:xfrm flipH="1">
            <a:off x="269964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277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4"/>
          <p:cNvSpPr/>
          <p:nvPr/>
        </p:nvSpPr>
        <p:spPr>
          <a:xfrm>
            <a:off x="4492800" y="38815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7,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5"/>
          <p:cNvSpPr/>
          <p:nvPr/>
        </p:nvSpPr>
        <p:spPr>
          <a:xfrm>
            <a:off x="2126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6"/>
          <p:cNvSpPr/>
          <p:nvPr/>
        </p:nvSpPr>
        <p:spPr>
          <a:xfrm flipH="1">
            <a:off x="219492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7"/>
          <p:cNvSpPr/>
          <p:nvPr/>
        </p:nvSpPr>
        <p:spPr>
          <a:xfrm>
            <a:off x="234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133000" y="5300640"/>
            <a:ext cx="22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100011,1111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49"/>
          <p:cNvSpPr/>
          <p:nvPr/>
        </p:nvSpPr>
        <p:spPr>
          <a:xfrm flipH="1">
            <a:off x="2986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349236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04200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349452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3"/>
          <p:cNvSpPr/>
          <p:nvPr/>
        </p:nvSpPr>
        <p:spPr>
          <a:xfrm flipH="1">
            <a:off x="262656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702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385128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385344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8"/>
          <p:cNvSpPr/>
          <p:nvPr/>
        </p:nvSpPr>
        <p:spPr>
          <a:xfrm flipH="1">
            <a:off x="2194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341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3926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1"/>
          <p:cNvSpPr/>
          <p:nvPr/>
        </p:nvSpPr>
        <p:spPr>
          <a:xfrm>
            <a:off x="4292640" y="5300640"/>
            <a:ext cx="108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43,7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2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63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4"/>
          <p:cNvSpPr/>
          <p:nvPr/>
        </p:nvSpPr>
        <p:spPr>
          <a:xfrm>
            <a:off x="4554000" y="62564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выполнения основных арифметических операций в любой позиционной системе счисления подчиняются тем же законам, что и в десят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ложении цифры суммируются по разрядам, и если при этом возникает переполнение разряда, то производится перенос в старший разряд. Переполнение разряда наступает тогда, когда величина числа в нем становится равной или большей основания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читании из меньшей цифры большей в старшем разряде занимается единица, которая при переходе в младший разряд будет равна основанию системы счис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при умножении однозначных чисел возникает переполнение разряда, то в старший разряд переносится число кратное основанию системы счисления. 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, то есть сводится к операциям умножения и вычит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Сл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3"/>
          <p:cNvSpPr/>
          <p:nvPr/>
        </p:nvSpPr>
        <p:spPr>
          <a:xfrm>
            <a:off x="1908000" y="4076640"/>
            <a:ext cx="10796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>
            <a:off x="1763640" y="4076640"/>
            <a:ext cx="86364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0+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1547640" y="4076640"/>
            <a:ext cx="1079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26"/>
          <p:cNvSpPr/>
          <p:nvPr/>
        </p:nvSpPr>
        <p:spPr>
          <a:xfrm>
            <a:off x="1332000" y="4076640"/>
            <a:ext cx="129528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+0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4"/>
          <p:cNvSpPr/>
          <p:nvPr/>
        </p:nvSpPr>
        <p:spPr>
          <a:xfrm>
            <a:off x="1116000" y="4076640"/>
            <a:ext cx="1224000" cy="201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3"/>
          <p:cNvSpPr/>
          <p:nvPr/>
        </p:nvSpPr>
        <p:spPr>
          <a:xfrm>
            <a:off x="4716360" y="4003560"/>
            <a:ext cx="1150920" cy="36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+6=10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7"/>
          <p:cNvSpPr/>
          <p:nvPr/>
        </p:nvSpPr>
        <p:spPr>
          <a:xfrm>
            <a:off x="457200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5+3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0"/>
          <p:cNvSpPr/>
          <p:nvPr/>
        </p:nvSpPr>
        <p:spPr>
          <a:xfrm>
            <a:off x="4356000" y="4003560"/>
            <a:ext cx="1295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7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3"/>
          <p:cNvSpPr/>
          <p:nvPr/>
        </p:nvSpPr>
        <p:spPr>
          <a:xfrm>
            <a:off x="3997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"/>
          <p:cNvSpPr/>
          <p:nvPr/>
        </p:nvSpPr>
        <p:spPr>
          <a:xfrm>
            <a:off x="4140360" y="4003560"/>
            <a:ext cx="792000" cy="158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1"/>
          <p:cNvSpPr/>
          <p:nvPr/>
        </p:nvSpPr>
        <p:spPr>
          <a:xfrm>
            <a:off x="3638160" y="227664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86"/>
          <p:cNvSpPr/>
          <p:nvPr/>
        </p:nvSpPr>
        <p:spPr>
          <a:xfrm>
            <a:off x="7380360" y="4003560"/>
            <a:ext cx="1368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0"/>
          <p:cNvSpPr/>
          <p:nvPr/>
        </p:nvSpPr>
        <p:spPr>
          <a:xfrm>
            <a:off x="716436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93"/>
          <p:cNvSpPr/>
          <p:nvPr/>
        </p:nvSpPr>
        <p:spPr>
          <a:xfrm>
            <a:off x="6877080" y="4005360"/>
            <a:ext cx="1295280" cy="13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01"/>
          <p:cNvSpPr/>
          <p:nvPr/>
        </p:nvSpPr>
        <p:spPr>
          <a:xfrm>
            <a:off x="7993080" y="5661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чита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3"/>
          <p:cNvSpPr/>
          <p:nvPr/>
        </p:nvSpPr>
        <p:spPr>
          <a:xfrm>
            <a:off x="1908000" y="4076640"/>
            <a:ext cx="576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1763640" y="4076640"/>
            <a:ext cx="72072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0"/>
          <p:cNvSpPr/>
          <p:nvPr/>
        </p:nvSpPr>
        <p:spPr>
          <a:xfrm>
            <a:off x="1547640" y="4076640"/>
            <a:ext cx="792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4"/>
          <p:cNvSpPr/>
          <p:nvPr/>
        </p:nvSpPr>
        <p:spPr>
          <a:xfrm>
            <a:off x="1332000" y="4076640"/>
            <a:ext cx="79200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96"/>
          <p:cNvSpPr/>
          <p:nvPr/>
        </p:nvSpPr>
        <p:spPr>
          <a:xfrm>
            <a:off x="4572000" y="4149720"/>
            <a:ext cx="7920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7"/>
          <p:cNvSpPr/>
          <p:nvPr/>
        </p:nvSpPr>
        <p:spPr>
          <a:xfrm>
            <a:off x="4572360" y="4222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6-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0"/>
          <p:cNvSpPr/>
          <p:nvPr/>
        </p:nvSpPr>
        <p:spPr>
          <a:xfrm>
            <a:off x="4427640" y="4149720"/>
            <a:ext cx="7207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-4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03"/>
          <p:cNvSpPr/>
          <p:nvPr/>
        </p:nvSpPr>
        <p:spPr>
          <a:xfrm>
            <a:off x="4211640" y="414972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06"/>
          <p:cNvSpPr/>
          <p:nvPr/>
        </p:nvSpPr>
        <p:spPr>
          <a:xfrm>
            <a:off x="3995640" y="4149720"/>
            <a:ext cx="136836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+3-5=11-5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5"/>
          <p:cNvSpPr/>
          <p:nvPr/>
        </p:nvSpPr>
        <p:spPr>
          <a:xfrm>
            <a:off x="6946920" y="4221000"/>
            <a:ext cx="16574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4-12=20-1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9"/>
          <p:cNvSpPr/>
          <p:nvPr/>
        </p:nvSpPr>
        <p:spPr>
          <a:xfrm>
            <a:off x="6659640" y="4221000"/>
            <a:ext cx="208908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22"/>
          <p:cNvSpPr/>
          <p:nvPr/>
        </p:nvSpPr>
        <p:spPr>
          <a:xfrm>
            <a:off x="6372360" y="429264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99"/>
          <p:cNvSpPr/>
          <p:nvPr/>
        </p:nvSpPr>
        <p:spPr>
          <a:xfrm>
            <a:off x="6442560" y="4508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9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мн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75"/>
          <p:cNvSpPr/>
          <p:nvPr/>
        </p:nvSpPr>
        <p:spPr>
          <a:xfrm>
            <a:off x="1763640" y="5157720"/>
            <a:ext cx="12956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78"/>
          <p:cNvSpPr/>
          <p:nvPr/>
        </p:nvSpPr>
        <p:spPr>
          <a:xfrm>
            <a:off x="1619280" y="5157720"/>
            <a:ext cx="14414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3"/>
          <p:cNvSpPr/>
          <p:nvPr/>
        </p:nvSpPr>
        <p:spPr>
          <a:xfrm>
            <a:off x="1403280" y="5157720"/>
            <a:ext cx="100800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7"/>
          <p:cNvSpPr/>
          <p:nvPr/>
        </p:nvSpPr>
        <p:spPr>
          <a:xfrm>
            <a:off x="5778720" y="344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8"/>
          <p:cNvSpPr/>
          <p:nvPr/>
        </p:nvSpPr>
        <p:spPr>
          <a:xfrm>
            <a:off x="5651640" y="359244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98"/>
          <p:cNvSpPr/>
          <p:nvPr/>
        </p:nvSpPr>
        <p:spPr>
          <a:xfrm>
            <a:off x="6443640" y="4437000"/>
            <a:ext cx="11527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3"/>
          <p:cNvSpPr/>
          <p:nvPr/>
        </p:nvSpPr>
        <p:spPr>
          <a:xfrm>
            <a:off x="6227640" y="4437000"/>
            <a:ext cx="194472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5"/>
          <p:cNvSpPr/>
          <p:nvPr/>
        </p:nvSpPr>
        <p:spPr>
          <a:xfrm>
            <a:off x="6223680" y="47973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1=19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2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07"/>
          <p:cNvSpPr/>
          <p:nvPr/>
        </p:nvSpPr>
        <p:spPr>
          <a:xfrm>
            <a:off x="6012000" y="4437000"/>
            <a:ext cx="10080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9"/>
          <p:cNvSpPr/>
          <p:nvPr/>
        </p:nvSpPr>
        <p:spPr>
          <a:xfrm>
            <a:off x="6011640" y="5084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2=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6227640" y="465300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17"/>
          <p:cNvSpPr/>
          <p:nvPr/>
        </p:nvSpPr>
        <p:spPr>
          <a:xfrm>
            <a:off x="6152760" y="458136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18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8∙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18"/>
          <p:cNvSpPr/>
          <p:nvPr/>
        </p:nvSpPr>
        <p:spPr>
          <a:xfrm>
            <a:off x="6084720" y="4653000"/>
            <a:ext cx="2016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19"/>
          <p:cNvSpPr/>
          <p:nvPr/>
        </p:nvSpPr>
        <p:spPr>
          <a:xfrm>
            <a:off x="6080760" y="4941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6+2=38=3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4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20"/>
          <p:cNvSpPr/>
          <p:nvPr/>
        </p:nvSpPr>
        <p:spPr>
          <a:xfrm>
            <a:off x="5867280" y="4653000"/>
            <a:ext cx="15843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24"/>
          <p:cNvSpPr/>
          <p:nvPr/>
        </p:nvSpPr>
        <p:spPr>
          <a:xfrm>
            <a:off x="5865480" y="52293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1+4=10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27"/>
          <p:cNvSpPr/>
          <p:nvPr/>
        </p:nvSpPr>
        <p:spPr>
          <a:xfrm>
            <a:off x="6012000" y="4869000"/>
            <a:ext cx="1224000" cy="57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28"/>
          <p:cNvSpPr/>
          <p:nvPr/>
        </p:nvSpPr>
        <p:spPr>
          <a:xfrm>
            <a:off x="6084000" y="5084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+5=11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1"/>
          <p:cNvSpPr/>
          <p:nvPr/>
        </p:nvSpPr>
        <p:spPr>
          <a:xfrm>
            <a:off x="320616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7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1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Дел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731200" y="537372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63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9"/>
          <p:cNvSpPr/>
          <p:nvPr/>
        </p:nvSpPr>
        <p:spPr>
          <a:xfrm>
            <a:off x="2195640" y="3500280"/>
            <a:ext cx="72072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60"/>
          <p:cNvSpPr/>
          <p:nvPr/>
        </p:nvSpPr>
        <p:spPr>
          <a:xfrm>
            <a:off x="6443640" y="3573360"/>
            <a:ext cx="71928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6"/>
          <p:cNvSpPr/>
          <p:nvPr/>
        </p:nvSpPr>
        <p:spPr>
          <a:xfrm>
            <a:off x="5345280" y="352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7"/>
          <p:cNvSpPr/>
          <p:nvPr/>
        </p:nvSpPr>
        <p:spPr>
          <a:xfrm>
            <a:off x="6589800" y="3500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8"/>
          <p:cNvSpPr/>
          <p:nvPr/>
        </p:nvSpPr>
        <p:spPr>
          <a:xfrm>
            <a:off x="6518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9"/>
          <p:cNvSpPr/>
          <p:nvPr/>
        </p:nvSpPr>
        <p:spPr>
          <a:xfrm>
            <a:off x="5365800" y="378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0"/>
          <p:cNvSpPr/>
          <p:nvPr/>
        </p:nvSpPr>
        <p:spPr>
          <a:xfrm>
            <a:off x="52927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81"/>
          <p:cNvSpPr/>
          <p:nvPr/>
        </p:nvSpPr>
        <p:spPr>
          <a:xfrm>
            <a:off x="543564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2"/>
          <p:cNvSpPr/>
          <p:nvPr/>
        </p:nvSpPr>
        <p:spPr>
          <a:xfrm>
            <a:off x="5797800" y="414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3"/>
          <p:cNvSpPr/>
          <p:nvPr/>
        </p:nvSpPr>
        <p:spPr>
          <a:xfrm>
            <a:off x="6158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84"/>
          <p:cNvSpPr/>
          <p:nvPr/>
        </p:nvSpPr>
        <p:spPr>
          <a:xfrm>
            <a:off x="6734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5"/>
          <p:cNvSpPr/>
          <p:nvPr/>
        </p:nvSpPr>
        <p:spPr>
          <a:xfrm>
            <a:off x="5797800" y="4437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86"/>
          <p:cNvSpPr/>
          <p:nvPr/>
        </p:nvSpPr>
        <p:spPr>
          <a:xfrm>
            <a:off x="572436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87"/>
          <p:cNvSpPr/>
          <p:nvPr/>
        </p:nvSpPr>
        <p:spPr>
          <a:xfrm>
            <a:off x="5867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88"/>
          <p:cNvSpPr/>
          <p:nvPr/>
        </p:nvSpPr>
        <p:spPr>
          <a:xfrm>
            <a:off x="6158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89"/>
          <p:cNvSpPr/>
          <p:nvPr/>
        </p:nvSpPr>
        <p:spPr>
          <a:xfrm>
            <a:off x="766764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0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1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в компьютере могут храниться в формате с фиксированной   запятой – целые числа и в формате с плавающей запятой – веществе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468360" y="2565360"/>
            <a:ext cx="8209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 занимают в памяти один или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 занимают в памяти компьютера один, два или     четыре байта, при этом самый левый (старший) разряд содержит информацию о знак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три формы записи (кодирования) целых чисел со знаком: прям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обрат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дополнитель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755640" y="2708280"/>
            <a:ext cx="7435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енные числа хранятся и обрабатываются в компьютере в формате с плавающей запятой. Этот формат базируется на экспоненциальной форме записи, в которой может быть представлено люб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вокупность правил наименования и изображения чисел с помощью  набора символов, называемых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9242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508640"/>
            <a:ext cx="374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каждой цифры числа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0,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643280" y="450864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цифры числа не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900000" y="3357720"/>
            <a:ext cx="2664000" cy="9363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932360" y="3429000"/>
            <a:ext cx="2664000" cy="936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Не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2916360" y="1773360"/>
            <a:ext cx="2663640" cy="10080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 rot="9246000">
            <a:off x="2434680" y="2889000"/>
            <a:ext cx="903240" cy="360360"/>
          </a:xfrm>
          <a:custGeom>
            <a:avLst/>
            <a:gdLst>
              <a:gd name="textAreaLeft" fmla="*/ 112680 w 903240"/>
              <a:gd name="textAreaRight" fmla="*/ 790560 w 9032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177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 rot="2232600">
            <a:off x="5003280" y="2924280"/>
            <a:ext cx="903600" cy="360360"/>
          </a:xfrm>
          <a:custGeom>
            <a:avLst/>
            <a:gdLst>
              <a:gd name="textAreaLeft" fmla="*/ 112680 w 903600"/>
              <a:gd name="textAreaRight" fmla="*/ 790920 w 9036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3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8595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в компьютере могут представляться 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один или два б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71640" y="2852640"/>
          <a:ext cx="7489800" cy="1468440"/>
        </p:xfrm>
        <a:graphic>
          <a:graphicData uri="http://schemas.openxmlformats.org/drawingml/2006/table">
            <a:tbl>
              <a:tblPr/>
              <a:tblGrid>
                <a:gridCol w="2663640"/>
                <a:gridCol w="2376720"/>
                <a:gridCol w="24494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Text Box 24"/>
          <p:cNvSpPr/>
          <p:nvPr/>
        </p:nvSpPr>
        <p:spPr>
          <a:xfrm>
            <a:off x="1135440" y="4581360"/>
            <a:ext cx="62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7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340000" y="515772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0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179280" y="3213000"/>
          <a:ext cx="8569440" cy="1702080"/>
        </p:xfrm>
        <a:graphic>
          <a:graphicData uri="http://schemas.openxmlformats.org/drawingml/2006/table">
            <a:tbl>
              <a:tblPr/>
              <a:tblGrid>
                <a:gridCol w="2664000"/>
                <a:gridCol w="2160360"/>
                <a:gridCol w="3745080"/>
              </a:tblGrid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…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68 …32 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47 483 648 …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компьютера один, два или     четыре байта, при этом самый левый (старший) разряд содержит информацию о знаке числа. Знак «плюс» кодируется нулем, а «минус» - един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0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558720" y="3716280"/>
            <a:ext cx="61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111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1619280" y="429264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Text Box 41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2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3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4"/>
          <p:cNvSpPr/>
          <p:nvPr/>
        </p:nvSpPr>
        <p:spPr>
          <a:xfrm>
            <a:off x="324000" y="1535040"/>
            <a:ext cx="8135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зображаются одинаково – двоичными кодами с цифрой 0 в знаковом разря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5"/>
          <p:cNvSpPr/>
          <p:nvPr/>
        </p:nvSpPr>
        <p:spPr>
          <a:xfrm>
            <a:off x="1908000" y="4653000"/>
            <a:ext cx="21592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2104200" y="51055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38" dur="indefinite" restart="never" nodeType="tmRoot">
          <p:childTnLst>
            <p:seq>
              <p:cTn id="2739" dur="indefinite" nodeType="mainSeq">
                <p:childTnLst>
                  <p:par>
                    <p:cTn id="2740" fill="hold">
                      <p:stCondLst>
                        <p:cond delay="0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8" dur="20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7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324000" y="1535040"/>
            <a:ext cx="8569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меют разное изображени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39640" y="2276640"/>
            <a:ext cx="828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знаковый разряд помещается цифра 1, а в разряды  цифровой части числа – двоичный код его абсолют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2485800" y="3860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395280" y="1844640"/>
            <a:ext cx="842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ля образования обратного кода отрицательного двоичного числа необходимо в знаковом разряде поставить 1, а в цифровых разрядах единицы заменить нулями, а нули  - еди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2485440" y="3860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7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68360" y="17002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ицательного числа получается образованием обратного кода с последующим прибавлением единицы к его младшему разря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2484720" y="386064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0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4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9"/>
          <p:cNvSpPr/>
          <p:nvPr/>
        </p:nvSpPr>
        <p:spPr>
          <a:xfrm>
            <a:off x="539640" y="2276640"/>
            <a:ext cx="81360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десятичные числа при вводе в компьютер автоматиче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ются в обратный или дополнительный код и в таком виде хранятся, перемещаются и участвуют в опер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воде таких чисел из компьютера происходит обратное преобразование в отрицательные десяти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20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539640" y="1844640"/>
            <a:ext cx="813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записать в ви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М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нтисс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исла, 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ой способ записи чисел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числа с плавающей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11280" y="4292640"/>
            <a:ext cx="8207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представление вещественных чисел называется нормализ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у и поряд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ного числа записывают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амо основание – в десятич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611280" y="3429000"/>
            <a:ext cx="792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а должна быть правильной дробью, первая цифра которой  отлична от н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61" dur="indefinite" restart="never" nodeType="tmRoot">
          <p:childTnLst>
            <p:seq>
              <p:cTn id="2862" dur="indefinite" nodeType="mainSeq">
                <p:childTnLst>
                  <p:par>
                    <p:cTn id="2863" fill="hold">
                      <p:stCondLst>
                        <p:cond delay="0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7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2124000" y="162864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ы веществе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574560" y="2492280"/>
          <a:ext cx="8101080" cy="2246400"/>
        </p:xfrm>
        <a:graphic>
          <a:graphicData uri="http://schemas.openxmlformats.org/drawingml/2006/table">
            <a:tbl>
              <a:tblPr/>
              <a:tblGrid>
                <a:gridCol w="2043360"/>
                <a:gridCol w="3825720"/>
                <a:gridCol w="2232000"/>
              </a:tblGrid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абсолютных зна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93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0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0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755640" y="198900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анении числа с плавающей точкой отводятся разряды для мантиссы, порядка, знака числа и знака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468360" y="357336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Freeform 95"/>
          <p:cNvSpPr/>
          <p:nvPr/>
        </p:nvSpPr>
        <p:spPr>
          <a:xfrm>
            <a:off x="684360" y="4365720"/>
            <a:ext cx="1439640" cy="17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96"/>
          <p:cNvSpPr/>
          <p:nvPr/>
        </p:nvSpPr>
        <p:spPr>
          <a:xfrm>
            <a:off x="756720" y="5589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7"/>
          <p:cNvSpPr/>
          <p:nvPr/>
        </p:nvSpPr>
        <p:spPr>
          <a:xfrm>
            <a:off x="1258920" y="4365720"/>
            <a:ext cx="1657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98"/>
          <p:cNvSpPr/>
          <p:nvPr/>
        </p:nvSpPr>
        <p:spPr>
          <a:xfrm>
            <a:off x="1405080" y="5013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00"/>
          <p:cNvSpPr/>
          <p:nvPr/>
        </p:nvSpPr>
        <p:spPr>
          <a:xfrm rot="5400000">
            <a:off x="2879640" y="1952280"/>
            <a:ext cx="360360" cy="288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1"/>
          <p:cNvSpPr/>
          <p:nvPr/>
        </p:nvSpPr>
        <p:spPr>
          <a:xfrm>
            <a:off x="2629440" y="28526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03"/>
          <p:cNvSpPr/>
          <p:nvPr/>
        </p:nvSpPr>
        <p:spPr>
          <a:xfrm rot="5400000">
            <a:off x="6480000" y="144900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4"/>
          <p:cNvSpPr/>
          <p:nvPr/>
        </p:nvSpPr>
        <p:spPr>
          <a:xfrm>
            <a:off x="6013800" y="2852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5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зиционны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5183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озиционная система счисления была придумана еще в Древнем Вавилоне, причем вавилонская нумерация бы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идеся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в ней использовалось шестьдесят циф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довольно широкое распространение получи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наиболее распростране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ьм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484360" y="1413000"/>
            <a:ext cx="6048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сль – выражать все числа немногими знаками, придавая им значение по форме, ещё значение по месту, настолько проста, что именно из-за этой простоты трудно оценить, насколько она удивитель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11960" y="29973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Симон Лап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755640" y="198900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0,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100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6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7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58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9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0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1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4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826920" y="1844640"/>
            <a:ext cx="7848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0,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рицательный порядок записан в дополнительном ко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5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6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7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8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9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0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1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63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6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5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23" dur="indefinite" restart="never" nodeType="tmRoot">
          <p:childTnLst>
            <p:seq>
              <p:cTn id="3024" dur="indefinite" nodeType="mainSeq">
                <p:childTnLst>
                  <p:par>
                    <p:cTn id="3025" fill="hold">
                      <p:stCondLst>
                        <p:cond delay="0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8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азличных символов, используемых для изображения числа в позиционных системах счисления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м системы счис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и цифр называются разря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системы счисления показывает во сколько раз изменяется количественное значение цифры при перемещении её на соседнюю пози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снование системы можно принять любое натураль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ы используют двоичную систему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её реализации  нужны технические устройства с двумя устойчивыми состоя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с помощью только двух состояний надежно и помехоустойчи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именение аппарата булевой алгебры для выполнения логических преобраз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много проще десят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26920" y="2060640"/>
            <a:ext cx="77932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, удобная для компьютера, для человека неудобна из-за её громоздкости и непривычной записи. Для того, чтобы понимать слово компьютера, разработаны восьмеричная и шестнадцатеричная системы счисления. Числа в этих системах требуют в 3/4 раза меньше разрядов, чем в двоич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чисел в каждой из систем счисления с основа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щенную запись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истемы счислени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число целых и дробных разрядов соответ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3933720"/>
          <a:ext cx="8208720" cy="2041560"/>
        </p:xfrm>
        <a:graphic>
          <a:graphicData uri="http://schemas.openxmlformats.org/drawingml/2006/table">
            <a:tbl>
              <a:tblPr/>
              <a:tblGrid>
                <a:gridCol w="2447640"/>
                <a:gridCol w="1368720"/>
                <a:gridCol w="4392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ответствие систем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700280"/>
          <a:ext cx="8569080" cy="1446120"/>
        </p:xfrm>
        <a:graphic>
          <a:graphicData uri="http://schemas.openxmlformats.org/drawingml/2006/table">
            <a:tbl>
              <a:tblPr/>
              <a:tblGrid>
                <a:gridCol w="2160360"/>
                <a:gridCol w="648000"/>
                <a:gridCol w="720720"/>
                <a:gridCol w="647640"/>
                <a:gridCol w="792000"/>
                <a:gridCol w="900000"/>
                <a:gridCol w="900360"/>
                <a:gridCol w="900000"/>
                <a:gridCol w="90000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55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4005360"/>
          <a:ext cx="8569080" cy="1630440"/>
        </p:xfrm>
        <a:graphic>
          <a:graphicData uri="http://schemas.openxmlformats.org/drawingml/2006/table">
            <a:tbl>
              <a:tblPr/>
              <a:tblGrid>
                <a:gridCol w="1873080"/>
                <a:gridCol w="719280"/>
                <a:gridCol w="720720"/>
                <a:gridCol w="863640"/>
                <a:gridCol w="720720"/>
                <a:gridCol w="718920"/>
                <a:gridCol w="720720"/>
                <a:gridCol w="720720"/>
                <a:gridCol w="711360"/>
                <a:gridCol w="7999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16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5"/>
          <p:cNvSpPr/>
          <p:nvPr/>
        </p:nvSpPr>
        <p:spPr>
          <a:xfrm>
            <a:off x="46836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делить с остатком данное число и получаемые це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частное не станет равно ну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остатки выразить цифрами алфавита новой системы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число в новой системе счисления из полученных остатков, начиная с посл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50:45Z</dcterms:created>
  <dc:creator>Компик № 10</dc:creator>
  <dc:description/>
  <dc:language>en-US</dc:language>
  <cp:lastModifiedBy>school</cp:lastModifiedBy>
  <dcterms:modified xsi:type="dcterms:W3CDTF">2011-01-13T11:57:31Z</dcterms:modified>
  <cp:revision>77</cp:revision>
  <dc:subject/>
  <dc:title>Арифметические основы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