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gif" ContentType="image/gif"/>
  <Override PartName="/ppt/media/image19.gif" ContentType="image/gif"/>
  <Override PartName="/ppt/media/image10.png" ContentType="image/png"/>
  <Override PartName="/ppt/media/image18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3.png" ContentType="image/png"/>
  <Override PartName="/ppt/media/image4.png" ContentType="image/png"/>
  <Override PartName="/ppt/media/image9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D766-1197-495C-A0AB-6B515D3B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C00-2545-433A-B3B6-5C013E67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61F-C3F6-4703-8DEF-62BF949A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272-9BB6-47F5-B9C4-5384A36D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EF4-3082-4D86-844A-268D7915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D53E-AAD3-4DB1-9395-EB377063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92B-4A0B-4AB8-BB89-52971F71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9C9F-FFF0-4F83-9F57-C05F39EB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85C-081F-4242-8B4B-513E9C08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F19-285E-4423-8B01-A0CE7255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17B2-F2F7-4A7E-818F-2AB3C389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9AB-B3F6-4E16-A648-0E45E847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3000-55F0-44C5-AD84-37B8120130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43000" y="685800"/>
            <a:ext cx="67057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заци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3733920" y="4419720"/>
            <a:ext cx="5410080" cy="1572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ила: учитель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ОУ «Бурлинская С(п)ОШ № 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елкина Екатерина Вита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1828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нят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исполнитель алгоритма должен знать, как его выполня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3200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Дискpетность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—  алгоpитм должен пpедставлять пpоцесс pешения задачи как последовательное выполнение пpостых шаг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001000" cy="1676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пpеделен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— каждое пpавило алгоpитма должно быть четким и однознач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2286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Pезультатив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алгоpитм должен пpиводить к pешению задачи за конечное число шаг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Массовост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лгоpитм pешения задачи pазpабатывается в общем виде, т.е. он должен быть пpименим для некотоpого класса задач, pазличающихся лишь исходными данным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Является ли пример алгоритмом для вас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01000" cy="2743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 вышли к доске, взяв мел в правую руку, вам сказали написать слово «информатика» на китайском язы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особы записи алгоритм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ловес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апись на естественном язык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рафически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зображения из графических символ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грамм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ексты на языках программирования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лок-сх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это графическое изображение алгоритма в виде определенным образом связанных между собой нескольких типов бл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ипы бло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начала (конц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ввода (вывода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действ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4876920" y="1676520"/>
            <a:ext cx="15238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800600" y="2438280"/>
            <a:ext cx="129528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419720" y="3505320"/>
            <a:ext cx="16002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4267080" y="4267080"/>
            <a:ext cx="18288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3"/>
          <p:cNvSpPr txBox="1"/>
          <p:nvPr/>
        </p:nvSpPr>
        <p:spPr>
          <a:xfrm>
            <a:off x="1371600" y="990720"/>
            <a:ext cx="6400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нейный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6" descr="2cb7eeabefcfe4c62c18a4877815be48"/>
          <p:cNvPicPr/>
          <p:nvPr/>
        </p:nvPicPr>
        <p:blipFill>
          <a:blip r:embed="rId5"/>
          <a:stretch/>
        </p:blipFill>
        <p:spPr>
          <a:xfrm>
            <a:off x="1828800" y="5181480"/>
            <a:ext cx="5638680" cy="9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143000" y="15228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страничка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и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6"/>
          <a:stretch/>
        </p:blipFill>
        <p:spPr>
          <a:xfrm>
            <a:off x="7543800" y="0"/>
            <a:ext cx="1428840" cy="104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7"/>
          <a:stretch/>
        </p:blipFill>
        <p:spPr>
          <a:xfrm>
            <a:off x="228600" y="1752480"/>
            <a:ext cx="1442880" cy="2133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6" name="Text Box 10"/>
          <p:cNvSpPr/>
          <p:nvPr/>
        </p:nvSpPr>
        <p:spPr>
          <a:xfrm>
            <a:off x="2209680" y="1600200"/>
            <a:ext cx="6705720" cy="4505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алгоритм» происходит от имени великого среднеазиатского ученого 8–9 вв. Аль-Хорез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математических работ Аль-Хорезми до нас дошли только две – алгебраическая и арифметическая. Вторая книга долгое время считалась потерянной,    но в 1857 в библиотеке Кембриджского университета был найден ее перевод на латинский язык. В ней описаны четыре правила арифметических действий, практически те же, что используются и сейчас. Первые строки этой книги были переведены так: «Сказал Алгоритми. Воздадим должную хвалу Богу, нашему вождю и защитнику». Так имя Аль-Хорезми перешло в «Алгоритми», откуда и появилось слово «алгоритм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518148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Линейный алгорит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алгоритм,      в котором команды выполняются последовательно одна за друг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5878440" y="914400"/>
            <a:ext cx="2960640" cy="47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линейного алгоритм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64832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4648320" y="3276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4724280" y="5562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3581280" y="2590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581280" y="2666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3581280" y="3733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3581280" y="4876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1280" y="4952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505320" y="3809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1"/>
          <p:cNvSpPr/>
          <p:nvPr/>
        </p:nvSpPr>
        <p:spPr>
          <a:xfrm>
            <a:off x="3581280" y="1828800"/>
            <a:ext cx="21337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"/>
          <p:cNvSpPr/>
          <p:nvPr/>
        </p:nvSpPr>
        <p:spPr>
          <a:xfrm>
            <a:off x="3657600" y="6019920"/>
            <a:ext cx="20574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3"/>
          <p:cNvSpPr txBox="1"/>
          <p:nvPr/>
        </p:nvSpPr>
        <p:spPr>
          <a:xfrm>
            <a:off x="171360" y="685800"/>
            <a:ext cx="8801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 структу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ветвление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5" descr="017bf986131d38cf0c81d62c498a15ac"/>
          <p:cNvPicPr/>
          <p:nvPr/>
        </p:nvPicPr>
        <p:blipFill>
          <a:blip r:embed="rId6"/>
          <a:stretch/>
        </p:blipFill>
        <p:spPr>
          <a:xfrm>
            <a:off x="2438280" y="5154480"/>
            <a:ext cx="5029200" cy="75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4800600" cy="6096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Разветвляющийся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алгорит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котором 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 и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выполня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зависим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истинности усло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181480" y="1273320"/>
            <a:ext cx="3886200" cy="375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ет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H="1">
            <a:off x="3047760" y="76212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5943600" y="685800"/>
            <a:ext cx="5335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52280" y="1371600"/>
            <a:ext cx="44960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ач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724280" y="1371600"/>
            <a:ext cx="42674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е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7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68580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5943600" y="3429000"/>
            <a:ext cx="29718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60199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69343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6095880" y="29718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6934320" y="297180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867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3"/>
          <p:cNvSpPr txBox="1"/>
          <p:nvPr/>
        </p:nvSpPr>
        <p:spPr>
          <a:xfrm>
            <a:off x="361800" y="914400"/>
            <a:ext cx="87822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лови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ветвляющихс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ах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Picture 4" descr="2f166dd4c9fe073ed057e5fcef810595"/>
          <p:cNvPicPr/>
          <p:nvPr/>
        </p:nvPicPr>
        <p:blipFill>
          <a:blip r:embed="rId7"/>
          <a:stretch/>
        </p:blipFill>
        <p:spPr>
          <a:xfrm>
            <a:off x="2971800" y="5257800"/>
            <a:ext cx="3276720" cy="6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95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Условие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это 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ысказывание, которое может быть либо истинным, либо лож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5257800" y="434340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3123720" y="43434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523880" y="5029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638680" y="5029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609480" y="68580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: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 и его свойств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Picture 7" descr="15552aa2a0dd4def48a842e2c902f993"/>
          <p:cNvPicPr/>
          <p:nvPr/>
        </p:nvPicPr>
        <p:blipFill>
          <a:blip r:embed="rId5"/>
          <a:stretch/>
        </p:blipFill>
        <p:spPr>
          <a:xfrm>
            <a:off x="1143000" y="5029200"/>
            <a:ext cx="678168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рост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ключает в себя одно предложение; два числа, две переменных или два арифметических выражения, которые сравниваются между соб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Идет дожд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4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3+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Сложн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790640"/>
            <a:ext cx="8458200" cy="4221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овательность простых условий, объединенных между собой знаками логических операц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(OR)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0)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8&gt;9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=10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x&gt;=0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77320" cy="4724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строить блок-схему разветвляющегося алгоритма, используя сложное условие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инадлежит ли точка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]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и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не отрезка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адлежит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или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c, 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хзначным чис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из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является меньши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и среди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аимно противополож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ы ли треугольники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1, b1, c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2, b2, c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четырехугольник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ом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 &gt; b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(x&gt;=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&lt;=b)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(x&gt;=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&lt;=d)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k &gt; 99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k &lt; 1000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c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 &gt; a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-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a=-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-c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1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c=d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c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619200" y="1143000"/>
            <a:ext cx="790560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выбор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Picture 5" descr="308be76fd8381f6e697285c785c64f94"/>
          <p:cNvPicPr/>
          <p:nvPr/>
        </p:nvPicPr>
        <p:blipFill>
          <a:blip r:embed="rId6"/>
          <a:stretch/>
        </p:blipFill>
        <p:spPr>
          <a:xfrm>
            <a:off x="3352680" y="4361040"/>
            <a:ext cx="3505320" cy="129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221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ыбор 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полняется одна из нескольких последовательностей команд при истинности соответствующего услов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762120" y="1981080"/>
            <a:ext cx="8076960" cy="3810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ач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йствия N+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Не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3276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243828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2438280" y="61722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43828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2438280" y="3886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1066680" y="2209680"/>
            <a:ext cx="2743200" cy="762120"/>
            <a:chOff x="1066680" y="2209680"/>
            <a:chExt cx="2743200" cy="762120"/>
          </a:xfrm>
        </p:grpSpPr>
        <p:sp>
          <p:nvSpPr>
            <p:cNvPr id="181" name="AutoShape 8"/>
            <p:cNvSpPr/>
            <p:nvPr/>
          </p:nvSpPr>
          <p:spPr>
            <a:xfrm>
              <a:off x="106668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160020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0"/>
          <p:cNvSpPr/>
          <p:nvPr/>
        </p:nvSpPr>
        <p:spPr>
          <a:xfrm>
            <a:off x="7391520" y="4648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739152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438280" y="64008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8305920" y="251460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657600" y="1905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0"/>
          <p:cNvGrpSpPr/>
          <p:nvPr/>
        </p:nvGrpSpPr>
        <p:grpSpPr>
          <a:xfrm>
            <a:off x="1066680" y="4343400"/>
            <a:ext cx="2743200" cy="762120"/>
            <a:chOff x="1066680" y="4343400"/>
            <a:chExt cx="2743200" cy="762120"/>
          </a:xfrm>
        </p:grpSpPr>
        <p:sp>
          <p:nvSpPr>
            <p:cNvPr id="189" name="AutoShape 21"/>
            <p:cNvSpPr/>
            <p:nvPr/>
          </p:nvSpPr>
          <p:spPr>
            <a:xfrm>
              <a:off x="1066680" y="43434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2"/>
            <p:cNvSpPr/>
            <p:nvPr/>
          </p:nvSpPr>
          <p:spPr>
            <a:xfrm>
              <a:off x="1600200" y="44960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23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8"/>
          <p:cNvSpPr/>
          <p:nvPr/>
        </p:nvSpPr>
        <p:spPr>
          <a:xfrm>
            <a:off x="4572000" y="22096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4956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0"/>
          <p:cNvSpPr/>
          <p:nvPr/>
        </p:nvSpPr>
        <p:spPr>
          <a:xfrm>
            <a:off x="4495680" y="43434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44956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42900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3"/>
          <p:cNvSpPr/>
          <p:nvPr/>
        </p:nvSpPr>
        <p:spPr>
          <a:xfrm>
            <a:off x="3809880" y="47242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1905120" y="3352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114300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137160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8"/>
          <p:cNvSpPr/>
          <p:nvPr/>
        </p:nvSpPr>
        <p:spPr>
          <a:xfrm>
            <a:off x="1066680" y="5562720"/>
            <a:ext cx="32767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9"/>
          <p:cNvSpPr/>
          <p:nvPr/>
        </p:nvSpPr>
        <p:spPr>
          <a:xfrm>
            <a:off x="11430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82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имер 1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шение квадратного уравн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Найти дискриминант по формул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йти первы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1=(-b+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йти второ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2=(-b-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Записа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6553080" y="1562040"/>
                <a:ext cx="2013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60020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600200" y="6324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160020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0"/>
          <p:cNvGrpSpPr/>
          <p:nvPr/>
        </p:nvGrpSpPr>
        <p:grpSpPr>
          <a:xfrm>
            <a:off x="228600" y="2209680"/>
            <a:ext cx="2743200" cy="762120"/>
            <a:chOff x="228600" y="2209680"/>
            <a:chExt cx="2743200" cy="762120"/>
          </a:xfrm>
        </p:grpSpPr>
        <p:sp>
          <p:nvSpPr>
            <p:cNvPr id="210" name="AutoShape 2"/>
            <p:cNvSpPr/>
            <p:nvPr/>
          </p:nvSpPr>
          <p:spPr>
            <a:xfrm>
              <a:off x="22860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76212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12"/>
          <p:cNvSpPr/>
          <p:nvPr/>
        </p:nvSpPr>
        <p:spPr>
          <a:xfrm>
            <a:off x="6553080" y="38098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6705720" y="259092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1600200" y="6477120"/>
            <a:ext cx="586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>
            <a:off x="7467480" y="259092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2819520" y="2057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04920" y="2895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1"/>
          <p:cNvGrpSpPr/>
          <p:nvPr/>
        </p:nvGrpSpPr>
        <p:grpSpPr>
          <a:xfrm>
            <a:off x="228600" y="3429000"/>
            <a:ext cx="2743200" cy="762120"/>
            <a:chOff x="228600" y="3429000"/>
            <a:chExt cx="2743200" cy="762120"/>
          </a:xfrm>
        </p:grpSpPr>
        <p:sp>
          <p:nvSpPr>
            <p:cNvPr id="219" name="AutoShape 22"/>
            <p:cNvSpPr/>
            <p:nvPr/>
          </p:nvSpPr>
          <p:spPr>
            <a:xfrm>
              <a:off x="228600" y="34290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762120" y="35816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24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8"/>
          <p:cNvGrpSpPr/>
          <p:nvPr/>
        </p:nvGrpSpPr>
        <p:grpSpPr>
          <a:xfrm>
            <a:off x="228600" y="5562720"/>
            <a:ext cx="2743200" cy="761760"/>
            <a:chOff x="228600" y="5562720"/>
            <a:chExt cx="2743200" cy="761760"/>
          </a:xfrm>
        </p:grpSpPr>
        <p:sp>
          <p:nvSpPr>
            <p:cNvPr id="223" name="AutoShape 29"/>
            <p:cNvSpPr/>
            <p:nvPr/>
          </p:nvSpPr>
          <p:spPr>
            <a:xfrm>
              <a:off x="228600" y="5562720"/>
              <a:ext cx="2743200" cy="76176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0"/>
            <p:cNvSpPr/>
            <p:nvPr/>
          </p:nvSpPr>
          <p:spPr>
            <a:xfrm>
              <a:off x="762120" y="5715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Line 31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2"/>
          <p:cNvSpPr/>
          <p:nvPr/>
        </p:nvSpPr>
        <p:spPr>
          <a:xfrm>
            <a:off x="3733920" y="3505320"/>
            <a:ext cx="281916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3"/>
          <p:cNvSpPr/>
          <p:nvPr/>
        </p:nvSpPr>
        <p:spPr>
          <a:xfrm>
            <a:off x="3809880" y="358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2819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5"/>
          <p:cNvSpPr/>
          <p:nvPr/>
        </p:nvSpPr>
        <p:spPr>
          <a:xfrm>
            <a:off x="3048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3809880" y="2286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7"/>
          <p:cNvSpPr/>
          <p:nvPr/>
        </p:nvSpPr>
        <p:spPr>
          <a:xfrm>
            <a:off x="3733920" y="2362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0"/>
          <p:cNvSpPr/>
          <p:nvPr/>
        </p:nvSpPr>
        <p:spPr>
          <a:xfrm>
            <a:off x="3657600" y="556272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1"/>
          <p:cNvSpPr/>
          <p:nvPr/>
        </p:nvSpPr>
        <p:spPr>
          <a:xfrm>
            <a:off x="3657600" y="5638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2"/>
          <p:cNvSpPr/>
          <p:nvPr/>
        </p:nvSpPr>
        <p:spPr>
          <a:xfrm>
            <a:off x="25909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3"/>
          <p:cNvSpPr/>
          <p:nvPr/>
        </p:nvSpPr>
        <p:spPr>
          <a:xfrm>
            <a:off x="2971800" y="59436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4"/>
          <p:cNvSpPr/>
          <p:nvPr/>
        </p:nvSpPr>
        <p:spPr>
          <a:xfrm>
            <a:off x="228600" y="4648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5"/>
          <p:cNvSpPr/>
          <p:nvPr/>
        </p:nvSpPr>
        <p:spPr>
          <a:xfrm>
            <a:off x="304920" y="4191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6"/>
          <p:cNvSpPr/>
          <p:nvPr/>
        </p:nvSpPr>
        <p:spPr>
          <a:xfrm>
            <a:off x="38088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7"/>
          <p:cNvSpPr/>
          <p:nvPr/>
        </p:nvSpPr>
        <p:spPr>
          <a:xfrm>
            <a:off x="6553080" y="5867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804960" y="1523880"/>
            <a:ext cx="7534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цикл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Picture 6" descr="15552aa2a0dd4def48a842e2c902f993"/>
          <p:cNvPicPr/>
          <p:nvPr/>
        </p:nvPicPr>
        <p:blipFill>
          <a:blip r:embed="rId6"/>
          <a:stretch/>
        </p:blipFill>
        <p:spPr>
          <a:xfrm>
            <a:off x="1752480" y="4724280"/>
            <a:ext cx="6172200" cy="66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7543800" cy="273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Цикл  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 (тело цикла) выполняется многокра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228600" y="914400"/>
            <a:ext cx="868680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ред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ка истинно условие, предписывает выполнять тело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усло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апись цикла с предусловием в виде блок-сх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4800600" y="52578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685800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3505320" y="3352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8"/>
          <p:cNvSpPr/>
          <p:nvPr/>
        </p:nvSpPr>
        <p:spPr>
          <a:xfrm>
            <a:off x="2514600" y="29718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228600" y="838080"/>
            <a:ext cx="868680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ост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о тех пор, пока не выполнится  условие выхода из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2"/>
          <p:cNvSpPr/>
          <p:nvPr/>
        </p:nvSpPr>
        <p:spPr>
          <a:xfrm>
            <a:off x="3352680" y="4952880"/>
            <a:ext cx="27432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 постусловием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4800600" y="6172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472428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4724280" y="2133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88620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3276720" y="3809880"/>
            <a:ext cx="281916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6095880" y="5334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4800600" y="61722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2514600" y="53341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6858000" y="5334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5867280" y="4876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24382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2514600" y="29718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2514600" y="297180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28600" y="609480"/>
            <a:ext cx="8686800" cy="5410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о счетч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ля всех значений некоторой переменной (параметра цикла) в заданном диапазо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1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2 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20"/>
          <p:cNvSpPr/>
          <p:nvPr/>
        </p:nvSpPr>
        <p:spPr>
          <a:xfrm>
            <a:off x="3276720" y="2666880"/>
            <a:ext cx="2666880" cy="60984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о счетчиком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>
            <a:off x="457200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35053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че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5943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4800600" y="52578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670572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33526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мер 2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ключение компьюте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259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жать кноп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крывшемся меню выбр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ню Выключение компьютера вы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191120" y="2209680"/>
            <a:ext cx="1600200" cy="457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7553160" y="3276720"/>
            <a:ext cx="1590840" cy="57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2971800" y="3809880"/>
            <a:ext cx="1295280" cy="93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581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понятное и точное предписание исполнителю совершить определенную последовательность действий для достижения поставленной цели за конечное число ша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2590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нитель алгоритма -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стема, способная выполнить действия, предписываемые алгоритм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Характеристики исполнител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pе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то «место обитания» исполни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истема команд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й строго заданный список кома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вызова команды исполнитель совеpшает соответствующее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лементаpное действие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тказ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ителя возникают, если команда вызывается пpи недопустимом для нее состоянии сp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берите примеры исполн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1430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2133720" cy="200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1724040" cy="247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7086600" y="2362320"/>
            <a:ext cx="167652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1</cp:lastModifiedBy>
  <dcterms:modified xsi:type="dcterms:W3CDTF">2010-08-23T13:39:2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