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067-0FE7-499B-A2B8-3EA6C0A0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DC3-4DF9-45C6-B7E0-9F450953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F16-BCBC-4B15-9C5C-8013FCA1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08C-B357-4595-9B9A-EC73E9E2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24A-3C60-4ECC-8460-0F636BF6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E3F-49FC-4B15-9EEA-5CCFB382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332-097F-4331-ADA1-7C1FBA9B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0EA-065E-4BB0-B542-8B9EB300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80B-1FAE-49B1-AF1B-BE7B9854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9BD-13DB-41AD-885F-0959DCE1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748-00A4-4E19-8AA4-A9F3E2B3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826C-2071-45D9-8F82-93F2E580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CCE1-C859-426F-AC9E-7BF839C9D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733920" y="4419720"/>
            <a:ext cx="5410080" cy="157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ла: учитель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Бурлинская С(п)ОШ №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лкина Екатерина Вита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0"/>
          <p:cNvSpPr/>
          <p:nvPr/>
        </p:nvSpPr>
        <p:spPr>
          <a:xfrm>
            <a:off x="3276720" y="2666880"/>
            <a:ext cx="266688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5053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43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800600" y="52578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70572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3526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7553160" y="3276720"/>
            <a:ext cx="159084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1</cp:lastModifiedBy>
  <dcterms:modified xsi:type="dcterms:W3CDTF">2010-08-23T13:39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