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ADD-3DBF-433B-AAE2-768146A7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3FC-2200-4DDE-A33A-E3AE42F2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FA7-3A26-4DB6-8AB3-A68FB37F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963-AB80-4475-9C31-A7145CCD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08B-49D8-4663-9D6C-EED80AFF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859-B551-43BE-91BB-07174CDB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A80-2FE7-41C3-8A83-FC66ABD8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76C-1E88-4735-9A9A-4B862DDA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15C-567C-4FF1-B542-4F13550C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FB9-9886-4860-B0B2-BA338ECC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440-79B1-4034-A22E-F23E72EB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3CD-E74C-408E-B429-5810F4DC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D3EE-39FA-4F57-B068-F61933EE77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733920" y="4419720"/>
            <a:ext cx="5410080" cy="157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ла: учитель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Бурлинская С(п)ОШ №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лкина Екатерина Вита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0"/>
          <p:cNvSpPr/>
          <p:nvPr/>
        </p:nvSpPr>
        <p:spPr>
          <a:xfrm>
            <a:off x="3276720" y="2666880"/>
            <a:ext cx="266688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5053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43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800600" y="52578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70572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3526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7553160" y="3276720"/>
            <a:ext cx="159084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1</cp:lastModifiedBy>
  <dcterms:modified xsi:type="dcterms:W3CDTF">2010-08-23T13:39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