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D39-C016-41FC-8240-641F548C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5A62-28AA-4153-AA3F-B76AA85A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C40-4099-4057-8123-83B3B2FB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02F9-D5CA-4BF7-8E3F-808A8629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C9AD-88BE-415C-8A0B-4F006FE7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22EC-0731-4788-8369-0FCE4B3B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8C61-30E1-4BD6-B430-C1720682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9FC1-0696-454D-9F4E-E679A725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BB62-C5E8-4BE3-A8C5-02711FC9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6E69-DE75-4747-8232-CFCB2149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66D0-D320-40EC-A329-F8FED70D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6A6-C443-4585-90C2-D3BB8D81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F049-4723-4E29-BFA6-6C476C8E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F8F3-10E3-47AD-8FCE-D967F4A2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E67D-D0DA-4EAA-B6AB-4134EDAC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BD79-6074-4370-BC25-2F631C5B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3D7F-672A-4CE6-AC88-0DFE1355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997-19E3-4E81-81AF-B20C10EB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8ABA-1310-4D61-89C4-B9F2492F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AB7-1C76-4A59-97B1-56953899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A539-91E6-4D96-9098-918D2A34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703-BE20-4FEB-A0D7-6FB449E3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366-64A8-4160-953F-3D18C71B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B0F-0434-4D78-B80C-B5D6C870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ED36-6395-465E-9B54-0EFBB60625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4E4A-06A4-4006-A99D-0236625025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История развития вычислительной техники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2692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чева Людмил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ООУ санаторной школы- интерната г. Петр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Однер"/>
          <p:cNvPicPr/>
          <p:nvPr/>
        </p:nvPicPr>
        <p:blipFill>
          <a:blip r:embed="rId1"/>
          <a:stretch/>
        </p:blipFill>
        <p:spPr>
          <a:xfrm>
            <a:off x="900000" y="907920"/>
            <a:ext cx="3025800" cy="3961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826920" y="530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Т. Од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mash_odner"/>
          <p:cNvPicPr/>
          <p:nvPr/>
        </p:nvPicPr>
        <p:blipFill>
          <a:blip r:embed="rId2"/>
          <a:stretch/>
        </p:blipFill>
        <p:spPr>
          <a:xfrm>
            <a:off x="4140360" y="1773360"/>
            <a:ext cx="4681440" cy="32367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4788000" y="5300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арифмометр Феликс"/>
          <p:cNvPicPr/>
          <p:nvPr/>
        </p:nvPicPr>
        <p:blipFill>
          <a:blip r:embed="rId1"/>
          <a:stretch/>
        </p:blipFill>
        <p:spPr>
          <a:xfrm>
            <a:off x="1835280" y="1628640"/>
            <a:ext cx="5505480" cy="3457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2268360" y="515772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 «Фелик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820 – 1856 г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4" descr="CharlesBabbage"/>
          <p:cNvPicPr/>
          <p:nvPr/>
        </p:nvPicPr>
        <p:blipFill>
          <a:blip r:embed="rId1"/>
          <a:stretch/>
        </p:blipFill>
        <p:spPr>
          <a:xfrm>
            <a:off x="539640" y="1413000"/>
            <a:ext cx="3457800" cy="4095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аналитическая машина"/>
          <p:cNvPicPr/>
          <p:nvPr/>
        </p:nvPicPr>
        <p:blipFill>
          <a:blip r:embed="rId2"/>
          <a:stretch/>
        </p:blipFill>
        <p:spPr>
          <a:xfrm>
            <a:off x="4356000" y="1628640"/>
            <a:ext cx="442620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755640" y="57340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356000" y="57340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ая 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IX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Picture 4" descr="Жакард"/>
          <p:cNvPicPr/>
          <p:nvPr/>
        </p:nvPicPr>
        <p:blipFill>
          <a:blip r:embed="rId1"/>
          <a:stretch/>
        </p:blipFill>
        <p:spPr>
          <a:xfrm>
            <a:off x="1187280" y="1557360"/>
            <a:ext cx="2914920" cy="446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перфокарты"/>
          <p:cNvPicPr/>
          <p:nvPr/>
        </p:nvPicPr>
        <p:blipFill>
          <a:blip r:embed="rId2"/>
          <a:stretch/>
        </p:blipFill>
        <p:spPr>
          <a:xfrm>
            <a:off x="5076720" y="1341360"/>
            <a:ext cx="3281400" cy="4378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4859280" y="6165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фо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4" descr="ЭВМ 1 поколения"/>
          <p:cNvPicPr/>
          <p:nvPr/>
        </p:nvPicPr>
        <p:blipFill>
          <a:blip r:embed="rId1"/>
          <a:stretch/>
        </p:blipFill>
        <p:spPr>
          <a:xfrm>
            <a:off x="1476360" y="1484280"/>
            <a:ext cx="65991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тор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Picture 4" descr="ЭВМ 2 поколения"/>
          <p:cNvPicPr/>
          <p:nvPr/>
        </p:nvPicPr>
        <p:blipFill>
          <a:blip r:embed="rId1"/>
          <a:stretch/>
        </p:blipFill>
        <p:spPr>
          <a:xfrm>
            <a:off x="1187280" y="1628640"/>
            <a:ext cx="6983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Треть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Picture 4" descr="ЭВМ 3 поколения"/>
          <p:cNvPicPr/>
          <p:nvPr/>
        </p:nvPicPr>
        <p:blipFill>
          <a:blip r:embed="rId1"/>
          <a:stretch/>
        </p:blipFill>
        <p:spPr>
          <a:xfrm>
            <a:off x="971640" y="1413000"/>
            <a:ext cx="73152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сональ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Picture 4" descr="персональный компьютер"/>
          <p:cNvPicPr/>
          <p:nvPr/>
        </p:nvPicPr>
        <p:blipFill>
          <a:blip r:embed="rId1"/>
          <a:stretch/>
        </p:blipFill>
        <p:spPr>
          <a:xfrm>
            <a:off x="2195640" y="1700280"/>
            <a:ext cx="47624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опрос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персональные компьютеры завоевали популярность во всем мир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Picture 4" descr="44133_v01_b"/>
          <p:cNvPicPr/>
          <p:nvPr/>
        </p:nvPicPr>
        <p:blipFill>
          <a:blip r:embed="rId1"/>
          <a:stretch/>
        </p:blipFill>
        <p:spPr>
          <a:xfrm>
            <a:off x="684360" y="1916280"/>
            <a:ext cx="3720960" cy="3181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hotos0-800x600"/>
          <p:cNvPicPr/>
          <p:nvPr/>
        </p:nvPicPr>
        <p:blipFill>
          <a:blip r:embed="rId2"/>
          <a:stretch/>
        </p:blipFill>
        <p:spPr>
          <a:xfrm>
            <a:off x="4572000" y="1989000"/>
            <a:ext cx="4241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ть представление о вычислениях в доэлектронную эпох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ть этапы развития электронно – вычислительной техники, преимущества персональных компьюте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Picture 4" descr="sharp-em-one-big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404640"/>
          <a:ext cx="9144000" cy="52452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301760"/>
                <a:gridCol w="984240"/>
                <a:gridCol w="1143000"/>
                <a:gridCol w="1143000"/>
              </a:tblGrid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 испо-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ба-ри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й эле-м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еж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-дитель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и информа-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ЭВМ в мир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 Box 71"/>
          <p:cNvSpPr/>
          <p:nvPr/>
        </p:nvSpPr>
        <p:spPr>
          <a:xfrm>
            <a:off x="0" y="573408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учебником, заполните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читать материал учебника п. 1.1, ответить на контрольные вопро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ая характерист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к первому уроку в 7 классе по учебнику Угриновича Н.Д., содержит информацию об основных этапах развития вычислительной техники в мир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счетное средств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Picture 5" descr="185361"/>
          <p:cNvPicPr/>
          <p:nvPr/>
        </p:nvPicPr>
        <p:blipFill>
          <a:blip r:embed="rId1"/>
          <a:stretch/>
        </p:blipFill>
        <p:spPr>
          <a:xfrm>
            <a:off x="2050920" y="2205000"/>
            <a:ext cx="4762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 до н.э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время в Греции и Египте получил распространение аба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итае абак называли – суанпан, в Японии сороба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112_content"/>
          <p:cNvPicPr/>
          <p:nvPr/>
        </p:nvPicPr>
        <p:blipFill>
          <a:blip r:embed="rId1"/>
          <a:stretch/>
        </p:blipFill>
        <p:spPr>
          <a:xfrm>
            <a:off x="2771640" y="2421000"/>
            <a:ext cx="2808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мраморные счеты"/>
          <p:cNvPicPr/>
          <p:nvPr/>
        </p:nvPicPr>
        <p:blipFill>
          <a:blip r:embed="rId1"/>
          <a:stretch/>
        </p:blipFill>
        <p:spPr>
          <a:xfrm>
            <a:off x="826920" y="2133720"/>
            <a:ext cx="3768840" cy="2603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счеты"/>
          <p:cNvPicPr/>
          <p:nvPr/>
        </p:nvPicPr>
        <p:blipFill>
          <a:blip r:embed="rId2"/>
          <a:stretch/>
        </p:blipFill>
        <p:spPr>
          <a:xfrm>
            <a:off x="5076720" y="1844640"/>
            <a:ext cx="3022560" cy="3456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900000" y="47628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убеж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XVI – XVII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VII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9ac61eb24da1"/>
          <p:cNvPicPr/>
          <p:nvPr/>
        </p:nvPicPr>
        <p:blipFill>
          <a:blip r:embed="rId1"/>
          <a:stretch/>
        </p:blipFill>
        <p:spPr>
          <a:xfrm>
            <a:off x="4500720" y="1916280"/>
            <a:ext cx="4321080" cy="243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Непер"/>
          <p:cNvPicPr/>
          <p:nvPr/>
        </p:nvPicPr>
        <p:blipFill>
          <a:blip r:embed="rId2"/>
          <a:stretch/>
        </p:blipFill>
        <p:spPr>
          <a:xfrm>
            <a:off x="755640" y="1773360"/>
            <a:ext cx="3362400" cy="3960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4500720" y="465300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арифмическая лине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645 год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4" descr="PascalineRear"/>
          <p:cNvPicPr/>
          <p:nvPr/>
        </p:nvPicPr>
        <p:blipFill>
          <a:blip r:embed="rId1"/>
          <a:stretch/>
        </p:blipFill>
        <p:spPr>
          <a:xfrm>
            <a:off x="4427640" y="1916280"/>
            <a:ext cx="4417920" cy="303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0_155a5_e1e565af_XL"/>
          <p:cNvPicPr/>
          <p:nvPr/>
        </p:nvPicPr>
        <p:blipFill>
          <a:blip r:embed="rId2"/>
          <a:stretch/>
        </p:blipFill>
        <p:spPr>
          <a:xfrm>
            <a:off x="250920" y="1268280"/>
            <a:ext cx="3835440" cy="4680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24000" y="61657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leibniz"/>
          <p:cNvPicPr/>
          <p:nvPr/>
        </p:nvPicPr>
        <p:blipFill>
          <a:blip r:embed="rId1"/>
          <a:stretch/>
        </p:blipFill>
        <p:spPr>
          <a:xfrm>
            <a:off x="2556000" y="404640"/>
            <a:ext cx="4020840" cy="5243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195640" y="59500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484360" y="58770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б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2:31:28Z</dcterms:created>
  <dc:creator>comp</dc:creator>
  <dc:description/>
  <dc:language>en-US</dc:language>
  <cp:lastModifiedBy>Администратор1</cp:lastModifiedBy>
  <dcterms:modified xsi:type="dcterms:W3CDTF">2010-09-09T01:55:50Z</dcterms:modified>
  <cp:revision>5</cp:revision>
  <dc:subject/>
  <dc:title>История развития вычислительной техники</dc:title>
</cp:coreProperties>
</file>