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C00-9D5D-47BD-8A1A-01EED26B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07A-72B3-4891-A925-7288E2B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11E-0067-4DBB-A1A0-B5262A6E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F7E-1E0C-4CBF-A6D0-6933384B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00F0-408D-4E12-B9E2-C5F417F9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EB82-A392-4A36-B812-F3A409A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BC5F-4489-4F32-9900-D0197974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49C9-59C4-4982-AED3-52E506E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0C7-FE0F-4552-8FCF-6A109312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1A8E-DC2D-4CA0-B0AE-C9BEF435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A848-2B8F-4E5A-ACA9-E87F6ED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D81-53E5-45EF-991A-11DB1134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9675-6893-484C-AD36-4CD7B98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4A6-E53D-4AEA-9112-8B1AB1B1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3ED8-5496-4EDE-B956-5B71FA1C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04F2-1054-4D21-A745-FD2ECDB3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FE5F-84B1-431A-BEFF-A274DDD2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9EB-485E-4651-BF68-0B45C22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25E-F9C2-448A-8801-8BAA5AD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D56-AEF1-4871-982B-4D080D1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62B1-31C8-42C2-A84E-5B2FB36C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8EC-3100-429A-96A3-DBC86289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DA3-7FFD-42C1-B244-9ABD55D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36D-1F48-4CA2-B0C2-5D388C2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70C0-5B4E-41FD-A401-A3238FAFA5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FCEF-DBE7-4C5C-808E-5AF01EBA00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стория развития вычислительной техники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2692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чева Людмил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ООУ санаторной школы- интерната г. Петро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Однер"/>
          <p:cNvPicPr/>
          <p:nvPr/>
        </p:nvPicPr>
        <p:blipFill>
          <a:blip r:embed="rId1"/>
          <a:stretch/>
        </p:blipFill>
        <p:spPr>
          <a:xfrm>
            <a:off x="900000" y="907920"/>
            <a:ext cx="3025800" cy="3961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826920" y="530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Т. Од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mash_odner"/>
          <p:cNvPicPr/>
          <p:nvPr/>
        </p:nvPicPr>
        <p:blipFill>
          <a:blip r:embed="rId2"/>
          <a:stretch/>
        </p:blipFill>
        <p:spPr>
          <a:xfrm>
            <a:off x="4140360" y="1773360"/>
            <a:ext cx="4681440" cy="32367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4788000" y="5300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арифмометр Феликс"/>
          <p:cNvPicPr/>
          <p:nvPr/>
        </p:nvPicPr>
        <p:blipFill>
          <a:blip r:embed="rId1"/>
          <a:stretch/>
        </p:blipFill>
        <p:spPr>
          <a:xfrm>
            <a:off x="1835280" y="1628640"/>
            <a:ext cx="5505480" cy="3457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268360" y="515772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ометр «Фелик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820 – 1856 год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4" descr="CharlesBabbage"/>
          <p:cNvPicPr/>
          <p:nvPr/>
        </p:nvPicPr>
        <p:blipFill>
          <a:blip r:embed="rId1"/>
          <a:stretch/>
        </p:blipFill>
        <p:spPr>
          <a:xfrm>
            <a:off x="539640" y="1413000"/>
            <a:ext cx="3457800" cy="4095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аналитическая машина"/>
          <p:cNvPicPr/>
          <p:nvPr/>
        </p:nvPicPr>
        <p:blipFill>
          <a:blip r:embed="rId2"/>
          <a:stretch/>
        </p:blipFill>
        <p:spPr>
          <a:xfrm>
            <a:off x="4356000" y="1628640"/>
            <a:ext cx="4426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755640" y="5734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рльз Бэббид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356000" y="57340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тическая 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IX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4" descr="Жакард"/>
          <p:cNvPicPr/>
          <p:nvPr/>
        </p:nvPicPr>
        <p:blipFill>
          <a:blip r:embed="rId1"/>
          <a:stretch/>
        </p:blipFill>
        <p:spPr>
          <a:xfrm>
            <a:off x="1187280" y="1557360"/>
            <a:ext cx="2914920" cy="446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перфокарты"/>
          <p:cNvPicPr/>
          <p:nvPr/>
        </p:nvPicPr>
        <p:blipFill>
          <a:blip r:embed="rId2"/>
          <a:stretch/>
        </p:blipFill>
        <p:spPr>
          <a:xfrm>
            <a:off x="5076720" y="1341360"/>
            <a:ext cx="3281400" cy="4378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ок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0" name="Picture 4" descr="ЭВМ 1 поколения"/>
          <p:cNvPicPr/>
          <p:nvPr/>
        </p:nvPicPr>
        <p:blipFill>
          <a:blip r:embed="rId1"/>
          <a:stretch/>
        </p:blipFill>
        <p:spPr>
          <a:xfrm>
            <a:off x="1476360" y="1484280"/>
            <a:ext cx="65991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торо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4" descr="ЭВМ 2 поколения"/>
          <p:cNvPicPr/>
          <p:nvPr/>
        </p:nvPicPr>
        <p:blipFill>
          <a:blip r:embed="rId1"/>
          <a:stretch/>
        </p:blipFill>
        <p:spPr>
          <a:xfrm>
            <a:off x="1187280" y="1628640"/>
            <a:ext cx="6983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Третье поколение ЭВ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Picture 4" descr="ЭВМ 3 поколения"/>
          <p:cNvPicPr/>
          <p:nvPr/>
        </p:nvPicPr>
        <p:blipFill>
          <a:blip r:embed="rId1"/>
          <a:stretch/>
        </p:blipFill>
        <p:spPr>
          <a:xfrm>
            <a:off x="971640" y="1413000"/>
            <a:ext cx="73152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сональ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4" descr="персональный компьютер"/>
          <p:cNvPicPr/>
          <p:nvPr/>
        </p:nvPicPr>
        <p:blipFill>
          <a:blip r:embed="rId1"/>
          <a:stretch/>
        </p:blipFill>
        <p:spPr>
          <a:xfrm>
            <a:off x="2195640" y="1700280"/>
            <a:ext cx="47624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Вопрос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чему персональные компьютеры завоевали популярность во всем мир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4" descr="44133_v01_b"/>
          <p:cNvPicPr/>
          <p:nvPr/>
        </p:nvPicPr>
        <p:blipFill>
          <a:blip r:embed="rId1"/>
          <a:stretch/>
        </p:blipFill>
        <p:spPr>
          <a:xfrm>
            <a:off x="684360" y="1916280"/>
            <a:ext cx="3720960" cy="3181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photos0-800x600"/>
          <p:cNvPicPr/>
          <p:nvPr/>
        </p:nvPicPr>
        <p:blipFill>
          <a:blip r:embed="rId2"/>
          <a:stretch/>
        </p:blipFill>
        <p:spPr>
          <a:xfrm>
            <a:off x="4572000" y="1989000"/>
            <a:ext cx="42418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ть представление о вычислениях в доэлектронную эпох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ть этапы развития электронно – вычислительной техники, преимущества персональных компьютер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Современные компьютер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Picture 4" descr="sharp-em-one-big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0" y="404640"/>
          <a:ext cx="9144000" cy="5245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301760"/>
                <a:gridCol w="984240"/>
                <a:gridCol w="1143000"/>
                <a:gridCol w="1143000"/>
              </a:tblGrid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ы испо-льзован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ба-рит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й эле-мен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-ди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и информа-ц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ЭВМ в мир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71"/>
          <p:cNvSpPr/>
          <p:nvPr/>
        </p:nvSpPr>
        <p:spPr>
          <a:xfrm>
            <a:off x="0" y="573408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учебником, заполните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читать материал учебника п. 1.1, ответить на контрольные в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раткая характеристи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зентация к первому уроку в 7 классе по учебнику Угриновича Н.Д., содержит информацию об основных этапах развития вычислительной техники в мир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Первое счетное средств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6" name="Picture 5" descr="185361"/>
          <p:cNvPicPr/>
          <p:nvPr/>
        </p:nvPicPr>
        <p:blipFill>
          <a:blip r:embed="rId1"/>
          <a:stretch/>
        </p:blipFill>
        <p:spPr>
          <a:xfrm>
            <a:off x="2050920" y="2205000"/>
            <a:ext cx="4762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 до н.э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ремя в Греции и Египте получил распространение аба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итае абак называли – суанпан, в Японии соро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12_content"/>
          <p:cNvPicPr/>
          <p:nvPr/>
        </p:nvPicPr>
        <p:blipFill>
          <a:blip r:embed="rId1"/>
          <a:stretch/>
        </p:blipFill>
        <p:spPr>
          <a:xfrm>
            <a:off x="2771640" y="2421000"/>
            <a:ext cx="28083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мраморные счеты"/>
          <p:cNvPicPr/>
          <p:nvPr/>
        </p:nvPicPr>
        <p:blipFill>
          <a:blip r:embed="rId1"/>
          <a:stretch/>
        </p:blipFill>
        <p:spPr>
          <a:xfrm>
            <a:off x="826920" y="2133720"/>
            <a:ext cx="3768840" cy="2603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счеты"/>
          <p:cNvPicPr/>
          <p:nvPr/>
        </p:nvPicPr>
        <p:blipFill>
          <a:blip r:embed="rId2"/>
          <a:stretch/>
        </p:blipFill>
        <p:spPr>
          <a:xfrm>
            <a:off x="5076720" y="1844640"/>
            <a:ext cx="3022560" cy="3456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900000" y="476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убеж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XVI – XVII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Начало </a:t>
            </a:r>
            <a:r>
              <a:rPr b="1" lang="en-US" sz="3900" spc="-1" strike="noStrike">
                <a:solidFill>
                  <a:srgbClr val="0033cc"/>
                </a:solidFill>
                <a:latin typeface="Arial"/>
              </a:rPr>
              <a:t>XVII</a:t>
            </a: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 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Picture 4" descr="9ac61eb24da1"/>
          <p:cNvPicPr/>
          <p:nvPr/>
        </p:nvPicPr>
        <p:blipFill>
          <a:blip r:embed="rId1"/>
          <a:stretch/>
        </p:blipFill>
        <p:spPr>
          <a:xfrm>
            <a:off x="4500720" y="1916280"/>
            <a:ext cx="4321080" cy="243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Непер"/>
          <p:cNvPicPr/>
          <p:nvPr/>
        </p:nvPicPr>
        <p:blipFill>
          <a:blip r:embed="rId2"/>
          <a:stretch/>
        </p:blipFill>
        <p:spPr>
          <a:xfrm>
            <a:off x="755640" y="1773360"/>
            <a:ext cx="3362400" cy="3960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4500720" y="465300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арифмическая лин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33cc"/>
                </a:solidFill>
                <a:latin typeface="Arial"/>
              </a:rPr>
              <a:t>1645 год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Picture 4" descr="PascalineRear"/>
          <p:cNvPicPr/>
          <p:nvPr/>
        </p:nvPicPr>
        <p:blipFill>
          <a:blip r:embed="rId1"/>
          <a:stretch/>
        </p:blipFill>
        <p:spPr>
          <a:xfrm>
            <a:off x="4427640" y="1916280"/>
            <a:ext cx="4417920" cy="303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0_155a5_e1e565af_XL"/>
          <p:cNvPicPr/>
          <p:nvPr/>
        </p:nvPicPr>
        <p:blipFill>
          <a:blip r:embed="rId2"/>
          <a:stretch/>
        </p:blipFill>
        <p:spPr>
          <a:xfrm>
            <a:off x="250920" y="1268280"/>
            <a:ext cx="3835440" cy="4680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324000" y="61657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ез 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leibniz"/>
          <p:cNvPicPr/>
          <p:nvPr/>
        </p:nvPicPr>
        <p:blipFill>
          <a:blip r:embed="rId1"/>
          <a:stretch/>
        </p:blipFill>
        <p:spPr>
          <a:xfrm>
            <a:off x="2556000" y="404640"/>
            <a:ext cx="4020840" cy="5243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195640" y="595008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484360" y="587700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б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2:31:28Z</dcterms:created>
  <dc:creator>comp</dc:creator>
  <dc:description/>
  <dc:language>en-US</dc:language>
  <cp:lastModifiedBy>Администратор1</cp:lastModifiedBy>
  <dcterms:modified xsi:type="dcterms:W3CDTF">2010-09-09T01:55:50Z</dcterms:modified>
  <cp:revision>5</cp:revision>
  <dc:subject/>
  <dc:title>История развития вычислительной техники</dc:title>
</cp:coreProperties>
</file>