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9C8-F3CD-4FE0-AEA8-536AC694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BCE-2AB3-4F13-95DD-5B74ACCF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BCA-E53F-483B-83CD-6BA11EB8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678-1359-478E-9E20-7CF971FF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FC1D-0CEC-42E5-A010-49A9BF2F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4630-CAF0-4138-8707-C3C1450F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335B-8201-4E43-9C04-38B67A5C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6984-C1CE-4A70-8D08-F4C0D908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5233-2DB5-42C8-BF03-A275EDE5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BE60-721D-44E9-B11F-D8E887EA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8E0A-D73A-4DEE-B56E-2A38AAA4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2EB-5495-40CA-93C8-7AD9E8D9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65AD-8B71-4796-B60A-EE1B24C1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68E2-AF55-4FD8-B26F-5829ACBA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51D9-B87D-4809-916F-9AB20172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F8AD-6E62-4BFD-86F8-C1247943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3348-331C-41EB-BFB8-C555527E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72E-DC62-4056-A938-9A73E399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777-C4F4-46E9-A93A-B4324580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1B5-B12E-4FBC-9A88-BFD231B4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121-1DB7-49C2-A7AA-51E8863C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EF7-1F87-43D7-A0D2-3EB99B8F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BF9-FDFC-460F-94BB-79418C49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E0C-C4D3-4DC1-9D81-653C3D51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4444-8C5D-4C55-BECD-7CAD34DD01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5891-FEE3-4A0D-BB9F-5C9398C9A7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стория развития вычислительной техники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2692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чева Людмил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ООУ санаторной школы- интерната г. Петр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Однер"/>
          <p:cNvPicPr/>
          <p:nvPr/>
        </p:nvPicPr>
        <p:blipFill>
          <a:blip r:embed="rId1"/>
          <a:stretch/>
        </p:blipFill>
        <p:spPr>
          <a:xfrm>
            <a:off x="900000" y="907920"/>
            <a:ext cx="3025800" cy="3961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826920" y="530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Т. Од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mash_odner"/>
          <p:cNvPicPr/>
          <p:nvPr/>
        </p:nvPicPr>
        <p:blipFill>
          <a:blip r:embed="rId2"/>
          <a:stretch/>
        </p:blipFill>
        <p:spPr>
          <a:xfrm>
            <a:off x="4140360" y="1773360"/>
            <a:ext cx="4681440" cy="32367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4788000" y="5300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арифмометр Феликс"/>
          <p:cNvPicPr/>
          <p:nvPr/>
        </p:nvPicPr>
        <p:blipFill>
          <a:blip r:embed="rId1"/>
          <a:stretch/>
        </p:blipFill>
        <p:spPr>
          <a:xfrm>
            <a:off x="1835280" y="1628640"/>
            <a:ext cx="5505480" cy="3457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268360" y="515772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 «Фелик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820 – 1856 г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CharlesBabbage"/>
          <p:cNvPicPr/>
          <p:nvPr/>
        </p:nvPicPr>
        <p:blipFill>
          <a:blip r:embed="rId1"/>
          <a:stretch/>
        </p:blipFill>
        <p:spPr>
          <a:xfrm>
            <a:off x="539640" y="1413000"/>
            <a:ext cx="3457800" cy="4095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аналитическая машина"/>
          <p:cNvPicPr/>
          <p:nvPr/>
        </p:nvPicPr>
        <p:blipFill>
          <a:blip r:embed="rId2"/>
          <a:stretch/>
        </p:blipFill>
        <p:spPr>
          <a:xfrm>
            <a:off x="4356000" y="1628640"/>
            <a:ext cx="44262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755640" y="57340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356000" y="57340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IX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4" descr="Жакард"/>
          <p:cNvPicPr/>
          <p:nvPr/>
        </p:nvPicPr>
        <p:blipFill>
          <a:blip r:embed="rId1"/>
          <a:stretch/>
        </p:blipFill>
        <p:spPr>
          <a:xfrm>
            <a:off x="1187280" y="1557360"/>
            <a:ext cx="2914920" cy="446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перфокарты"/>
          <p:cNvPicPr/>
          <p:nvPr/>
        </p:nvPicPr>
        <p:blipFill>
          <a:blip r:embed="rId2"/>
          <a:stretch/>
        </p:blipFill>
        <p:spPr>
          <a:xfrm>
            <a:off x="5076720" y="1341360"/>
            <a:ext cx="3281400" cy="4378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859280" y="6165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фо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4" descr="ЭВМ 1 поколения"/>
          <p:cNvPicPr/>
          <p:nvPr/>
        </p:nvPicPr>
        <p:blipFill>
          <a:blip r:embed="rId1"/>
          <a:stretch/>
        </p:blipFill>
        <p:spPr>
          <a:xfrm>
            <a:off x="1476360" y="1484280"/>
            <a:ext cx="65991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тор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4" descr="ЭВМ 2 поколения"/>
          <p:cNvPicPr/>
          <p:nvPr/>
        </p:nvPicPr>
        <p:blipFill>
          <a:blip r:embed="rId1"/>
          <a:stretch/>
        </p:blipFill>
        <p:spPr>
          <a:xfrm>
            <a:off x="1187280" y="1628640"/>
            <a:ext cx="6983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Треть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Picture 4" descr="ЭВМ 3 поколения"/>
          <p:cNvPicPr/>
          <p:nvPr/>
        </p:nvPicPr>
        <p:blipFill>
          <a:blip r:embed="rId1"/>
          <a:stretch/>
        </p:blipFill>
        <p:spPr>
          <a:xfrm>
            <a:off x="971640" y="1413000"/>
            <a:ext cx="73152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сональ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4" descr="персональный компьютер"/>
          <p:cNvPicPr/>
          <p:nvPr/>
        </p:nvPicPr>
        <p:blipFill>
          <a:blip r:embed="rId1"/>
          <a:stretch/>
        </p:blipFill>
        <p:spPr>
          <a:xfrm>
            <a:off x="2195640" y="1700280"/>
            <a:ext cx="47624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опрос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персональные компьютеры завоевали популярность во всем мир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4" descr="44133_v01_b"/>
          <p:cNvPicPr/>
          <p:nvPr/>
        </p:nvPicPr>
        <p:blipFill>
          <a:blip r:embed="rId1"/>
          <a:stretch/>
        </p:blipFill>
        <p:spPr>
          <a:xfrm>
            <a:off x="684360" y="1916280"/>
            <a:ext cx="3720960" cy="3181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hotos0-800x600"/>
          <p:cNvPicPr/>
          <p:nvPr/>
        </p:nvPicPr>
        <p:blipFill>
          <a:blip r:embed="rId2"/>
          <a:stretch/>
        </p:blipFill>
        <p:spPr>
          <a:xfrm>
            <a:off x="4572000" y="1989000"/>
            <a:ext cx="4241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ть представление о вычислениях в доэлектронную эпох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ть этапы развития электронно – вычислительной техники, преимущества персональных компьюте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Picture 4" descr="sharp-em-one-big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404640"/>
          <a:ext cx="9144000" cy="5245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301760"/>
                <a:gridCol w="984240"/>
                <a:gridCol w="1143000"/>
                <a:gridCol w="1143000"/>
              </a:tblGrid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 испо-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ба-ри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эле-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ж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-дитель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и информа-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ЭВМ в ми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 Box 71"/>
          <p:cNvSpPr/>
          <p:nvPr/>
        </p:nvSpPr>
        <p:spPr>
          <a:xfrm>
            <a:off x="0" y="57340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учебником, заполните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материал учебника п. 1.1, ответить на контрольные вопр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ая характерист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к первому уроку в 7 классе по учебнику Угриновича Н.Д., содержит информацию об основных этапах развития вычислительной техники в мир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счетное средств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5" descr="185361"/>
          <p:cNvPicPr/>
          <p:nvPr/>
        </p:nvPicPr>
        <p:blipFill>
          <a:blip r:embed="rId1"/>
          <a:stretch/>
        </p:blipFill>
        <p:spPr>
          <a:xfrm>
            <a:off x="2050920" y="2205000"/>
            <a:ext cx="4762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 до н.э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ремя в Греции и Египте получил распространение аба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итае абак называли – суанпан, в Японии сороб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112_content"/>
          <p:cNvPicPr/>
          <p:nvPr/>
        </p:nvPicPr>
        <p:blipFill>
          <a:blip r:embed="rId1"/>
          <a:stretch/>
        </p:blipFill>
        <p:spPr>
          <a:xfrm>
            <a:off x="2771640" y="2421000"/>
            <a:ext cx="2808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мраморные счеты"/>
          <p:cNvPicPr/>
          <p:nvPr/>
        </p:nvPicPr>
        <p:blipFill>
          <a:blip r:embed="rId1"/>
          <a:stretch/>
        </p:blipFill>
        <p:spPr>
          <a:xfrm>
            <a:off x="826920" y="2133720"/>
            <a:ext cx="3768840" cy="2603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счеты"/>
          <p:cNvPicPr/>
          <p:nvPr/>
        </p:nvPicPr>
        <p:blipFill>
          <a:blip r:embed="rId2"/>
          <a:stretch/>
        </p:blipFill>
        <p:spPr>
          <a:xfrm>
            <a:off x="5076720" y="1844640"/>
            <a:ext cx="3022560" cy="3456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900000" y="476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убеж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XVI – XVII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VII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9ac61eb24da1"/>
          <p:cNvPicPr/>
          <p:nvPr/>
        </p:nvPicPr>
        <p:blipFill>
          <a:blip r:embed="rId1"/>
          <a:stretch/>
        </p:blipFill>
        <p:spPr>
          <a:xfrm>
            <a:off x="4500720" y="1916280"/>
            <a:ext cx="4321080" cy="243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Непер"/>
          <p:cNvPicPr/>
          <p:nvPr/>
        </p:nvPicPr>
        <p:blipFill>
          <a:blip r:embed="rId2"/>
          <a:stretch/>
        </p:blipFill>
        <p:spPr>
          <a:xfrm>
            <a:off x="755640" y="1773360"/>
            <a:ext cx="3362400" cy="3960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500720" y="4653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арифмическая лин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645 год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4" descr="PascalineRear"/>
          <p:cNvPicPr/>
          <p:nvPr/>
        </p:nvPicPr>
        <p:blipFill>
          <a:blip r:embed="rId1"/>
          <a:stretch/>
        </p:blipFill>
        <p:spPr>
          <a:xfrm>
            <a:off x="4427640" y="1916280"/>
            <a:ext cx="4417920" cy="303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0_155a5_e1e565af_XL"/>
          <p:cNvPicPr/>
          <p:nvPr/>
        </p:nvPicPr>
        <p:blipFill>
          <a:blip r:embed="rId2"/>
          <a:stretch/>
        </p:blipFill>
        <p:spPr>
          <a:xfrm>
            <a:off x="250920" y="1268280"/>
            <a:ext cx="3835440" cy="4680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24000" y="61657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leibniz"/>
          <p:cNvPicPr/>
          <p:nvPr/>
        </p:nvPicPr>
        <p:blipFill>
          <a:blip r:embed="rId1"/>
          <a:stretch/>
        </p:blipFill>
        <p:spPr>
          <a:xfrm>
            <a:off x="2556000" y="404640"/>
            <a:ext cx="4020840" cy="5243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195640" y="59500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484360" y="58770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б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2:31:28Z</dcterms:created>
  <dc:creator>comp</dc:creator>
  <dc:description/>
  <dc:language>en-US</dc:language>
  <cp:lastModifiedBy>Администратор1</cp:lastModifiedBy>
  <dcterms:modified xsi:type="dcterms:W3CDTF">2010-09-09T01:55:50Z</dcterms:modified>
  <cp:revision>5</cp:revision>
  <dc:subject/>
  <dc:title>История развития вычислительной техники</dc:title>
</cp:coreProperties>
</file>