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0F24-6D74-49AA-B438-E0BAA89B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6F9-E7B2-4C8E-AC81-CD7986FA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7C3-67B8-4A7A-A247-C99225DE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788-40A3-4977-A1E7-CE89B4F1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557D-A2C8-48F1-9338-094E6FCA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424A-6D50-4A9C-BA06-F285335A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E442-184F-4625-BA7F-A7554B32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C947-2731-49A7-98A9-C601D65E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62DF-A461-4773-AF79-EF6A7EC6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7FFB-5528-4586-AD72-92B8B002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4677-056B-40D6-8F3A-B52BB194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E5F-FE0B-4275-BFCF-B8078D51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8798-5A93-439F-A91B-045FCBF5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2E32-0367-40DC-81FC-185FFB64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B8E7-D438-4AC8-8361-5F44EA3F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CC74-DCEC-4B43-B1D1-9E85E155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2CC3-CE6B-4C4C-B70F-251CA22D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489E-0CEA-4EC6-8D1E-894CA2CB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25A-056A-4C64-8F12-0A3C9B3A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388-D220-4374-96DA-50967C21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9BD-0AA3-44E2-97C2-ECECF60C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C7E-290F-4D4B-A10D-1453D18C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EA0-3F4C-41C5-A18E-24A3D899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7F9-D184-4B41-8AD1-EF0E54B9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CB33-9353-44EB-B628-8BFBA386D8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55E3-7AC3-453C-AFF0-00DD32861A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стория развития вычислительной техник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чев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ООУ санаторной школы- интерната г. Петр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Однер"/>
          <p:cNvPicPr/>
          <p:nvPr/>
        </p:nvPicPr>
        <p:blipFill>
          <a:blip r:embed="rId1"/>
          <a:stretch/>
        </p:blipFill>
        <p:spPr>
          <a:xfrm>
            <a:off x="900000" y="907920"/>
            <a:ext cx="3025800" cy="396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826920" y="530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Т. Од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mash_odner"/>
          <p:cNvPicPr/>
          <p:nvPr/>
        </p:nvPicPr>
        <p:blipFill>
          <a:blip r:embed="rId2"/>
          <a:stretch/>
        </p:blipFill>
        <p:spPr>
          <a:xfrm>
            <a:off x="4140360" y="1773360"/>
            <a:ext cx="4681440" cy="32367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788000" y="5300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арифмометр Феликс"/>
          <p:cNvPicPr/>
          <p:nvPr/>
        </p:nvPicPr>
        <p:blipFill>
          <a:blip r:embed="rId1"/>
          <a:stretch/>
        </p:blipFill>
        <p:spPr>
          <a:xfrm>
            <a:off x="1835280" y="1628640"/>
            <a:ext cx="5505480" cy="3457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268360" y="515772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 «Фелик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820 – 1856 г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CharlesBabbage"/>
          <p:cNvPicPr/>
          <p:nvPr/>
        </p:nvPicPr>
        <p:blipFill>
          <a:blip r:embed="rId1"/>
          <a:stretch/>
        </p:blipFill>
        <p:spPr>
          <a:xfrm>
            <a:off x="539640" y="1413000"/>
            <a:ext cx="3457800" cy="409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аналитическая машина"/>
          <p:cNvPicPr/>
          <p:nvPr/>
        </p:nvPicPr>
        <p:blipFill>
          <a:blip r:embed="rId2"/>
          <a:stretch/>
        </p:blipFill>
        <p:spPr>
          <a:xfrm>
            <a:off x="4356000" y="1628640"/>
            <a:ext cx="44262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755640" y="57340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356000" y="57340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IX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4" descr="Жакард"/>
          <p:cNvPicPr/>
          <p:nvPr/>
        </p:nvPicPr>
        <p:blipFill>
          <a:blip r:embed="rId1"/>
          <a:stretch/>
        </p:blipFill>
        <p:spPr>
          <a:xfrm>
            <a:off x="1187280" y="1557360"/>
            <a:ext cx="2914920" cy="446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перфокарты"/>
          <p:cNvPicPr/>
          <p:nvPr/>
        </p:nvPicPr>
        <p:blipFill>
          <a:blip r:embed="rId2"/>
          <a:stretch/>
        </p:blipFill>
        <p:spPr>
          <a:xfrm>
            <a:off x="5076720" y="1341360"/>
            <a:ext cx="3281400" cy="4378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85928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о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4" descr="ЭВМ 1 поколения"/>
          <p:cNvPicPr/>
          <p:nvPr/>
        </p:nvPicPr>
        <p:blipFill>
          <a:blip r:embed="rId1"/>
          <a:stretch/>
        </p:blipFill>
        <p:spPr>
          <a:xfrm>
            <a:off x="1476360" y="1484280"/>
            <a:ext cx="65991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тор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4" descr="ЭВМ 2 поколения"/>
          <p:cNvPicPr/>
          <p:nvPr/>
        </p:nvPicPr>
        <p:blipFill>
          <a:blip r:embed="rId1"/>
          <a:stretch/>
        </p:blipFill>
        <p:spPr>
          <a:xfrm>
            <a:off x="1187280" y="1628640"/>
            <a:ext cx="6983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Треть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4" descr="ЭВМ 3 поколения"/>
          <p:cNvPicPr/>
          <p:nvPr/>
        </p:nvPicPr>
        <p:blipFill>
          <a:blip r:embed="rId1"/>
          <a:stretch/>
        </p:blipFill>
        <p:spPr>
          <a:xfrm>
            <a:off x="971640" y="1413000"/>
            <a:ext cx="73152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сональ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4" descr="персональный компьютер"/>
          <p:cNvPicPr/>
          <p:nvPr/>
        </p:nvPicPr>
        <p:blipFill>
          <a:blip r:embed="rId1"/>
          <a:stretch/>
        </p:blipFill>
        <p:spPr>
          <a:xfrm>
            <a:off x="2195640" y="1700280"/>
            <a:ext cx="47624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опро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ерсональные компьютеры завоевали популярность во всем ми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4" descr="44133_v01_b"/>
          <p:cNvPicPr/>
          <p:nvPr/>
        </p:nvPicPr>
        <p:blipFill>
          <a:blip r:embed="rId1"/>
          <a:stretch/>
        </p:blipFill>
        <p:spPr>
          <a:xfrm>
            <a:off x="684360" y="1916280"/>
            <a:ext cx="3720960" cy="3181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hotos0-800x600"/>
          <p:cNvPicPr/>
          <p:nvPr/>
        </p:nvPicPr>
        <p:blipFill>
          <a:blip r:embed="rId2"/>
          <a:stretch/>
        </p:blipFill>
        <p:spPr>
          <a:xfrm>
            <a:off x="4572000" y="1989000"/>
            <a:ext cx="4241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ть представление о вычислениях в доэлектронную эпох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ть этапы развития электронно – вычислительной техники, преимущества персональных компьюте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Picture 4" descr="sharp-em-one-big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404640"/>
          <a:ext cx="9144000" cy="5245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301760"/>
                <a:gridCol w="984240"/>
                <a:gridCol w="1143000"/>
                <a:gridCol w="1143000"/>
              </a:tblGrid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 испо-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ба-ри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эле-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ж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-ди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и информа-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ЭВМ в ми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 Box 71"/>
          <p:cNvSpPr/>
          <p:nvPr/>
        </p:nvSpPr>
        <p:spPr>
          <a:xfrm>
            <a:off x="0" y="57340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учебником, заполните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материал учебника п. 1.1, ответить на контрольные в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ая характерист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к первому уроку в 7 классе по учебнику Угриновича Н.Д., содержит информацию об основных этапах развития вычислительной техники в мир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счетное сред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5" descr="185361"/>
          <p:cNvPicPr/>
          <p:nvPr/>
        </p:nvPicPr>
        <p:blipFill>
          <a:blip r:embed="rId1"/>
          <a:stretch/>
        </p:blipFill>
        <p:spPr>
          <a:xfrm>
            <a:off x="2050920" y="2205000"/>
            <a:ext cx="4762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 до н.э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ремя в Греции и Египте получил распространение аба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итае абак называли – суанпан, в Японии сороб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112_content"/>
          <p:cNvPicPr/>
          <p:nvPr/>
        </p:nvPicPr>
        <p:blipFill>
          <a:blip r:embed="rId1"/>
          <a:stretch/>
        </p:blipFill>
        <p:spPr>
          <a:xfrm>
            <a:off x="2771640" y="2421000"/>
            <a:ext cx="2808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мраморные счеты"/>
          <p:cNvPicPr/>
          <p:nvPr/>
        </p:nvPicPr>
        <p:blipFill>
          <a:blip r:embed="rId1"/>
          <a:stretch/>
        </p:blipFill>
        <p:spPr>
          <a:xfrm>
            <a:off x="826920" y="2133720"/>
            <a:ext cx="3768840" cy="2603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счеты"/>
          <p:cNvPicPr/>
          <p:nvPr/>
        </p:nvPicPr>
        <p:blipFill>
          <a:blip r:embed="rId2"/>
          <a:stretch/>
        </p:blipFill>
        <p:spPr>
          <a:xfrm>
            <a:off x="5076720" y="1844640"/>
            <a:ext cx="3022560" cy="3456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900000" y="476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убеж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XVI – XVII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VII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9ac61eb24da1"/>
          <p:cNvPicPr/>
          <p:nvPr/>
        </p:nvPicPr>
        <p:blipFill>
          <a:blip r:embed="rId1"/>
          <a:stretch/>
        </p:blipFill>
        <p:spPr>
          <a:xfrm>
            <a:off x="4500720" y="1916280"/>
            <a:ext cx="4321080" cy="243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Непер"/>
          <p:cNvPicPr/>
          <p:nvPr/>
        </p:nvPicPr>
        <p:blipFill>
          <a:blip r:embed="rId2"/>
          <a:stretch/>
        </p:blipFill>
        <p:spPr>
          <a:xfrm>
            <a:off x="755640" y="1773360"/>
            <a:ext cx="3362400" cy="3960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50072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арифмическая лин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645 год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4" descr="PascalineRear"/>
          <p:cNvPicPr/>
          <p:nvPr/>
        </p:nvPicPr>
        <p:blipFill>
          <a:blip r:embed="rId1"/>
          <a:stretch/>
        </p:blipFill>
        <p:spPr>
          <a:xfrm>
            <a:off x="4427640" y="1916280"/>
            <a:ext cx="4417920" cy="303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0_155a5_e1e565af_XL"/>
          <p:cNvPicPr/>
          <p:nvPr/>
        </p:nvPicPr>
        <p:blipFill>
          <a:blip r:embed="rId2"/>
          <a:stretch/>
        </p:blipFill>
        <p:spPr>
          <a:xfrm>
            <a:off x="250920" y="1268280"/>
            <a:ext cx="3835440" cy="4680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24000" y="6165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leibniz"/>
          <p:cNvPicPr/>
          <p:nvPr/>
        </p:nvPicPr>
        <p:blipFill>
          <a:blip r:embed="rId1"/>
          <a:stretch/>
        </p:blipFill>
        <p:spPr>
          <a:xfrm>
            <a:off x="2556000" y="404640"/>
            <a:ext cx="4020840" cy="5243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95640" y="59500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484360" y="58770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31:28Z</dcterms:created>
  <dc:creator>comp</dc:creator>
  <dc:description/>
  <dc:language>en-US</dc:language>
  <cp:lastModifiedBy>Администратор1</cp:lastModifiedBy>
  <dcterms:modified xsi:type="dcterms:W3CDTF">2010-09-09T01:55:50Z</dcterms:modified>
  <cp:revision>5</cp:revision>
  <dc:subject/>
  <dc:title>История развития вычислительной техники</dc:title>
</cp:coreProperties>
</file>