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A13-C147-40A0-9D46-C1158B9D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C0F-D327-4FE7-83DB-EB711559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6F6-829E-4EC9-99A5-648005E8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1EE-77A2-48FE-B078-16DA148F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8377-F13B-4A07-A4EC-517C7EC8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B7FB-7406-463F-8F96-F2107CEC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D2A2-2E26-4C6A-A904-A25A2230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1B86-C519-4A99-98E1-02FDF396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5623-2352-4E2A-9C49-CA1B4ADA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3CC4-66DD-42AB-B112-81B5134F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0839-D36F-4C85-AB91-7A308793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14E-A459-4601-9D08-85E748FC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3B0F-8382-40BE-9E4C-333ADFAD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81B2-B849-46E0-B61D-A782CF7C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1061-1051-4DFA-8357-D7361B28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4D4B-797D-4FD8-BCC0-A10C6885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A3A5-FE37-45B6-964E-3A467C75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F96-9714-4CF2-B50E-AB64B42E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3B5-DA79-4AE4-A802-0337D7EA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208-8770-4A84-B4FD-5C876782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370-FC6C-4F88-AFFA-72FBAD03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663-B92F-4DF4-B94E-D6737A36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BC5-D02A-4651-9628-CBE3CFF8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5C2-5F4E-422E-A2B6-D8F09D91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3631-2ADD-429C-96B2-C34137E3DB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E1F0-242D-4784-8A32-FAD258C57C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Буква «А» – гласная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: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«Компьютер был изобретен в середине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века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лож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остые высказывания могут быть объединены в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сложны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 помощью союзов «и» или «или», с помощью частицы «не» и др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стинность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Прост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соглашений на основе здравого смысл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Сложных: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результате вычислений по формулам алгебры высказыва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пражн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акой длины эта лента?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рослушайте сообщение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Делайте утреннюю зарядку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азовите устройства ввода/вывода информаци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Кто отсутствует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Париж – столица Англи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исло 11 является простым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4 + 5 = 10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Без труда не вытащишь и рыбку из пруда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Некоторые медведи живут на севере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Все медведи – бурые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Чему равно расстояние от Москвы до Питера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Умозаключения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мозаключения – это форма мышления, с помощью которой из одного или нескольких высказываний (посылок) может быть получено новое суждение (заключение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сылками могут быть только истинные высказывания, иначе заключение может быть ложны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но высказывание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Все углы равнобедренного треугольника равны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лучить высказыва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Этот треугольник – равносторонний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тем умозаключе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Решен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се углы равны,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то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 качестве основания можно выбрать любую сторон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усть основание – сторона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овательно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Треугольник равносторонни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– наука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формах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учение о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пособах рассуждений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гика позволяет строить абстрактные модели реальных объектов, не отвлекаясь на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ка, как наук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ервые учения о способах и формах мышления, рассуждений и доказательств зародились на Древнем Востоке (Индия и Китай)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новоположник современной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формальной логик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Аристотель, т.к. он впервые отделил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форму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т его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Формы мышл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 осуществляется через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ысказыва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суждения, утверждения)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умозаключ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няти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нят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мышления, фиксирующая основные существенные признаки объекта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еет две стороны: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объ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Содержание 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и</a:t>
            </a:r>
            <a:r>
              <a:rPr b="1" i="1" lang="ru-RU" sz="4400" spc="-1" strike="noStrike">
                <a:solidFill>
                  <a:srgbClr val="301800"/>
                </a:solidFill>
                <a:latin typeface="Arial Narrow"/>
              </a:rPr>
              <a:t> объем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 понятия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составляет совокупность существенных признаков объекта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ля раскрытия содержания понятия необходимо и достаточно перечислить все качества объекта, по которым его можно однозначно идентифицировать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– количество объектов, на которое распространяются указанные свойст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ример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ройство для автоматизированной обработки информаци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роено на основе микропроцессор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меет устройства ввода/вывод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ъем понятия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мпьютер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иллиарды единиц компьютерной техники по всему мир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Высказывание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Форма мышления, выражающая формулировку своего понимания мира, в котором либо что-то утверждается, либо отрицаетс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троится на основе понятий и выраж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только повествовательным предложение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Высказывание может быть либо истинным, либо ложным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Если связь понятий, на которых построено высказывание, правильно отражают свойства и отношения реальных вещей, то такое высказывание истинно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е, противоречащее реальной действительности – ложно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0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