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2843-62DF-40BC-9D9B-E69245C96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заполняется постепенно, вместе с классом. Учащиеся отвечают с м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аблица сложная, поэтому снабжена дополнительными выделяющими блоками с анимацией. Управляется по кл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EB3-1881-4777-94C1-8FEE8BA8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D46-E4D2-4B2A-BD54-D609351A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7B9D-9C05-4BCF-BFE8-B27D8DFF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9883-3613-4015-8E68-2276EC9C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BFC-CCD1-4552-914D-195E1290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A2BE-58F8-4FD2-BE72-2C75314E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B9F-DDDB-4B81-9D96-E10738A7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F9E-6DB7-45E9-802B-70EC90BF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689-7316-4F25-B2BC-4AAF46C2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B3AB-5B6B-4801-BEE0-76DD1779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4CE5-56B0-4311-81AA-98B8C78F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FD1-E277-412A-BC2F-A96829FF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C20B-5AE6-4527-AC02-35E8FFF4850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ка высказываний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133360"/>
            <a:ext cx="73040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Алгоритм построения </a:t>
            </a:r>
            <a:br>
              <a:rPr sz="3800"/>
            </a:br>
            <a:r>
              <a:rPr b="1" lang="ru-RU" sz="3800" spc="-1" strike="noStrike">
                <a:solidFill>
                  <a:srgbClr val="996600"/>
                </a:solidFill>
                <a:latin typeface="Arial"/>
              </a:rPr>
              <a:t>таблиц истинност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аблицы истинност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Решение логических выражений принято оформлять в виде таблиц, в которых по действиям показано, какие значения принимает логическое выражение при всех возможных наборах его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ля составления таблицы истинности необходимо: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рок (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личество переменных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яснить количество столбцов (количество переменных + количество логических операций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строить таблицу, указывая названия столбцов и возможные наборы значений переменны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олнить таблицу истинности по столбц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еменных: две (А и В), т.е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заголовком: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ичество столбц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 переменные + 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ций (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того 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рядок операци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        5     2      4     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1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0920" y="2565360"/>
          <a:ext cx="8497800" cy="2278080"/>
        </p:xfrm>
        <a:graphic>
          <a:graphicData uri="http://schemas.openxmlformats.org/drawingml/2006/table">
            <a:tbl>
              <a:tblPr/>
              <a:tblGrid>
                <a:gridCol w="792000"/>
                <a:gridCol w="865080"/>
                <a:gridCol w="935280"/>
                <a:gridCol w="792000"/>
                <a:gridCol w="792360"/>
                <a:gridCol w="1439640"/>
                <a:gridCol w="2881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219744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61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7760" y="1844640"/>
            <a:ext cx="3662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¬A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¬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30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3416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94880" y="2997360"/>
            <a:ext cx="34992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 2.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строим таблицу истинности для функции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еременных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и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т.е.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личество стро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=8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 заголовком: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олбцов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 переменные +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перации (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того 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Порядок операций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      2  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Пример. Таблиц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16000" y="2276640"/>
          <a:ext cx="6626160" cy="3713040"/>
        </p:xfrm>
        <a:graphic>
          <a:graphicData uri="http://schemas.openxmlformats.org/drawingml/2006/table">
            <a:tbl>
              <a:tblPr/>
              <a:tblGrid>
                <a:gridCol w="576360"/>
                <a:gridCol w="649080"/>
                <a:gridCol w="717840"/>
                <a:gridCol w="938160"/>
                <a:gridCol w="1439640"/>
                <a:gridCol w="2305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¬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2603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11840" y="1628640"/>
            <a:ext cx="2643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¬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672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5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944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216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268596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2685960"/>
            <a:ext cx="79236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63640" y="307980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3079800"/>
            <a:ext cx="79236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3467160"/>
            <a:ext cx="50328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3467160"/>
            <a:ext cx="79236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386064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860640"/>
            <a:ext cx="79236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429264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4292640"/>
            <a:ext cx="79236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63640" y="472428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32000" y="472428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51483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0" y="514836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55753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5575320"/>
            <a:ext cx="79236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3800" y="2608200"/>
            <a:ext cx="365040" cy="34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2689200"/>
            <a:ext cx="50328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3083040"/>
            <a:ext cx="50328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470400"/>
            <a:ext cx="503280" cy="3744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3863880"/>
            <a:ext cx="503280" cy="40500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4295880"/>
            <a:ext cx="503280" cy="40788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72752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5151600"/>
            <a:ext cx="503280" cy="3981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5578560"/>
            <a:ext cx="50328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76640" y="2679840"/>
            <a:ext cx="1263600" cy="3603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76640" y="3073320"/>
            <a:ext cx="1263600" cy="3650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6640" y="3460680"/>
            <a:ext cx="1263600" cy="37476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76640" y="3854520"/>
            <a:ext cx="1263600" cy="4046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76640" y="4286160"/>
            <a:ext cx="1263600" cy="40824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76640" y="471816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76640" y="514188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76640" y="5568840"/>
            <a:ext cx="1263600" cy="398520"/>
          </a:xfrm>
          <a:prstGeom prst="rect">
            <a:avLst/>
          </a:prstGeom>
          <a:solidFill>
            <a:srgbClr val="cc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10Z</dcterms:modified>
  <cp:revision>120</cp:revision>
  <dc:subject/>
  <dc:title>Слайд 1</dc:title>
</cp:coreProperties>
</file>