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FD6FB-44AB-4B09-9437-B6B94A95A7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аблица заполняется постепенно, вместе с классом. Учащиеся отвечают с мес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аблица заполняется постепенно, вместе с классом. Учащиеся отвечают с мес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аблица сложная, поэтому снабжена дополнительными выделяющими блоками с анимацией. Управляется по кли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501C-83A8-4781-A820-5CB6B051A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1EA5-76FD-4D6D-AF99-24C5A6726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45F1-7094-4C77-99CE-17D668AEB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D250-B77A-45D3-9E74-BA0E51F6C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4B6C-4699-4627-9627-9F4F9A67A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F6AB-5676-46CC-A442-F8A2B1B11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FFE4-829A-45ED-8370-58ADF57B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979D-661A-4D7C-982D-C7D4F80DE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49D7-C6AB-490B-9F41-0482B506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78A6-02FF-45AC-8590-FB8FED567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41D0-8C26-4453-8B2F-761C155DA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B65B-9764-4723-B6C3-BA0C446AC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8"/>
          <p:cNvSpPr/>
          <p:nvPr/>
        </p:nvSpPr>
        <p:spPr>
          <a:xfrm>
            <a:off x="468360" y="66690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9"/>
          <p:cNvSpPr/>
          <p:nvPr/>
        </p:nvSpPr>
        <p:spPr>
          <a:xfrm>
            <a:off x="611280" y="148428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60AD4-D006-479A-9535-50FF0336AE0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904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Логика высказываний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42560" y="2133360"/>
            <a:ext cx="730404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996600"/>
                </a:solidFill>
                <a:latin typeface="Arial"/>
              </a:rPr>
              <a:t>Алгоритм построения </a:t>
            </a:r>
            <a:br>
              <a:rPr sz="3800"/>
            </a:br>
            <a:r>
              <a:rPr b="1" lang="ru-RU" sz="3800" spc="-1" strike="noStrike">
                <a:solidFill>
                  <a:srgbClr val="996600"/>
                </a:solidFill>
                <a:latin typeface="Arial"/>
              </a:rPr>
              <a:t>таблиц истинност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Автор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ргеев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вгений Виктор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У СОШ №4 г. Миньяра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лябин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geev73@mail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shk4-minyar.ucoz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7"/>
          <p:cNvSpPr/>
          <p:nvPr/>
        </p:nvSpPr>
        <p:spPr>
          <a:xfrm>
            <a:off x="609480" y="62064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8"/>
          <p:cNvSpPr/>
          <p:nvPr/>
        </p:nvSpPr>
        <p:spPr>
          <a:xfrm>
            <a:off x="1981080" y="198900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Таблицы истинности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ешение логических выражений принято оформлять в виде таблиц, в которых по действиям показано, какие значения принимает логическое выражение при всех возможных наборах его переменны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Для составления таблицы истинности необходимо: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ыяснить количество строк (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где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 –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личество переменных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ыяснить количество столбцов (количество переменных + количество логических операций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строить таблицу, указывая названия столбцов и возможные наборы значений переменны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аполнить таблицу истинности по столбца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Пример 1.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строим таблицу истинности для функции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 =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В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еременных: две (А и В), т.е.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 = 2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количество строк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4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 заголовком: 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личество столбцов: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 переменные + 5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пераций (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.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того 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рядок операци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        5     2      4     3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 =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В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Пример 1. Таблица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0920" y="2565360"/>
          <a:ext cx="8497800" cy="2278080"/>
        </p:xfrm>
        <a:graphic>
          <a:graphicData uri="http://schemas.openxmlformats.org/drawingml/2006/table">
            <a:tbl>
              <a:tblPr/>
              <a:tblGrid>
                <a:gridCol w="792000"/>
                <a:gridCol w="865080"/>
                <a:gridCol w="935280"/>
                <a:gridCol w="792000"/>
                <a:gridCol w="792360"/>
                <a:gridCol w="1439640"/>
                <a:gridCol w="2881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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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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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А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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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2197440" y="2997360"/>
            <a:ext cx="349920" cy="18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61080" y="2997360"/>
            <a:ext cx="349920" cy="18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417760" y="1844640"/>
            <a:ext cx="3662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 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(¬A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¬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53080" y="2997360"/>
            <a:ext cx="349920" cy="18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934160" y="2997360"/>
            <a:ext cx="349920" cy="18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94880" y="2997360"/>
            <a:ext cx="349920" cy="18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Пример 2.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строим таблицу истинности для функции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 =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Переменных: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три (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), т.е.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 =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количество строк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1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=2</a:t>
            </a:r>
            <a:r>
              <a:rPr b="0" lang="en-US" sz="21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=8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 заголовком: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Количество столбцов: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3 переменные + 3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перации (</a:t>
            </a:r>
            <a:r>
              <a:rPr b="0" lang="ru-RU" sz="21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1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). 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того 6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Порядок операций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        2  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 =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8" dur="50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Пример. Таблица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116000" y="2276640"/>
          <a:ext cx="6626160" cy="3713040"/>
        </p:xfrm>
        <a:graphic>
          <a:graphicData uri="http://schemas.openxmlformats.org/drawingml/2006/table">
            <a:tbl>
              <a:tblPr/>
              <a:tblGrid>
                <a:gridCol w="576360"/>
                <a:gridCol w="649080"/>
                <a:gridCol w="717840"/>
                <a:gridCol w="938160"/>
                <a:gridCol w="1439640"/>
                <a:gridCol w="23050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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¬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¬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1260360" y="2608200"/>
            <a:ext cx="365040" cy="34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11840" y="1628640"/>
            <a:ext cx="26438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 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¬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836720" y="2608200"/>
            <a:ext cx="365040" cy="34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85800" y="2608200"/>
            <a:ext cx="365040" cy="34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349440" y="2608200"/>
            <a:ext cx="365040" cy="34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02160" y="2608200"/>
            <a:ext cx="365040" cy="34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63640" y="2685960"/>
            <a:ext cx="503280" cy="36036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32000" y="2685960"/>
            <a:ext cx="792360" cy="36036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63640" y="3079800"/>
            <a:ext cx="503280" cy="36504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32000" y="3079800"/>
            <a:ext cx="792360" cy="36504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63640" y="3467160"/>
            <a:ext cx="503280" cy="37476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32000" y="3467160"/>
            <a:ext cx="792360" cy="37476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763640" y="3860640"/>
            <a:ext cx="503280" cy="40500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32000" y="3860640"/>
            <a:ext cx="792360" cy="40500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63640" y="4292640"/>
            <a:ext cx="503280" cy="40788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32000" y="4292640"/>
            <a:ext cx="792360" cy="40788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63640" y="4724280"/>
            <a:ext cx="50328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32000" y="4724280"/>
            <a:ext cx="79236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63640" y="5148360"/>
            <a:ext cx="50328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32000" y="5148360"/>
            <a:ext cx="79236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3640" y="5575320"/>
            <a:ext cx="50328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32000" y="5575320"/>
            <a:ext cx="79236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73800" y="2608200"/>
            <a:ext cx="365040" cy="34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87280" y="2689200"/>
            <a:ext cx="503280" cy="36036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87280" y="3083040"/>
            <a:ext cx="503280" cy="36504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87280" y="3470400"/>
            <a:ext cx="503280" cy="37440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87280" y="3863880"/>
            <a:ext cx="503280" cy="40500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187280" y="4295880"/>
            <a:ext cx="503280" cy="40788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187280" y="4727520"/>
            <a:ext cx="50328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87280" y="5151600"/>
            <a:ext cx="503280" cy="39816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87280" y="5578560"/>
            <a:ext cx="50328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76640" y="2679840"/>
            <a:ext cx="1263600" cy="36036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76640" y="3073320"/>
            <a:ext cx="1263600" cy="36504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076640" y="3460680"/>
            <a:ext cx="1263600" cy="37476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076640" y="3854520"/>
            <a:ext cx="1263600" cy="40464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076640" y="4286160"/>
            <a:ext cx="1263600" cy="40824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076640" y="4718160"/>
            <a:ext cx="126360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076640" y="5141880"/>
            <a:ext cx="126360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076640" y="5568840"/>
            <a:ext cx="126360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3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6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9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5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500"/>
                            </p:stCondLst>
                            <p:childTnLst>
                              <p:par>
                                <p:cTn id="5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5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0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3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2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8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1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14:10:07Z</dcterms:created>
  <dc:creator>Сергеев Евгений</dc:creator>
  <dc:description/>
  <dc:language>en-US</dc:language>
  <cp:lastModifiedBy>Сергеев Евгений</cp:lastModifiedBy>
  <dcterms:modified xsi:type="dcterms:W3CDTF">2010-09-29T14:53:10Z</dcterms:modified>
  <cp:revision>120</cp:revision>
  <dc:subject/>
  <dc:title>Слайд 1</dc:title>
</cp:coreProperties>
</file>