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C5EE-4F46-4CFC-8430-270A7E1047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заполняется постепенно, вместе с классом. Учащиеся отвечают с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заполняется постепенно, вместе с классом. Учащиеся отвечают с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сложная, поэтому снабжена дополнительными выделяющими блоками с анимацией. Управляется по кл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E68A-1E0E-438F-BFC1-2B66A9F6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11D0-4C6D-46A5-9DDD-E15BB17D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F453-405C-4274-99DB-7D384665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BCA0-5117-455C-A2E2-9009DAD6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7343-439F-404F-AEBD-2C0EE165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2305-2775-453F-8EBC-C830A7F7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7FED-904D-4404-8C97-FE7E4BFB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8EAB-A14C-4E2F-9A4D-D68F2C52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65FB-EEAE-4F0A-9FEB-0FD7BFEF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98AB-9BF6-4D04-A9BD-B5A20448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770E-64D0-48CE-BC1B-31683CDE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98BF-137B-49D5-B064-00BDEF44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68360" y="6669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611280" y="14842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BE13-9691-44DB-84AF-7949E522482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ка высказываний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133360"/>
            <a:ext cx="73040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6600"/>
                </a:solidFill>
                <a:latin typeface="Arial"/>
              </a:rPr>
              <a:t>Алгоритм построения </a:t>
            </a:r>
            <a:br>
              <a:rPr sz="3800"/>
            </a:br>
            <a:r>
              <a:rPr b="1" lang="ru-RU" sz="3800" spc="-1" strike="noStrike">
                <a:solidFill>
                  <a:srgbClr val="996600"/>
                </a:solidFill>
                <a:latin typeface="Arial"/>
              </a:rPr>
              <a:t>таблиц истиннос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гее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вгений Викто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СОШ №4 г. Миньяр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яби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geev73@mai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hk4-minyar.ucoz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609480" y="62064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981080" y="19890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аблицы истинност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шение логических выражений принято оформлять в виде таблиц, в которых по действиям показано, какие значения принимает логическое выражение при всех возможных наборах его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Для составления таблицы истинности необходимо: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яснить количество строк (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переменных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яснить количество столбцов (количество переменных + количество логических операций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троить таблицу, указывая названия столбцов и возможные наборы значений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полнить таблицу истинности по столбц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1.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роим таблицу истинности для функции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еменных: две (А и В), т.е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оличество стро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4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заголовком: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личество столбцов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 переменные + 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ераций (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того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рядок операци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       5     2      4     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1. Таблиц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2565360"/>
          <a:ext cx="8497800" cy="2278080"/>
        </p:xfrm>
        <a:graphic>
          <a:graphicData uri="http://schemas.openxmlformats.org/drawingml/2006/table">
            <a:tbl>
              <a:tblPr/>
              <a:tblGrid>
                <a:gridCol w="792000"/>
                <a:gridCol w="865080"/>
                <a:gridCol w="935280"/>
                <a:gridCol w="792000"/>
                <a:gridCol w="792360"/>
                <a:gridCol w="1439640"/>
                <a:gridCol w="288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219744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610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7760" y="1844640"/>
            <a:ext cx="3662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¬A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¬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30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3416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948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2.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строим таблицу истинности для функции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еременных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ри (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, т.е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количество стро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8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 заголовком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столбцов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 переменные + 3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перации (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того 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орядок операций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      2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. Таблиц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16000" y="2276640"/>
          <a:ext cx="6626160" cy="3713040"/>
        </p:xfrm>
        <a:graphic>
          <a:graphicData uri="http://schemas.openxmlformats.org/drawingml/2006/table">
            <a:tbl>
              <a:tblPr/>
              <a:tblGrid>
                <a:gridCol w="576360"/>
                <a:gridCol w="649080"/>
                <a:gridCol w="717840"/>
                <a:gridCol w="938160"/>
                <a:gridCol w="1439640"/>
                <a:gridCol w="2305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¬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¬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126036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11840" y="1628640"/>
            <a:ext cx="2643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¬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672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580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4944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216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2685960"/>
            <a:ext cx="50328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2685960"/>
            <a:ext cx="79236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63640" y="3079800"/>
            <a:ext cx="50328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3079800"/>
            <a:ext cx="79236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3467160"/>
            <a:ext cx="50328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32000" y="3467160"/>
            <a:ext cx="79236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3860640"/>
            <a:ext cx="50328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860640"/>
            <a:ext cx="79236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4292640"/>
            <a:ext cx="50328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4292640"/>
            <a:ext cx="79236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63640" y="472428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32000" y="472428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3640" y="514836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32000" y="514836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557532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557532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380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2689200"/>
            <a:ext cx="50328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3083040"/>
            <a:ext cx="50328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3470400"/>
            <a:ext cx="503280" cy="3744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3863880"/>
            <a:ext cx="50328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4295880"/>
            <a:ext cx="50328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472752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5151600"/>
            <a:ext cx="503280" cy="3981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557856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76640" y="2679840"/>
            <a:ext cx="126360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76640" y="3073320"/>
            <a:ext cx="126360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6640" y="3460680"/>
            <a:ext cx="126360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76640" y="3854520"/>
            <a:ext cx="1263600" cy="4046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76640" y="4286160"/>
            <a:ext cx="1263600" cy="4082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76640" y="471816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76640" y="514188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76640" y="556884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0:07Z</dcterms:created>
  <dc:creator>Сергеев Евгений</dc:creator>
  <dc:description/>
  <dc:language>en-US</dc:language>
  <cp:lastModifiedBy>Сергеев Евгений</cp:lastModifiedBy>
  <dcterms:modified xsi:type="dcterms:W3CDTF">2010-09-29T14:53:10Z</dcterms:modified>
  <cp:revision>120</cp:revision>
  <dc:subject/>
  <dc:title>Слайд 1</dc:title>
</cp:coreProperties>
</file>